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00863" cy="10055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604-870F-46E8-9254-FB17014B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E55-9BAA-4CA1-961C-212F8892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8EA-0A33-42CE-8C6A-C2F54753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263-067B-45CF-8FBD-2E02B4D7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39C-5FC7-4079-8EB6-67B8BB57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098-771F-4F6D-99DE-22F01FB5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897E-334E-40DA-8A1F-33BB02D2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2AD-716B-470E-9235-49543237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F85-D1AF-4701-AC9C-432837DE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F84-802C-46AD-B918-7D1846F3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718-0184-4FCC-B511-34376919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A88-2747-456F-96B8-95A20E91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0"/>
            <a:ext cx="39686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6533640"/>
            <a:ext cx="2243160" cy="2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0F46-C0DB-499E-B188-4C151C76FE5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65560" y="6533640"/>
            <a:ext cx="2243160" cy="2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D8E1-15CB-4472-9DBA-9B1780C245FD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0"/>
            <a:ext cx="39686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84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0e500"/>
                </a:solidFill>
                <a:latin typeface="Arial"/>
              </a:rPr>
              <a:t>Current Target</a:t>
            </a:r>
            <a:br>
              <a:rPr sz="4800"/>
            </a:b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Transcurrent Plate Bound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8840" y="2877840"/>
            <a:ext cx="7986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ゴシック"/>
              </a:rPr>
              <a:t>Preliminary Stu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ゴシック"/>
              </a:rPr>
              <a:t>e.g. San Andreas Faults, CA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ゴシック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640" y="612360"/>
            <a:ext cx="910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n Earth Simulator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PE, 50 steps for 150km length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92520" y="1879560"/>
            <a:ext cx="17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5120" y="1879560"/>
            <a:ext cx="17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17800" y="2313000"/>
            <a:ext cx="5126040" cy="3814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l   Time (sec)           :           673.8696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   Time (sec)           :           673.4591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 Time (sec)           :             0.303781 Vector Time (sec)           :           572.7480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ction Count           :          709806646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Instruction Count    :          183171577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Element Count        :        42421939586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P Count                  :        18831673106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PS                        :          6377.3096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FLOPS                      :          2796.2606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erage Vector Length       :           231.5967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Operation Ratio (%)  :            98.7738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mory size used (MB)       :           129.923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PS                        :           105.3971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ction Cache miss (sec):            12.1895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nd     Cache miss (sec):            13.0900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nk     Conflict Time (sec):             0.784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80200" y="18795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4160" y="2313000"/>
            <a:ext cx="5126040" cy="381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l   Time (sec)           :           987.056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   Time (sec)           :           986.534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 Time (sec)           :             0.3091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Time (sec)           :           852.0996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ction Count           :         150316159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Instruction Count    :          202582174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Element Count        :        37111219001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P Count                  :        1801639677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PS                        :          3893.6080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FLOPS                      :          1826.230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erage Vector Length       :           183.190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Operation Ratio (%)  :            96.614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mory size used (MB)       :           129.9273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PS                        :           152.3678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ction Cache miss (sec):            11.255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nd     Cache miss (sec):            24.6887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nk     Conflict Time (sec):            18.245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9080" y="2313000"/>
            <a:ext cx="5126040" cy="381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l   Time (sec)           :          1655.1837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   Time (sec)           :          1654.3185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 Time (sec)           :             0.345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Time (sec)           :          1492.5930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ction Count           :         225736939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Instruction Count    :          332590248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Element Count        :        67663116301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P Count                  :        1631853320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PS                        :          4206.4386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FLOPS                      :           986.4202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erage Vector Length       :           203.4428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Operation Ratio (%)  :            97.2340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mory size used (MB)       :           129.925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PS                        :           136.4531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ction Cache miss (sec):            19.8614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nd     Cache miss (sec):            28.6371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nk     Conflict Time (sec):            18.1851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080" y="2313000"/>
            <a:ext cx="3362040" cy="381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l   Time (sec)          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   Time (sec)          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 Time (sec)          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Time (sec)          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ction Count    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Instruction Count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Element Count 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P Count           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PS                 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FLOPS               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erage Vector Length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Operation Ratio (%) 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mory size used (MB)       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PS                       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ction Cache miss (sec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nd     Cache miss (sec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nk     Conflict Time (sec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99520" y="6245280"/>
            <a:ext cx="74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SR2201 64 PEs                  2205.sec.              1752.sec.          1921.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ACES WG mtg. 2003/06/06 Brisbane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77D-7547-4513-9336-027620F040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640" y="460080"/>
            <a:ext cx="910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n Earth Simulator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PE, 5 steps for 300km length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20" y="17064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7320" y="1701720"/>
            <a:ext cx="7667280" cy="222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ROG.UNIT  FREQUENCY  EXCLUSIVE       AVER.TIME   MOPS MFLOPS V.OP  AVER. I-CACHE O-CACHE   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IME[sec](  % )    [msec]               RATIO V.LEN  MISS    MISS      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cof           127   661.180( 52.1)  5206.140 7668.4 3796.1 99.38 241.9  3.9525  7.5565  0.15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funcs        1758442   504.338( 39.7)     0.287  635.4  163.7 69.20  37.9  1.7746 11.4471 25.68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gauss            94    72.447(  5.7)   770.714 5731.7 2669.5 99.22 224.9  0.2088  0.4403  0.0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srcinput           1    20.692(  1.6) 20692.259  183.7    1.0  1.23 179.0  2.1808  0.1350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consti_para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758442     6.977(  0.5)     0.004  176.8   36.3  0.00   0.0  1.6187  1.2345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quasi_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     2.934(  0.2)  2934.378  187.3    4.7  7.71 253.6  0.2100  0.0393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min            94     0.397(  0.0)     4.227 4067.4    1.4 98.81 242.4  0.0036  0.0021  0.0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otal        3517201  1268.966(100.0)     0.361 4580.9 2195.6 97.61 199.0  9.9492 20.8548 25.86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0200" y="4114800"/>
            <a:ext cx="7667640" cy="2225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ROG.UNIT  FREQUENCY  EXCLUSIVE       AVER.TIME   MOPS MFLOPS V.OP  AVER. I-CACHE O-CACHE   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IME[sec](  % )    [msec]               RATIO V.LEN  MISS    MISS      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cof           127   656.062( 72.8)  5165.844 7728.2 3825.8 99.38 241.9  6.7885  2.2390  0.15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funcs        1758442   141.695( 15.7)     0.081 5976.3 1250.8 99.00 239.2  3.9588  1.5603  0.19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gauss            94    72.393(  8.0)   770.142 5735.9 2671.5 99.22 224.9  0.1846  0.3724  0.01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srcinput           1    21.138(  2.3) 21137.964  179.8    1.0  1.23 179.0  2.5011  0.1773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consti_para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758442     6.112(  0.7)     0.003  201.8   41.5  0.00   0.0  1.6043  0.3505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quasi_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     3.106(  0.3)  3105.903  176.9    4.4  7.71 253.6  0.3563  0.0652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min            94     0.402(  0.0)     4.276 4020.3    1.4 98.81 242.4  0.0034  0.0022  0.0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otal        3517201   900.908(100.0)     0.256 7036.7 3197.7 99.23 240.3 15.3971  4.7669  0.37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960" y="41432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78920" y="2508120"/>
            <a:ext cx="549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45520" y="4917960"/>
            <a:ext cx="47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157560" y="2506680"/>
            <a:ext cx="1028520" cy="2409840"/>
            <a:chOff x="3157560" y="2506680"/>
            <a:chExt cx="1028520" cy="2409840"/>
          </a:xfrm>
        </p:grpSpPr>
        <p:sp>
          <p:nvSpPr>
            <p:cNvPr id="145" name=""/>
            <p:cNvSpPr/>
            <p:nvPr/>
          </p:nvSpPr>
          <p:spPr>
            <a:xfrm>
              <a:off x="3159000" y="2506680"/>
              <a:ext cx="1027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57560" y="4915080"/>
              <a:ext cx="1027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575320" y="2508120"/>
            <a:ext cx="488520" cy="2409840"/>
            <a:chOff x="5575320" y="2508120"/>
            <a:chExt cx="488520" cy="2409840"/>
          </a:xfrm>
        </p:grpSpPr>
        <p:sp>
          <p:nvSpPr>
            <p:cNvPr id="148" name=""/>
            <p:cNvSpPr/>
            <p:nvPr/>
          </p:nvSpPr>
          <p:spPr>
            <a:xfrm>
              <a:off x="5575680" y="2508120"/>
              <a:ext cx="488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75320" y="4916520"/>
              <a:ext cx="488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592600" y="3878280"/>
            <a:ext cx="488880" cy="2409840"/>
            <a:chOff x="5592600" y="3878280"/>
            <a:chExt cx="488880" cy="2409840"/>
          </a:xfrm>
        </p:grpSpPr>
        <p:sp>
          <p:nvSpPr>
            <p:cNvPr id="151" name=""/>
            <p:cNvSpPr/>
            <p:nvPr/>
          </p:nvSpPr>
          <p:spPr>
            <a:xfrm>
              <a:off x="5592960" y="3878280"/>
              <a:ext cx="4885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92600" y="6286680"/>
              <a:ext cx="4885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098880" y="3881520"/>
            <a:ext cx="1090080" cy="2404800"/>
            <a:chOff x="3098880" y="3881520"/>
            <a:chExt cx="1090080" cy="2404800"/>
          </a:xfrm>
        </p:grpSpPr>
        <p:sp>
          <p:nvSpPr>
            <p:cNvPr id="154" name=""/>
            <p:cNvSpPr/>
            <p:nvPr/>
          </p:nvSpPr>
          <p:spPr>
            <a:xfrm>
              <a:off x="3100320" y="3881520"/>
              <a:ext cx="1088640" cy="1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98880" y="6285240"/>
              <a:ext cx="1088640" cy="1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145200" y="2506680"/>
            <a:ext cx="372960" cy="2408040"/>
            <a:chOff x="6145200" y="2506680"/>
            <a:chExt cx="372960" cy="2408040"/>
          </a:xfrm>
        </p:grpSpPr>
        <p:sp>
          <p:nvSpPr>
            <p:cNvPr id="157" name=""/>
            <p:cNvSpPr/>
            <p:nvPr/>
          </p:nvSpPr>
          <p:spPr>
            <a:xfrm>
              <a:off x="6145560" y="2506680"/>
              <a:ext cx="3726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45200" y="4913640"/>
              <a:ext cx="3726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ACES WG mtg. 2003/06/06 Brisbane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7AB-3C06-4852-AA08-0803D71CA2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640" y="612360"/>
            <a:ext cx="910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n Earth Simulator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PEs, 20 steps for 1200km length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6240" y="2146320"/>
            <a:ext cx="8592840" cy="447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lobal Data of 16 processes :          Min [U,R]           Max [U,R]      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========================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l   Time (sec)           :     8274.057 [0,4]      8274.079 [0,8]     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ourier New"/>
              </a:rPr>
              <a:t>8274.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   Time (sec)           :     8238.496 [0,14]     8269.493 [0,1]      8264.0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 Time (sec)           :        0.083 [0,9]        19.035 [0,14]        2.7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Time (sec)           :     7798.273 [0,14]     7892.069 [0,8]      7844.9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ction Count           : 624303959865 [0,8]  643825666463 [0,6]  6355115147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Instruction Count    : 231626728504 [0,14] 232565807360 [0,8]  2321125894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Element Count        : 55074702660332 [0,7]  55125971671196 [0,8]  551061799622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P Count                  : 27148136671701 [0,3]  27152984585351 [0,0]  271505768226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PS                        :     6709.196 [0,7]      6735.701 [0,14]     6716.9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FLOPS                      :     3282.949 [0,3]      3295.707 [0,14]    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ourier New"/>
              </a:rPr>
              <a:t>3285.3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erage Vector Length       :      237.034 [0,8]       237.809 [0,14]      237.4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Operation Ratio (%)  :       99.258 [0,6]        99.294 [0,8]        99.2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mory size used (MB)       :      618.973 [0,1]       623.520 [0,0]       619.3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PS                        :       75.509 [0,8]        77.919 [0,6]        76.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ction Cache miss (sec):       18.623 [0,7]        39.624 [0,0]        29.4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nd     Cache miss (sec):       54.630 [0,12]       84.330 [0,0]        58.9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nk     Conflict Time (sec):       90.877 [0,15]       93.064 [0,0]       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ourier New"/>
              </a:rPr>
              <a:t>91.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6240" y="16606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pt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ACES WG mtg. 2003/06/06 Brisbane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2D8-0625-43D7-9BCB-9015196F73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640" y="612360"/>
            <a:ext cx="910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n Earth Simulator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PEs, 20 steps for 1200km length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6240" y="2146320"/>
            <a:ext cx="8592840" cy="4471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lobal Data of 16 processes :          Min [U,R]           Max [U,R]      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========================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l   Time (sec)           :     7916.622 [0,4]      7916.638 [0,8]     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ourier New"/>
              </a:rPr>
              <a:t>7916.6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   Time (sec)           :     7884.213 [0,2]      7911.765 [0,1]      7906.6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 Time (sec)           :        0.080 [0,5]        18.391 [0,2]         2.6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Time (sec)           :     7517.856 [0,6]      7583.443 [0,8]      7549.5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ction Count           : 505404224489 [0,8]  528906103722 [0,6]  5180649205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Instruction Count    : 227641971726 [0,7]  228417705195 [0,8]  2280706020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Element Count        : 56157955391428 [0,7]  56213438597266 [0,12] 561974856589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P Count                  : 27324180912828 [0,3]  27329028805661 [0,0]  27326621214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PS                        :     7135.700 [0,7]      7164.557 [0,2]      7144.2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FLOPS                      :     3453.654 [0,4]      3466.290 [0,2]     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ourier New"/>
              </a:rPr>
              <a:t>3456.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verage Vector Length       :      246.086 [0,8]       246.694 [0,7]       246.4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ctor Operation Ratio (%)  :       99.467 [0,6]        99.510 [0,8]        99.4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mory size used (MB)       :      618.950 [0,3]       623.497 [0,0]       619.3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PS                        :       63.985 [0,8]        66.851 [0,6]        65.5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ction Cache miss (sec):        6.898 [0,4]        25.711 [0,0]        11.4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nd     Cache miss (sec):       34.316 [0,3]        57.017 [0,0]        38.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nk     Conflict Time (sec):        2.566 [0,15]        4.896 [0,0]        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ourier New"/>
              </a:rPr>
              <a:t>3.3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6600" y="1660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ACES WG mtg. 2003/06/06 Brisbane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2C7-24BA-494D-A86F-47B75061B7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622080"/>
            <a:ext cx="9134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 on Earth Simulator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Efficiency for 1st Linear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9200" y="1833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98560" y="620064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150km, 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300km, 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450km, 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600km, 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120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336920" y="2138400"/>
            <a:ext cx="4759560" cy="361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790880" y="18414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-95400" y="2147760"/>
            <a:ext cx="4719960" cy="3584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03280" y="5665680"/>
            <a:ext cx="3918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ngth of the Innermost Loop= m/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ACES WG mtg. 2003/06/06 Brisbane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85E-61D5-400F-B8D3-C59160A824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65560" y="6533640"/>
            <a:ext cx="2243160" cy="2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3E5B-4199-4DCE-AB29-895FD52ADFAC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0"/>
            <a:ext cx="39686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76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0e500"/>
                </a:solidFill>
                <a:latin typeface="Arial"/>
              </a:rPr>
              <a:t>San Andreas Faults, CA.</a:t>
            </a:r>
            <a:br>
              <a:rPr sz="4800"/>
            </a:b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Transcurrent Plate Boundaries</a:t>
            </a:r>
            <a:br>
              <a:rPr sz="3600"/>
            </a:b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&gt; 1,000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62197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 Geologica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2573280"/>
            <a:ext cx="3809880" cy="351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76920" y="2573280"/>
            <a:ext cx="3581280" cy="35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65560" y="6533640"/>
            <a:ext cx="2243160" cy="2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2B46-D25A-4BA0-8148-9BCCDC5BE958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0"/>
            <a:ext cx="39686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0e500"/>
                </a:solidFill>
                <a:latin typeface="Arial"/>
              </a:rPr>
              <a:t>Problem Configu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040" y="200448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ffffff"/>
                </a:solidFill>
                <a:latin typeface="Arial"/>
                <a:ea typeface="ＭＳ ゴシック"/>
              </a:rPr>
              <a:t>Doubl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  <a:ea typeface="ＭＳ ゴシック"/>
              </a:rPr>
              <a:t> Fault Patches for Initial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  <a:ea typeface="ＭＳ ゴシック"/>
              </a:rPr>
              <a:t>150~1,200km(Length)×45km(Depth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3360" indent="-162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Arial"/>
                <a:ea typeface="ＭＳ ゴシック"/>
              </a:rPr>
              <a:t>705~6,000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  <a:ea typeface="ＭＳ ゴシック"/>
              </a:rPr>
              <a:t>Plate Motion : 50mm/y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spcBef>
                <a:spcPts val="7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e3ebf1"/>
                </a:solidFill>
                <a:latin typeface="Arial"/>
                <a:ea typeface="ＭＳ ゴシック"/>
              </a:rPr>
              <a:t>Earth Simulator (1-64 P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10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8574120" cy="16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ashimot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ectonic stress accumulation simulation at transcurrent plat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oundary Integr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ult Length: 150km – 1200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ACES WG mtg. 2003/06/06 Brisbane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827-3689-4D56-9563-91AA18994F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604440"/>
            <a:ext cx="910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Parallel Matrix Assembling for Linear EQNs: MRQC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2044800"/>
            <a:ext cx="4397400" cy="1919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do ip= 1, PE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　　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s= (ip-1)*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f (iflagM.eq.1)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j= 1, 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wt= dydamatP(is+j)*sig2imatP(i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000000"/>
                </a:solidFill>
                <a:uFillTx/>
                <a:latin typeface="Courier New"/>
              </a:rPr>
              <a:t>!CDIR NOD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k= 1, g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k1= gMTBL(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A2(j,k)= gA2(j,k) + wt*dydamatP(is+k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B2(j)= gB2(j) + dymatP(ip)*w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chisq= chisq + dymatP(ip)*dymatP(ip)*sig2imatP(i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760" y="16588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44280" y="1677960"/>
            <a:ext cx="4545720" cy="4893120"/>
            <a:chOff x="4544280" y="1677960"/>
            <a:chExt cx="4545720" cy="4893120"/>
          </a:xfrm>
        </p:grpSpPr>
        <p:sp>
          <p:nvSpPr>
            <p:cNvPr id="61" name=""/>
            <p:cNvSpPr/>
            <p:nvPr/>
          </p:nvSpPr>
          <p:spPr>
            <a:xfrm>
              <a:off x="4572000" y="2035080"/>
              <a:ext cx="4518000" cy="3744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if (iflagM.eq.1) th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do ip= 1, PETO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is= (ip-1)*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k=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k1= gMTBL(k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!CDIR NOD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ja-JP" sz="1000" spc="-1" strike="noStrike">
                  <a:solidFill>
                    <a:srgbClr val="000000"/>
                  </a:solidFill>
                  <a:latin typeface="Courier New"/>
                </a:rPr>
                <a:t>do j= 1, 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wt= dydamatP(is+j)*sig2imatP(ip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gA2(j,k)= gA2(j,k) + wt*dydamatP(is+k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gB2(j)  = gB2(j)   + wt*dymatP  (ip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ja-JP" sz="1000" spc="-1" strike="noStrike">
                  <a:solidFill>
                    <a:srgbClr val="000000"/>
                  </a:solidFill>
                  <a:latin typeface="Courier New"/>
                </a:rPr>
                <a:t>end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ja-JP" sz="1000" spc="-1" strike="noStrike">
                  <a:solidFill>
                    <a:srgbClr val="000000"/>
                  </a:solidFill>
                  <a:latin typeface="Courier New"/>
                </a:rPr>
                <a:t>do k= 2, g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　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k1= gMTBL(k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!CDIR NOD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ja-JP" sz="1000" spc="-1" strike="noStrike">
                  <a:solidFill>
                    <a:srgbClr val="000000"/>
                  </a:solidFill>
                  <a:latin typeface="Courier New"/>
                </a:rPr>
                <a:t>do j= 1, 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wt= dydamatP(is+j)*sig2imatP(ip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gA2(j,k)= gA2(j,k) + wt * dydamatP(is+k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ja-JP" sz="1000" spc="-1" strike="noStrike">
                  <a:solidFill>
                    <a:srgbClr val="000000"/>
                  </a:solidFill>
                  <a:latin typeface="Courier New"/>
                </a:rPr>
                <a:t>end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ja-JP" sz="1000" spc="-1" strike="noStrike">
                  <a:solidFill>
                    <a:srgbClr val="000000"/>
                  </a:solidFill>
                  <a:latin typeface="Courier New"/>
                </a:rPr>
                <a:t>end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chisq= chisq + dymatP(ip)*dymatP(ip)*sig2imatP(ip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end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!CDIR NOD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ja-JP" sz="1000" spc="-1" strike="noStrike">
                  <a:solidFill>
                    <a:srgbClr val="000000"/>
                  </a:solidFill>
                  <a:latin typeface="Courier New"/>
                </a:rPr>
                <a:t>do ip= 1, PETO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is   = (ip-1)*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　</a:t>
              </a: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chisq= chisq + dymatP(ip)*dymatP(ip)*sig2imatP(ip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ja-JP" sz="1000" spc="-1" strike="noStrike">
                  <a:solidFill>
                    <a:srgbClr val="000000"/>
                  </a:solidFill>
                  <a:latin typeface="Courier New"/>
                </a:rPr>
                <a:t>end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ourier New"/>
                </a:rPr>
                <a:t>endi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44280" y="1677960"/>
              <a:ext cx="128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Optim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14800" y="5989680"/>
              <a:ext cx="337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ourier New"/>
                </a:rPr>
                <a:t>gM=gN/PET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Courier New"/>
                </a:rPr>
                <a:t>x gM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 additional computation for </a:t>
              </a:r>
              <a:r>
                <a:rPr b="0" lang="ja-JP" sz="1400" spc="-1" strike="noStrike">
                  <a:solidFill>
                    <a:srgbClr val="000000"/>
                  </a:solidFill>
                  <a:latin typeface="Courier New"/>
                </a:rPr>
                <a:t>wt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ACES WG mtg. 2003/06/06 Brisbane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0D3-E1AA-48F0-8CF4-90430BB75A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40" y="536400"/>
            <a:ext cx="9108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rix Component: FUNCS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ed NDATA times at every time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00" y="2054160"/>
            <a:ext cx="4435200" cy="240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s_d= 0.d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is= 1, stepj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f (dp_d.ne.0)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p= 1, 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it= 0, itcnt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f ((t(it)  .le.tau(stepj)-tau(is)) .and.  &amp;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(t(it+1).gt.tau(stepj)-tau(is)))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st= gss(p,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oto 1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st= gss(p,itc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11      contin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ja-JP" sz="1000" spc="-1" strike="noStrike">
                <a:solidFill>
                  <a:srgbClr val="ff0000"/>
                </a:solidFill>
                <a:latin typeface="Courier New"/>
              </a:rPr>
              <a:t>gs_d= gs_d + aaj(p,is)*g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29240" y="2054160"/>
            <a:ext cx="4365360" cy="325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f (itflag.eq.0)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is= 1, stepj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it= 0, itcnt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f ((t(it)  .le.tau(stepj)-tau(is)) .and.  &amp;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(it+1).gt.tau(stepj)-tau(is)))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tCUR(is)=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oto 1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tCUR(is)= itc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11    contin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s_d= 0.0d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f (dp_d.ne.0)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is= 1, stepj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000000"/>
                </a:solidFill>
                <a:uFillTx/>
                <a:latin typeface="Courier New"/>
              </a:rPr>
              <a:t>!CDIR NOD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p= 1, 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ja-JP" sz="1000" spc="-1" strike="noStrike">
                <a:solidFill>
                  <a:srgbClr val="ff0000"/>
                </a:solidFill>
                <a:latin typeface="Courier New"/>
              </a:rPr>
              <a:t>gs_d= gs_d + aaj(p,is)*gss(p,ITcur(is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760" y="16588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44280" y="167796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338800"/>
            <a:ext cx="4111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dditional array “ITCUR(is)” is defined and this is calculated just once at every time ste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perations for computations of “gs_d” is very simple and easy to be optimiz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8440" y="5346720"/>
            <a:ext cx="411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ubroutine FUNCS” is called “NDATA” ti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tepj” is current step number, therefore computational amount for this part is increasing as the simulation procee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st” only depends on time and location of parameter poi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ACES WG mtg. 2003/06/06 Brisbane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956-606A-479C-8D30-80AA894501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40" y="536400"/>
            <a:ext cx="9108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n Earth Simulator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PE, 15 steps for 150km length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27320" y="1549440"/>
            <a:ext cx="7667280" cy="1919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ROG.UNIT  FREQUENCY  EXCLUSIVE       AVER.TIME   MOPS MFLOPS V.OP  AVER. I-CACHE O-CACHE   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IME[sec](  % )    [msec]               RATIO V.LEN  MISS    MISS      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cof           162   385.226( 64.3)  2377.937 5669.4 1240.2 98.49 234.1  4.8410  2.8251  0.10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funcs        1125252   169.319( 28.3)     0.150  839.0  261.9 77.30  54.8  1.7660  4.5700  6.41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srcinput           1    22.228(  3.7) 22227.847  171.0    0.9  1.22 178.8  3.4421  0.1314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gauss           108    12.887(  2.2)   119.327 4260.5 1966.9 98.64 198.0  0.0922  0.2183  0.00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quasi_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     4.495(  0.8)  4494.601  178.6    4.6  5.15 250.7  0.3769  0.0692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consti_para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125252     4.445(  0.7)     0.004  203.1   47.8  0.00   0.0  0.6829  0.7551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min           108     0.117(  0.0)     1.085 3751.8    2.6 98.33 234.7  0.0041  0.0025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otal        2250884   598.717(100.0)     0.266 3986.7  914.8 97.01 202.0 11.2052  8.5715  6.52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760" y="15638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20" y="36115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27320" y="3606840"/>
            <a:ext cx="7667280" cy="1919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ROG.UNIT  FREQUENCY  EXCLUSIVE       AVER.TIME   MOPS MFLOPS V.OP  AVER. I-CACHE O-CACHE   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IME[sec](  % )    [msec]               RATIO V.LEN  MISS    MISS      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funcs        1125252   168.392( 46.2)     0.150  843.6  263.3 77.30  54.8  0.9748  4.4880  6.41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cof           162   153.722( 42.1)   948.903 7102.9 3494.7 98.99 233.3  2.4568  3.9489  0.10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srcinput           1    20.673(  5.7) 20672.844  183.8    1.0  1.22 178.8  2.1630  0.1307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gauss           108    12.907(  3.5)   119.510 4254.0 1963.9 98.64 198.0  0.1104  0.2287  0.01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consti_para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125252     4.538(  1.2)     0.004  198.9   46.8  0.00   0.0  0.9358  0.6159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quasi_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     4.464(  1.2)  4464.177  179.8    4.6  5.15 250.7  0.3026  0.1485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min           108     0.117(  0.0)     1.084 3752.9    2.6 98.33 234.7  0.0043  0.0025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otal        2250884   364.813(100.0)     0.162 3549.2 1664.3 96.18 180.2  6.9477  9.5631  6.53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165480" y="2076480"/>
            <a:ext cx="1017720" cy="2049480"/>
            <a:chOff x="3165480" y="2076480"/>
            <a:chExt cx="1017720" cy="2049480"/>
          </a:xfrm>
        </p:grpSpPr>
        <p:sp>
          <p:nvSpPr>
            <p:cNvPr id="77" name=""/>
            <p:cNvSpPr/>
            <p:nvPr/>
          </p:nvSpPr>
          <p:spPr>
            <a:xfrm>
              <a:off x="3165480" y="4125960"/>
              <a:ext cx="1017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65480" y="2076480"/>
              <a:ext cx="1017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8337600" y="2189160"/>
            <a:ext cx="479520" cy="1938240"/>
            <a:chOff x="8337600" y="2189160"/>
            <a:chExt cx="479520" cy="1938240"/>
          </a:xfrm>
        </p:grpSpPr>
        <p:sp>
          <p:nvSpPr>
            <p:cNvPr id="80" name=""/>
            <p:cNvSpPr/>
            <p:nvPr/>
          </p:nvSpPr>
          <p:spPr>
            <a:xfrm>
              <a:off x="8337600" y="4127400"/>
              <a:ext cx="479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37600" y="2189160"/>
              <a:ext cx="479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137040" y="3301920"/>
            <a:ext cx="1017360" cy="2049480"/>
            <a:chOff x="3137040" y="3301920"/>
            <a:chExt cx="1017360" cy="2049480"/>
          </a:xfrm>
        </p:grpSpPr>
        <p:sp>
          <p:nvSpPr>
            <p:cNvPr id="83" name=""/>
            <p:cNvSpPr/>
            <p:nvPr/>
          </p:nvSpPr>
          <p:spPr>
            <a:xfrm>
              <a:off x="3137040" y="5351400"/>
              <a:ext cx="1017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37040" y="3301920"/>
              <a:ext cx="1017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622840" y="3298680"/>
            <a:ext cx="514440" cy="2049480"/>
            <a:chOff x="5622840" y="3298680"/>
            <a:chExt cx="514440" cy="2049480"/>
          </a:xfrm>
        </p:grpSpPr>
        <p:sp>
          <p:nvSpPr>
            <p:cNvPr id="86" name=""/>
            <p:cNvSpPr/>
            <p:nvPr/>
          </p:nvSpPr>
          <p:spPr>
            <a:xfrm>
              <a:off x="5622840" y="5348160"/>
              <a:ext cx="5144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22840" y="3298680"/>
              <a:ext cx="5144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860480" y="5829480"/>
            <a:ext cx="540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ational time reduced dramatic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QCOF” speed up in spite of larger amount of compu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conflict in FUNC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ACES WG mtg. 2003/06/06 Brisbane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45E-9D40-4C87-A09C-CF72C32E9A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40" y="536400"/>
            <a:ext cx="9108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ray Access Pattern: FUNCS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order to avoid bank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8960" y="1889280"/>
            <a:ext cx="4015080" cy="283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dX1= idint(zz_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p= 1, 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pp= idnint(dabs(kk(p)-xx_d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f (ipp.gt.xmax0)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uu(p)= 0.d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000000"/>
                </a:solidFill>
                <a:uFillTx/>
                <a:latin typeface="Courier New"/>
              </a:rPr>
              <a:t>!CDIR NOD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it= 0, itc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ss(p,it)= 0.d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dX2= idint(ll(p)/3.d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uu(p)= u(ipp, idX1, idX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000000"/>
                </a:solidFill>
                <a:uFillTx/>
                <a:latin typeface="Courier New"/>
              </a:rPr>
              <a:t>!CDIR NOD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it= 0, itcnt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ss(p,it)= gs(ipp, idX1, idX2,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30840" y="1882800"/>
            <a:ext cx="4014720" cy="4205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dX1= idint(zz_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t=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000000"/>
                </a:solidFill>
                <a:uFillTx/>
                <a:latin typeface="Courier New"/>
              </a:rPr>
              <a:t>!CDIR NOD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 p= 1, 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pp= idnint(dabs(kk(p)-xx_d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f (ipp.gt.xmax0)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uu (p)   = 0.d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ss(p,it)= 0.d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dX2= idint(ll(p)/3.d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uu (p)   = u (ipp,     idX2, idX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ss(p,it)= gs(ipp, it, idX2, idX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it= 1, itc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000000"/>
                </a:solidFill>
                <a:uFillTx/>
                <a:latin typeface="Courier New"/>
              </a:rPr>
              <a:t>!CDIR NOD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do  p= 1, 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pp= idnint(dabs(kk(p)-xx_d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f (ipp.gt.xmax0) th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ss(p,it)= 0.d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dX2= idint(ll(p)/3.d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gss(p,it)= gs(ipp, it, idX2, idX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760" y="14968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44280" y="151596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95200" y="2855880"/>
            <a:ext cx="7972560" cy="3054240"/>
            <a:chOff x="295200" y="2855880"/>
            <a:chExt cx="7972560" cy="3054240"/>
          </a:xfrm>
        </p:grpSpPr>
        <p:sp>
          <p:nvSpPr>
            <p:cNvPr id="95" name=""/>
            <p:cNvSpPr/>
            <p:nvPr/>
          </p:nvSpPr>
          <p:spPr>
            <a:xfrm>
              <a:off x="295200" y="4976640"/>
              <a:ext cx="403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Innermost loops “it” -&gt; “p” for “gss(p,it)”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4480" y="2855880"/>
              <a:ext cx="1677960" cy="4618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3040" y="3930480"/>
              <a:ext cx="2905200" cy="4622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13520" y="4533840"/>
              <a:ext cx="3054240" cy="137628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93760" y="4232160"/>
            <a:ext cx="7888320" cy="1587240"/>
            <a:chOff x="293760" y="4232160"/>
            <a:chExt cx="7888320" cy="1587240"/>
          </a:xfrm>
        </p:grpSpPr>
        <p:sp>
          <p:nvSpPr>
            <p:cNvPr id="100" name=""/>
            <p:cNvSpPr/>
            <p:nvPr/>
          </p:nvSpPr>
          <p:spPr>
            <a:xfrm>
              <a:off x="293760" y="5299200"/>
              <a:ext cx="4038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(ipp,idX1,idX2,it)” -&gt; “gss(ipp,it,idx1,idX2)”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3600" y="4232160"/>
              <a:ext cx="2625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56240" y="5608800"/>
              <a:ext cx="2625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ACES WG mtg. 2003/06/06 Brisbane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FB7-8356-4741-8320-52BEACA441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40" y="460080"/>
            <a:ext cx="910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n Earth Simulator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PE, 15 steps for 150km length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27320" y="1368360"/>
            <a:ext cx="7667280" cy="179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ROG.UNIT  FREQUENCY  EXCLUSIVE       AVER.TIME   MOPS MFLOPS V.OP  AVER. I-CACHE O-CACHE   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IME[sec](  % )    [msec]               RATIO V.LEN  MISS    MISS      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cof           162   385.226( 64.3)  2377.937 5669.4 1240.2 98.49 234.1  4.8410  2.8251  0.10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funcs        1125252   169.319( 28.3)     0.150  839.0  261.9 77.30  54.8  1.7660  4.5700  6.41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srcinput           1    22.228(  3.7) 22227.847  171.0    0.9  1.22 178.8  3.4421  0.1314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gauss           108    12.887(  2.2)   119.327 4260.5 1966.9 98.64 198.0  0.0922  0.2183  0.00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quasi_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     4.495(  0.8)  4494.601  178.6    4.6  5.15 250.7  0.3769  0.0692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consti_para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125252     4.445(  0.7)     0.004  203.1   47.8  0.00   0.0  0.6829  0.7551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min           108     0.117(  0.0)     1.085 3751.8    2.6 98.33 234.7  0.0041  0.0025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otal        2250884   598.717(100.0)     0.266 3986.7  914.8 97.01 202.0 11.2052  8.5715  6.52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60" y="13827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120" y="319248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27320" y="3187800"/>
            <a:ext cx="7667280" cy="179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ROG.UNIT  FREQUENCY  EXCLUSIVE       AVER.TIME   MOPS MFLOPS V.OP  AVER. I-CACHE O-CACHE   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IME[sec](  % )    [msec]               RATIO V.LEN  MISS    MISS      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funcs        1125252   168.392( 46.2)     0.150  843.6  263.3 77.30  54.8  0.9748  4.4880  6.41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cof           162   153.722( 42.1)   948.903 7102.9 3494.7 98.99 233.3  2.4568  3.9489  0.10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srcinput           1    20.673(  5.7) 20672.844  183.8    1.0  1.22 178.8  2.1630  0.1307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gauss           108    12.907(  3.5)   119.510 4254.0 1963.9 98.64 198.0  0.1104  0.2287  0.01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consti_para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125252     4.538(  1.2)     0.004  198.9   46.8  0.00   0.0  0.9358  0.6159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quasi_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     4.464(  1.2)  4464.177  179.8    4.6  5.15 250.7  0.3026  0.1485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min           108     0.117(  0.0)     1.084 3752.9    2.6 98.33 234.7  0.0043  0.0025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otal        2250884   364.813(100.0)     0.162 3549.2 1664.3 96.18 180.2  6.9477  9.5631  6.53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0200" y="5010120"/>
            <a:ext cx="7667640" cy="1797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ROG.UNIT  FREQUENCY  EXCLUSIVE       AVER.TIME   MOPS MFLOPS V.OP  AVER. I-CACHE O-CACHE   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IME[sec](  % )    [msec]               RATIO V.LEN  MISS    MISS      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cof           162   151.462( 60.2)   934.950 7208.9 3546.8 98.99 233.3  4.2596  0.6754  0.11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funcs        1125252    57.366( 22.8)     0.051 5323.4 1284.5 98.56 230.9  2.3050  1.0004  0.12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srcinput           1    21.015(  8.4) 21014.591  180.8    1.0  1.22 178.8  2.4005  0.1383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gauss           108    12.832(  5.1)   118.812 4279.0 1975.5 98.64 198.0  0.0939  0.1742  0.01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quasi_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     4.634(  1.8)  4633.743  173.2    4.4  5.15 250.7  0.5050  0.1040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consti_para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125252     4.221(  1.7)     0.004  213.9   50.3  0.00   0.0  1.0785  0.0555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mrqmin           108     0.117(  0.0)     1.083 3758.9    2.6 98.33 234.7  0.0041  0.0025  0.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total        2250884   251.646(100.0)     0.112 5794.3 2529.4 98.52 231.2 10.6466  2.1503  0.24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960" y="503856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159000" y="4938840"/>
            <a:ext cx="1019160" cy="1827000"/>
            <a:chOff x="3159000" y="4938840"/>
            <a:chExt cx="1019160" cy="1827000"/>
          </a:xfrm>
        </p:grpSpPr>
        <p:sp>
          <p:nvSpPr>
            <p:cNvPr id="111" name=""/>
            <p:cNvSpPr/>
            <p:nvPr/>
          </p:nvSpPr>
          <p:spPr>
            <a:xfrm>
              <a:off x="3160800" y="4938840"/>
              <a:ext cx="1017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59000" y="6765840"/>
              <a:ext cx="1017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157560" y="3714840"/>
            <a:ext cx="1019160" cy="1941480"/>
            <a:chOff x="3157560" y="3714840"/>
            <a:chExt cx="1019160" cy="1941480"/>
          </a:xfrm>
        </p:grpSpPr>
        <p:sp>
          <p:nvSpPr>
            <p:cNvPr id="114" name=""/>
            <p:cNvSpPr/>
            <p:nvPr/>
          </p:nvSpPr>
          <p:spPr>
            <a:xfrm>
              <a:off x="3159000" y="3714840"/>
              <a:ext cx="1017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57560" y="5656320"/>
              <a:ext cx="1017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597640" y="3713040"/>
            <a:ext cx="472680" cy="1942920"/>
            <a:chOff x="5597640" y="3713040"/>
            <a:chExt cx="472680" cy="1942920"/>
          </a:xfrm>
        </p:grpSpPr>
        <p:sp>
          <p:nvSpPr>
            <p:cNvPr id="117" name=""/>
            <p:cNvSpPr/>
            <p:nvPr/>
          </p:nvSpPr>
          <p:spPr>
            <a:xfrm>
              <a:off x="5598000" y="3713040"/>
              <a:ext cx="47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97640" y="5655960"/>
              <a:ext cx="47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100920" y="3711600"/>
            <a:ext cx="472680" cy="1942560"/>
            <a:chOff x="6100920" y="3711600"/>
            <a:chExt cx="472680" cy="1942560"/>
          </a:xfrm>
        </p:grpSpPr>
        <p:sp>
          <p:nvSpPr>
            <p:cNvPr id="120" name=""/>
            <p:cNvSpPr/>
            <p:nvPr/>
          </p:nvSpPr>
          <p:spPr>
            <a:xfrm>
              <a:off x="6101280" y="3711600"/>
              <a:ext cx="47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00920" y="5654160"/>
              <a:ext cx="47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603840" y="3710160"/>
            <a:ext cx="473040" cy="1942560"/>
            <a:chOff x="6603840" y="3710160"/>
            <a:chExt cx="473040" cy="1942560"/>
          </a:xfrm>
        </p:grpSpPr>
        <p:sp>
          <p:nvSpPr>
            <p:cNvPr id="123" name=""/>
            <p:cNvSpPr/>
            <p:nvPr/>
          </p:nvSpPr>
          <p:spPr>
            <a:xfrm>
              <a:off x="6604200" y="3710160"/>
              <a:ext cx="472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03840" y="5652720"/>
              <a:ext cx="472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8354880" y="3708360"/>
            <a:ext cx="472680" cy="1942920"/>
            <a:chOff x="8354880" y="3708360"/>
            <a:chExt cx="472680" cy="1942920"/>
          </a:xfrm>
        </p:grpSpPr>
        <p:sp>
          <p:nvSpPr>
            <p:cNvPr id="126" name=""/>
            <p:cNvSpPr/>
            <p:nvPr/>
          </p:nvSpPr>
          <p:spPr>
            <a:xfrm>
              <a:off x="8355240" y="3708360"/>
              <a:ext cx="47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54880" y="5651280"/>
              <a:ext cx="47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rd ACES WG mtg. 2003/06/06 Brisbane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392-8E41-4D38-9D24-4144978FEF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2:16:12Z</dcterms:created>
  <dc:creator>Kengo Nakajima</dc:creator>
  <dc:description/>
  <dc:language>en-US</dc:language>
  <cp:lastModifiedBy>Kengo Nakajima</cp:lastModifiedBy>
  <dcterms:modified xsi:type="dcterms:W3CDTF">2003-06-06T01:07:51Z</dcterms:modified>
  <cp:revision>386</cp:revision>
  <dc:subject/>
  <dc:title>Penalty Method for Steady Stokes Equations</dc:title>
</cp:coreProperties>
</file>