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C04-E790-4A41-B42D-F7950BAB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075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BC2-B98F-441C-8AEC-978FE676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760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75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7600" y="40075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BC6-6CA8-4C59-9CF2-0099A60B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360" y="1828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7880" y="1828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075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360" y="40075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7880" y="40075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59D-DE9A-4B62-9C61-59078982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7781-35B4-4723-BD05-252BD6A3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E215-BAF3-48EE-9171-7CF4FBA4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90E5-D8F5-4FD3-A77C-B30962A5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284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1D99-CBB7-4B2A-B034-2A14571C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0D80-DAB6-4EAB-955E-162C5409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7639-C85A-43F5-998A-82320E6F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284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075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5BA6-CADA-4715-B57B-B3D536D3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34E-DF17-4514-92F7-6FA3DB41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075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519D-D7BF-4106-A00C-6B10C26D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075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9CF1-7130-4581-AE62-0426F979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075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371E-085D-49B8-9E5B-77CA666A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075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075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B7B7-9F4A-4860-960A-516A3F89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28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284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075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075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075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32B0-5EBC-44CE-8BA6-E4295809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628-D153-492D-AC7F-B852231C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284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CB4-3685-484A-8AC6-B7E3D3E3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3F0-99CD-4C05-A4C4-58A110EC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67F-1D27-407A-996A-DFFB6CD7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284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075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858-ED53-4FE5-B384-8FBEC53D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7600" y="40075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887-1D91-4D5D-A507-4FFC2A25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284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075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CBD-94C3-4338-9B25-60062DA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9AC0-C465-41E5-83BA-95D5484059AF}" type="datetime3">
              <a:rPr b="0" lang="en-US" sz="1400" spc="-1" strike="noStrike">
                <a:solidFill>
                  <a:srgbClr val="5e574e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2EE8-6752-435C-8DE8-6A584D6B91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2647800" y="-1428840"/>
            <a:ext cx="1604880" cy="1079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010280" y="228600"/>
            <a:ext cx="1676520" cy="1076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1371600"/>
            <a:ext cx="83059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16A2-48E6-4500-8BCC-915DAD26ADC0}" type="datetime3">
              <a:rPr b="0" lang="en-US" sz="1400" spc="-1" strike="noStrike">
                <a:solidFill>
                  <a:srgbClr val="5e574e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A681-4422-4020-A0B0-F1349C5669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6324480" cy="480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ill@vpac.org" TargetMode="Externa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vpac.org/VDT/SNARK/collab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-fp.mcs.anl.gov/petsc/" TargetMode="External"/><Relationship Id="rId2" Type="http://schemas.openxmlformats.org/officeDocument/2006/relationships/hyperlink" Target="http://www-fp.mcs.anl.gov/petsc/" TargetMode="External"/><Relationship Id="rId3" Type="http://schemas.openxmlformats.org/officeDocument/2006/relationships/hyperlink" Target="http://www-fp.mcs.anl.gov/petsc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SnarkBigDemo.gif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3DfBoxMar12.1.gif/" TargetMode="External"/><Relationship Id="rId2" Type="http://schemas.openxmlformats.org/officeDocument/2006/relationships/hyperlink" Target="http://feb18.2.cnrs.p3Dmov.gif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vpac.org/snar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213336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Towards Rapid GeoScience Model Development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ill Appelbe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Victorian Partnership for Advanced Computing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Director, Software Development - ACcESS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 Black"/>
                <a:hlinkClick r:id="rId1"/>
              </a:rPr>
              <a:t>bill@vpac.org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May 5th , 200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733-720E-452B-9688-DB1ADF71DE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Goals for Geoscience Software -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Can it be done?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YES!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 VPAC, we have prototypes demonstrating all the above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irst versions should be released by mid-year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67A-068B-4DD1-9601-05D6AB458F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he Snark Project - Goal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reate a framework for geoscience software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Building on top of "state of the art" tools, components and librari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Rebuild and re-engineer existing geoscience models into this framework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Integrate particle and mesh based model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7EB-00A0-4D7E-A56F-8E56783B87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nark – Philosophy,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oolkits, off-the-shelf stuff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"Productivity is measured by the number of lines of code NOT written"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areful survey and testing of existing scientific software tools &amp; component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Se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vpac.org/snark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 core component technology that Snark uses is PETSc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A powerful extensible library of solvers and support software from Argonne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52E-C276-4A79-AF88-D946B5CF0C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Using PETSc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trong support group and documentation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Large library of linear and non-linear solvers, grid support functions, etc.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Scaleable parallelism built-in!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ontinuously being extended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We are adding particle librarie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 programmer can focus on "setting up the problem", not the algorithm detail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 only drawback is the "learning curve"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ee ..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ww-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fp.mcs.anl.gov/petsc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hlinkClick r:id="rId3"/>
              </a:rPr>
              <a:t>/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DE3-5F2C-43BB-A9BE-60A7203959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nark –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Other tool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Off the shelf tools are available for many ancillary function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Graphics, viewing data set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Vis5D, VU, ..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Grid refinement/triangulation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LaGRIT, Triangle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omain decomposition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Parmeti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ll these tools just hook in to PETSc! 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664-122B-4A6C-AA67-FF68AF5D60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Automatic Mesh Generation –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riangl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cc"/>
              </a:solidFill>
              <a:latin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15400" cy="53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A4C-7E3C-4453-9ABF-6E842493C9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nark –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op-Level Architectur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lmost all grid and particle models fit into one top-level architecture!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re is an isomorphism between irregular grids and particle ensembl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Grid Point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Particle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Grid tools that can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partition and refine irregular grid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generate grid communication, etc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ork equally well for particle ensembles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2DD-0DF4-435C-9BA6-072A6749BF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nark –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op-Level Architectur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516400" y="1639080"/>
            <a:ext cx="304740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itialize boundary conditions,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rids/particle ensemb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47920"/>
            <a:ext cx="6476760" cy="5181480"/>
          </a:xfrm>
          <a:prstGeom prst="rect">
            <a:avLst/>
          </a:prstGeom>
          <a:noFill/>
          <a:ln w="9360">
            <a:solidFill>
              <a:srgbClr val="ff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581280"/>
            <a:ext cx="220968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pdate matrix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3581280"/>
            <a:ext cx="220968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pdate particle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per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4495680"/>
            <a:ext cx="220968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olve matri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4495680"/>
            <a:ext cx="220968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olve particle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per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3962520"/>
            <a:ext cx="304920" cy="761760"/>
          </a:xfrm>
          <a:prstGeom prst="line">
            <a:avLst/>
          </a:prstGeom>
          <a:ln w="9360">
            <a:solidFill>
              <a:srgbClr val="ffffc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09520" y="4038480"/>
            <a:ext cx="304920" cy="685800"/>
          </a:xfrm>
          <a:prstGeom prst="line">
            <a:avLst/>
          </a:prstGeom>
          <a:ln w="9360">
            <a:solidFill>
              <a:srgbClr val="ffffc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4191120"/>
            <a:ext cx="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4191120"/>
            <a:ext cx="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5181480"/>
            <a:ext cx="91440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962160" y="5181480"/>
            <a:ext cx="114300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352680"/>
            <a:ext cx="2971800" cy="2895840"/>
          </a:xfrm>
          <a:custGeom>
            <a:avLst/>
            <a:gdLst/>
            <a:ahLst/>
            <a:rect l="l" t="t" r="r" b="b"/>
            <a:pathLst>
              <a:path w="1872" h="1824">
                <a:moveTo>
                  <a:pt x="1872" y="1536"/>
                </a:moveTo>
                <a:lnTo>
                  <a:pt x="1872" y="1824"/>
                </a:lnTo>
                <a:lnTo>
                  <a:pt x="0" y="1824"/>
                </a:lnTo>
                <a:lnTo>
                  <a:pt x="0" y="0"/>
                </a:lnTo>
                <a:lnTo>
                  <a:pt x="1872" y="0"/>
                </a:lnTo>
              </a:path>
            </a:pathLst>
          </a:custGeom>
          <a:noFill/>
          <a:ln w="9360">
            <a:solidFill>
              <a:srgbClr val="ffff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312408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3352680"/>
            <a:ext cx="1143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66520" y="3352680"/>
            <a:ext cx="129564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5943600"/>
            <a:ext cx="220968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imestepper &amp; 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4038480"/>
            <a:ext cx="152424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ETS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3200400"/>
            <a:ext cx="152424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rived from 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onstitutive law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514600"/>
            <a:ext cx="221004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ition acro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cessor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228600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8195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336"/>
                </a:moveTo>
                <a:lnTo>
                  <a:pt x="0" y="0"/>
                </a:lnTo>
                <a:lnTo>
                  <a:pt x="1200" y="0"/>
                </a:lnTo>
              </a:path>
            </a:pathLst>
          </a:custGeom>
          <a:noFill/>
          <a:ln w="9360">
            <a:solidFill>
              <a:srgbClr val="ffff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827-60F6-4CC6-BD9C-459A572113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AD25-5182-4C80-9F4B-CC56385B3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The Snark Engine –</a:t>
            </a:r>
            <a:br>
              <a:rPr sz="3000"/>
            </a:b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Detailed Architecture 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5238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1905120"/>
            <a:ext cx="838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1600200"/>
            <a:ext cx="236232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aGriT/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GMV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19520" y="3048120"/>
            <a:ext cx="7617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047760" y="4952880"/>
            <a:ext cx="11430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38680" y="29718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1600200"/>
            <a:ext cx="1676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l. In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2666880"/>
            <a:ext cx="16765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setu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&amp; loa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876920"/>
            <a:ext cx="1524240" cy="533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Vis5D or VU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3886200"/>
            <a:ext cx="2133720" cy="1066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TS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666880"/>
            <a:ext cx="2057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EM &amp; Shape Fu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657600"/>
            <a:ext cx="16765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4572000"/>
            <a:ext cx="16765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str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5791320"/>
            <a:ext cx="167616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ost-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438280" y="5866560"/>
            <a:ext cx="16765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valu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3657600"/>
            <a:ext cx="236232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methe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 FE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666880"/>
            <a:ext cx="2133720" cy="685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rMET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5638680"/>
            <a:ext cx="16765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sual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952520" y="3352680"/>
            <a:ext cx="838440" cy="53352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2286000"/>
            <a:ext cx="45720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1981080"/>
            <a:ext cx="5331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4952880"/>
            <a:ext cx="762120" cy="838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6172200"/>
            <a:ext cx="7621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3276720"/>
            <a:ext cx="1143000" cy="761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5257800"/>
            <a:ext cx="457200" cy="3808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86000" y="4267080"/>
            <a:ext cx="1143000" cy="4572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3886200"/>
            <a:ext cx="1143000" cy="30492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601992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46483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5029200"/>
            <a:ext cx="30492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94480" y="4572000"/>
            <a:ext cx="16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PAC c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15080" y="487692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ther c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5943600"/>
            <a:ext cx="1524240" cy="609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A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447920" y="54100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nark – Particle in Cell Model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Based on the Ellipsis PIC code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A "state of the art" code for creeping viscoelastic fluid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Uses a novel Particle in Cell model 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Coupled Eulerian multigrid solver to Lagrangian particles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Used to model problems in earth sciences, e.g. mantle convection and crustal deformation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Limitations of Ellipsi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A classic "hero-code"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30,000 lines of code, several variants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Not parallel, very difficult to adapt and maintain for new constitutive laws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2D and 3D versions, but only for regular rectangular grids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3D version has taken person-years to adapt</a:t>
            </a:r>
            <a:endParaRPr b="0" lang="en-US" sz="16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555-76F8-4DAA-9FBC-EADA6ED6E2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Scientific Software – 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Why is the software not keeping pace with the models?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How can we change the way we build scientific software?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Goals for scientific software development 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The Snark Project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Philosophy, toolkits, off-the-shelf stuff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nark-itechture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nark Finite Element Particle in Cell (PIC) model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nark Particle Models (SPH)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Model Integration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Other Collaboration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Timelines, deliverables, availability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0D8-E134-452F-ABBD-6B7A291CB4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Ellipsi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Very efficient for rheological simulations on large timescales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7772400" cy="2438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22760" y="3535200"/>
            <a:ext cx="4013280" cy="7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DE6-6816-4E8F-8683-ED4E9DFDCE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nark –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Particle in Cell Model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Snark version of ellipsi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3,000 lines of code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An order of magnitude reduction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oes both viscoelastic and thermally driven convection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ully parallel and scaleable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 quick Snark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video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B44-DB5D-4044-A3B2-A9594ACD6B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nark –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Particle in Cell Models (cont)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urrent limitations of the Snark version of Ellipsi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Particle tracking implemented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But not integration/update of matrix from particle states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Coming soon! </a:t>
            </a:r>
            <a:endParaRPr b="0" lang="en-US" sz="1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Only 2D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But 3D version for regular rectangular grids fairly trivial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3D and 2D supported by PETSc</a:t>
            </a:r>
            <a:endParaRPr b="0" lang="en-US" sz="1600" spc="-1" strike="noStrike">
              <a:solidFill>
                <a:srgbClr val="ffffcc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Estimate delivery June/July of prototype</a:t>
            </a:r>
            <a:endParaRPr b="0" lang="en-US" sz="16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3D irregular grid with arbitrary topology by end of 2002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Programmer must hand code matrix setup/update for constitutive laws and boundary condition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Medium-term solution will evolve to setup/update generators from operator specifications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7B1-28E8-4497-9DD5-AF51FE6B5B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nark –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he Mesh/Particle Continuum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There is a clear continuum between mesh and particle based code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PETSc’s support of particle codes is in its infancy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To move towards unified particle/mesh codes, we are putting a “pure particle” code into Snark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PH, Smoothed Particle Hydrodynamic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Used extensively in astrophysic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Ideally suited to: rock fracture, multi-phase mixed fluid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The code framework is readily extensible to incorporate other particle models such as DEM or LMSheath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37F-BE29-4819-9A51-E482B03C81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nark –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he Mesh/Particle Continuum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3D parallel version of SPH built, being extended to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Allow specification of arbitrary boundary condition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imulation of Tsunamis and dam fracture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Handle multi-fluid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tudent working on simulation of pyroclastic flows 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Integrate with PETSc framework of PIC code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Extend to DEM code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 quick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video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two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0D5-3A47-4961-80B2-01B54BE554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Collaboration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urface process modeling (ANU)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Reconstruction software (Monash)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SM (UQ)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Griddle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Linking applications across the grid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ith NO source language chang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24D-FF5B-48C4-8DFE-9936631D00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Couple to Other Model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 Surface models (ANU, UoM);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2392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473-2240-4BF9-B074-DFC0B6F9DB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Couple to Other Model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latyPlusPlus (ACRC, Monash U)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00200" y="2414520"/>
            <a:ext cx="5943600" cy="406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EEF-7853-4F0F-8AB8-ABBE6953CD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Couple to Other Model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SM (QUAKES, UQ)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1722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84E-564C-424F-91B6-4837410838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imelines, Deliverables,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Availability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nark V1 will release midyear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re is a website with copious documentation –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vpac.org/snark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Programmer must hand code matrix setup/update for constitutive laws and boundary condition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edium-term goal is to enable constitutive laws to be input as operator specification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ey project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Be able to model the evolution of the Tibetan plateau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D9E-29B4-49C7-B1FD-415F8EC650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cientific Software –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Requirements for New Models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creasing demands on scientific software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Must be 3D 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2D just not realistic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3D requires massive increase in computational requirement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10,000x10,000 2D grid (10</a:t>
            </a:r>
            <a:r>
              <a:rPr b="0" lang="en-US" sz="20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) is 10</a:t>
            </a:r>
            <a:r>
              <a:rPr b="0" lang="en-US" sz="2000" spc="-1" strike="noStrike" baseline="30000">
                <a:solidFill>
                  <a:srgbClr val="ffffcc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 in 3D!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Therefore must be scaleable-parallel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arallel programming is hard!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Only MPI-parallel programs scale to hundreds of processor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But MPI programs must be crafted by hand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555-EDCD-4368-8CD5-6359C2320D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Thank You!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95024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09480" y="1523880"/>
            <a:ext cx="79250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PAC's HPC Facility – 128 processor Compaq </a:t>
            </a:r>
            <a:r>
              <a:rPr b="1" lang="en-AU" sz="3200" spc="-1" strike="noStrike">
                <a:solidFill>
                  <a:srgbClr val="ffffcc"/>
                </a:solidFill>
                <a:latin typeface="Times New Roman"/>
              </a:rPr>
              <a:t>AlphaServer S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BEC-8250-4023-AB66-7D7282C7DF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cientific Software –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Requirements for Geoscienc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Increasing demands to be able to rapidly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Quickly test new model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corporate different rheological models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Requires changing the solver, not just the data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corporate new observational data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Models must be linked and interoperate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3BC-E589-43AE-B0B6-53BFCAC449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Scientific Software –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What's Wrong With This Pictur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cientific Software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Largely been built "from scratch" in Fortran and C 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Each team or project builds their own specialized programs (codes)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To meet their own specific model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Codes start small, but soon grow by "feature-creep"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Evolve to "hero-codes" – maintenance and extension require heroic efforts, eventually all thrown away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"Cut and paste" programming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Little or no reuse or sharing of modul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Limited to simple, low-level libraries (e.g. BLAS)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Little or no change in productivity in decad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010-A979-4A05-AB39-D2580F0AC5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What Can We Learn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from Commercial Software?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mmercial software development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n order-of-magnitude increase in productivity since 1990, by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Using Generators, Frameworks, extensible libraries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omponent-based technology 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For example, JBuilder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Why has scientific software development not kept pace?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356-11AB-4992-AC5C-54FBAA16C3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What Inhibits Productivity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in Scientific Software?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ocus on publications and grant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o incentive to build reusable software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o publication or grant credit for doing it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ack of expertise in modern software engineering among computational scientist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ntil recently, no effective large-scale reusable component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F44-6B13-4F84-8F78-1FD588B4A5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What Are We Doing </a:t>
            </a:r>
            <a:br>
              <a:rPr sz="3000"/>
            </a:b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About It in Australia?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orm a major national earth sciences consortium – ACcES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ll the major computational earth science research groups involved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NU, UQ, Monash U,  U of Melbourne, CSIRO, VPAC, ...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Get long-term Federal funding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ostly for </a:t>
            </a:r>
            <a:r>
              <a:rPr b="1" i="1" lang="en-US" sz="2800" spc="-1" strike="noStrike">
                <a:solidFill>
                  <a:srgbClr val="ffffcc"/>
                </a:solidFill>
                <a:latin typeface="Comic Sans MS"/>
              </a:rPr>
              <a:t>software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 fair amount of compute grunt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2C0-D02E-4E89-A1BA-C3674CAD9A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Black"/>
              </a:rPr>
              <a:t>Goals for Geoscience Softwar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Reduce custom code by an order of magnitude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us reduce the time to build and test new models from months to day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caleable parallel program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reate a framework for  combined particle and grid code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Model interoperability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A2C-4925-40A6-B62E-51E95C5C1A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23:13:00Z</dcterms:created>
  <dc:creator>David</dc:creator>
  <dc:description/>
  <dc:language>en-US</dc:language>
  <cp:lastModifiedBy>Bill Appelbe</cp:lastModifiedBy>
  <cp:lastPrinted>2001-08-22T03:13:51Z</cp:lastPrinted>
  <dcterms:modified xsi:type="dcterms:W3CDTF">2002-05-27T07:53:00Z</dcterms:modified>
  <cp:revision>512</cp:revision>
  <dc:subject/>
  <dc:title>VPAC Facility Introduction</dc:title>
</cp:coreProperties>
</file>