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.wmf" ContentType="image/x-wmf"/>
  <Override PartName="/ppt/media/image10.wmf" ContentType="image/x-wmf"/>
  <Override PartName="/ppt/media/image2.png" ContentType="image/png"/>
  <Override PartName="/ppt/media/image4.jpeg" ContentType="image/jpe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9A87-B040-4D81-AA94-553960E0D43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48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 We  turn to  sensitiv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nsitivity means the ratio of the responses for two increments </a:t>
            </a:r>
            <a:r>
              <a:rPr b="1" lang="en-US" sz="2400" spc="-1" strike="noStrike">
                <a:solidFill>
                  <a:srgbClr val="000000"/>
                </a:solidFill>
                <a:latin typeface="MT Extra"/>
                <a:ea typeface="MT Extra"/>
              </a:rPr>
              <a:t>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and  </a:t>
            </a:r>
            <a:r>
              <a:rPr b="1" lang="en-US" sz="2400" spc="-1" strike="noStrike">
                <a:solidFill>
                  <a:srgbClr val="000000"/>
                </a:solidFill>
                <a:latin typeface="MT Extra"/>
                <a:ea typeface="MT Extra"/>
              </a:rPr>
              <a:t>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’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T Extra"/>
                <a:ea typeface="MT Extra"/>
              </a:rPr>
              <a:t>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and </a:t>
            </a:r>
            <a:r>
              <a:rPr b="1" lang="en-US" sz="2400" spc="-1" strike="noStrike">
                <a:solidFill>
                  <a:srgbClr val="000000"/>
                </a:solidFill>
                <a:latin typeface="MT Extra"/>
                <a:ea typeface="MT Extra"/>
              </a:rPr>
              <a:t>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’ are the energy release rates . Controlling variable x can be stress, strain, time, etc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F7AC-312E-4888-BD74-D8664E1ED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8631-41AD-4553-B336-B3679DF7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A0D4-8F89-42B0-9068-71BE28A59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0301-A666-4142-8F40-74FBD6157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8F92-45BD-4FC4-8D85-2CA9FF43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327D-3496-420B-8B64-1B3B1FA1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9386-4498-4F12-A75A-E7B2B2AA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F240-7D54-48AA-B8F8-329A9792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35E0-5DB6-40E3-8B17-B5E4EC78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F760-8F37-4BC4-8C4F-79864001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BF49-791A-442A-AEAD-FCB944DD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D626-ECC5-4118-88D9-F901ED01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74D6-D1D9-45A5-AFE4-9C4C8E281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8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ng-range Stress Re-distribution Resulting from Damage in Heterogeneous Medi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.L.Bai 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Z.K. Jia 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F.J.Ke 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a,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and M.F.Xia 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a,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tate Key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aboratory for Non-linear Mechanics (LNM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nstitute of Mechanics, Chinese Academy of Sciences, Beijing 100080, Ch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epartment of Applied Physics, Beijing University of Aeronautics and Astronautics, Beijing 100083, Ch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 baseline="30000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Department of Physics, Peking University, Beijing 100871, Ch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5560" y="214200"/>
            <a:ext cx="404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ES Meeting, May 5-10, 2002,  Maui,Hawa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logo" descr=""/>
          <p:cNvPicPr/>
          <p:nvPr/>
        </p:nvPicPr>
        <p:blipFill>
          <a:blip r:embed="rId2"/>
          <a:stretch/>
        </p:blipFill>
        <p:spPr>
          <a:xfrm>
            <a:off x="7740720" y="6122880"/>
            <a:ext cx="1403280" cy="7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logo" descr=""/>
          <p:cNvPicPr/>
          <p:nvPr/>
        </p:nvPicPr>
        <p:blipFill>
          <a:blip r:embed="rId2"/>
          <a:stretch/>
        </p:blipFill>
        <p:spPr>
          <a:xfrm>
            <a:off x="7740720" y="6122880"/>
            <a:ext cx="1403280" cy="735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33520" y="5257800"/>
                <a:ext cx="563868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</m:d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;</m:t>
                          </m:r>
                        </m:e>
                      </m:mr>
                      <m:mr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90" name=""/>
          <p:cNvGraphicFramePr/>
          <p:nvPr/>
        </p:nvGraphicFramePr>
        <p:xfrm>
          <a:off x="1371600" y="0"/>
          <a:ext cx="6172200" cy="534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0"/>
                    <a:ext cx="6172200" cy="53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3338280" y="727200"/>
            <a:ext cx="1038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= 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= 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1219320" y="685800"/>
            <a:ext cx="6221520" cy="5427720"/>
            <a:chOff x="1219320" y="685800"/>
            <a:chExt cx="6221520" cy="5427720"/>
          </a:xfrm>
        </p:grpSpPr>
        <p:graphicFrame>
          <p:nvGraphicFramePr>
            <p:cNvPr id="94" name=""/>
            <p:cNvGraphicFramePr/>
            <p:nvPr/>
          </p:nvGraphicFramePr>
          <p:xfrm>
            <a:off x="1219320" y="685800"/>
            <a:ext cx="6095880" cy="5427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19320" y="685800"/>
                      <a:ext cx="6095880" cy="542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" name=""/>
            <p:cNvSpPr/>
            <p:nvPr/>
          </p:nvSpPr>
          <p:spPr>
            <a:xfrm>
              <a:off x="6402240" y="1219320"/>
              <a:ext cx="103860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 = 1.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 =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 = 2.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7" name="logo" descr=""/>
          <p:cNvPicPr/>
          <p:nvPr/>
        </p:nvPicPr>
        <p:blipFill>
          <a:blip r:embed="rId4"/>
          <a:stretch/>
        </p:blipFill>
        <p:spPr>
          <a:xfrm>
            <a:off x="7740720" y="6122880"/>
            <a:ext cx="1403280" cy="7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2133360" y="1219320"/>
            <a:ext cx="5859720" cy="5319720"/>
            <a:chOff x="2133360" y="1219320"/>
            <a:chExt cx="5859720" cy="5319720"/>
          </a:xfrm>
        </p:grpSpPr>
        <p:sp>
          <p:nvSpPr>
            <p:cNvPr id="99" name=""/>
            <p:cNvSpPr/>
            <p:nvPr/>
          </p:nvSpPr>
          <p:spPr>
            <a:xfrm>
              <a:off x="3048120" y="2057760"/>
              <a:ext cx="3962520" cy="37335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24640" y="1219320"/>
              <a:ext cx="380880" cy="519120"/>
            </a:xfrm>
            <a:prstGeom prst="upArrow">
              <a:avLst>
                <a:gd name="adj1" fmla="val 50000"/>
                <a:gd name="adj2" fmla="val 3407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0800000">
              <a:off x="4800240" y="6019920"/>
              <a:ext cx="381240" cy="519120"/>
            </a:xfrm>
            <a:prstGeom prst="upArrow">
              <a:avLst>
                <a:gd name="adj1" fmla="val 50000"/>
                <a:gd name="adj2" fmla="val 3404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0" y="3505320"/>
              <a:ext cx="762120" cy="76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5400000">
              <a:off x="7543080" y="4039560"/>
              <a:ext cx="380880" cy="519120"/>
            </a:xfrm>
            <a:prstGeom prst="upArrow">
              <a:avLst>
                <a:gd name="adj1" fmla="val 50000"/>
                <a:gd name="adj2" fmla="val 3407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197600">
              <a:off x="2202480" y="3817440"/>
              <a:ext cx="380880" cy="519120"/>
            </a:xfrm>
            <a:prstGeom prst="upArrow">
              <a:avLst>
                <a:gd name="adj1" fmla="val 50000"/>
                <a:gd name="adj2" fmla="val 3407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97000" y="228600"/>
            <a:ext cx="65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herical(3-D) and cylindrical(2-D) configur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838080" y="4668840"/>
                <a:ext cx="304812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σ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θ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7" name="logo" descr=""/>
          <p:cNvPicPr/>
          <p:nvPr/>
        </p:nvPicPr>
        <p:blipFill>
          <a:blip r:embed="rId2"/>
          <a:stretch/>
        </p:blipFill>
        <p:spPr>
          <a:xfrm>
            <a:off x="7740720" y="6122880"/>
            <a:ext cx="1403280" cy="7351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304920" y="228600"/>
            <a:ext cx="10210680" cy="3657600"/>
            <a:chOff x="304920" y="228600"/>
            <a:chExt cx="10210680" cy="3657600"/>
          </a:xfrm>
        </p:grpSpPr>
        <p:sp>
          <p:nvSpPr>
            <p:cNvPr id="109" name=""/>
            <p:cNvSpPr/>
            <p:nvPr/>
          </p:nvSpPr>
          <p:spPr>
            <a:xfrm>
              <a:off x="380880" y="1371600"/>
              <a:ext cx="1013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elastic-brittle constitutive relation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5638680" y="3124080"/>
                  <a:ext cx="2895840" cy="3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σ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ν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ν</m:t>
                      </m:r>
                      <m:r>
                        <m:t xml:space="preserve">)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σ</m:t>
                          </m:r>
                        </m:num>
                        <m:den>
                          <m:sSub>
                            <m:e>
                              <m:r>
                                <m:t xml:space="preserve">Eε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den>
                      </m:f>
                      <m:r>
                        <m:t xml:space="preserve">∗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5715000" y="2209680"/>
                  <a:ext cx="1573200" cy="83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ε</m:t>
                              </m:r>
                            </m:e>
                          </m:acc>
                        </m:e>
                        <m:sub>
                          <m:r>
                            <m:t xml:space="preserve">θ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ε</m:t>
                              </m:r>
                            </m:e>
                            <m:sub>
                              <m:r>
                                <m:t xml:space="preserve">θ</m:t>
                              </m:r>
                            </m:sub>
                          </m:sSub>
                        </m:num>
                        <m:den>
                          <m:r>
                            <m:t xml:space="preserve">ε</m:t>
                          </m:r>
                          <m:r>
                            <m:t xml:space="preserve">∗</m:t>
                          </m:r>
                        </m:den>
                      </m:f>
                      <m:r>
                        <m:t xml:space="preserve">&g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2" name=""/>
            <p:cNvSpPr/>
            <p:nvPr/>
          </p:nvSpPr>
          <p:spPr>
            <a:xfrm>
              <a:off x="304920" y="1295280"/>
              <a:ext cx="8458200" cy="2590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8960" y="457200"/>
              <a:ext cx="459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- Model (3-D)   ---   D = 1 -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914400" y="3009960"/>
                  <a:ext cx="2438280" cy="50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σ</m:t>
                              </m:r>
                            </m:e>
                          </m:acc>
                        </m:e>
                        <m:sub>
                          <m:r>
                            <m:t xml:space="preserve">θ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[</m:t>
                      </m:r>
                      <m:r>
                        <m:t xml:space="preserve">ν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ε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ε</m:t>
                              </m:r>
                            </m:e>
                          </m:acc>
                        </m:e>
                        <m:sub>
                          <m:r>
                            <m:t xml:space="preserve">θ</m:t>
                          </m:r>
                        </m:sub>
                      </m:sSub>
                      <m:r>
                        <m:t xml:space="preserve">]</m:t>
                      </m:r>
                      <m:sSubSup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ε</m:t>
                              </m:r>
                            </m:e>
                          </m:acc>
                        </m:e>
                        <m:sub>
                          <m:r>
                            <m:t xml:space="preserve">θ</m:t>
                          </m:r>
                        </m:sub>
                        <m:sup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q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5" name=""/>
                <p:cNvSpPr txBox="1"/>
                <p:nvPr/>
              </p:nvSpPr>
              <p:spPr>
                <a:xfrm>
                  <a:off x="914400" y="2354400"/>
                  <a:ext cx="320040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σ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[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ν</m:t>
                      </m:r>
                      <m:r>
                        <m:t xml:space="preserve">)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ε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ν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ε</m:t>
                              </m:r>
                            </m:e>
                          </m:acc>
                        </m:e>
                        <m:sub>
                          <m:r>
                            <m:t xml:space="preserve">θ</m:t>
                          </m:r>
                        </m:sub>
                      </m:sSub>
                      <m:r>
                        <m:t xml:space="preserve">]</m:t>
                      </m:r>
                      <m:sSubSup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ε</m:t>
                              </m:r>
                            </m:e>
                          </m:acc>
                        </m:e>
                        <m:sub>
                          <m:r>
                            <m:t xml:space="preserve">θ</m:t>
                          </m:r>
                        </m:sub>
                        <m:sup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q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5105520" y="228600"/>
                  <a:ext cx="1038240" cy="89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ε</m:t>
                              </m:r>
                            </m:e>
                          </m:acc>
                        </m:e>
                        <m:sub>
                          <m:r>
                            <m:t xml:space="preserve">θ</m:t>
                          </m:r>
                        </m:sub>
                        <m:sup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q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4952880" y="2895480"/>
          <a:ext cx="24185520" cy="3156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2880" y="2895480"/>
                    <a:ext cx="24185520" cy="31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1666080" y="685800"/>
            <a:ext cx="534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astic-brittle constitutive relation ( 2 - 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33520" y="1854360"/>
            <a:ext cx="25471440" cy="4341600"/>
            <a:chOff x="533520" y="1854360"/>
            <a:chExt cx="25471440" cy="4341600"/>
          </a:xfrm>
        </p:grpSpPr>
        <p:sp>
          <p:nvSpPr>
            <p:cNvPr id="121" name=""/>
            <p:cNvSpPr/>
            <p:nvPr/>
          </p:nvSpPr>
          <p:spPr>
            <a:xfrm>
              <a:off x="5182200" y="1854360"/>
              <a:ext cx="223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ixed-Mod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2" name=""/>
            <p:cNvGraphicFramePr/>
            <p:nvPr/>
          </p:nvGraphicFramePr>
          <p:xfrm>
            <a:off x="533520" y="2895480"/>
            <a:ext cx="25471440" cy="330048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12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33520" y="2895480"/>
                      <a:ext cx="25471440" cy="330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4" name=""/>
            <p:cNvSpPr/>
            <p:nvPr/>
          </p:nvSpPr>
          <p:spPr>
            <a:xfrm>
              <a:off x="764280" y="1893960"/>
              <a:ext cx="162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- Mod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505320" y="1066680"/>
                <a:ext cx="8380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</m:e>
                      <m:sub>
                        <m:r>
                          <m:t xml:space="preserve">θ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6" name="logo" descr=""/>
          <p:cNvPicPr/>
          <p:nvPr/>
        </p:nvPicPr>
        <p:blipFill>
          <a:blip r:embed="rId6"/>
          <a:stretch/>
        </p:blipFill>
        <p:spPr>
          <a:xfrm>
            <a:off x="7740720" y="6122880"/>
            <a:ext cx="1403280" cy="7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-14040" y="2514600"/>
            <a:ext cx="910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alance equation leads to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-lin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dinary differential equ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displacemen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04920" y="4267080"/>
                <a:ext cx="83818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ν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ν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u</m:t>
                        </m:r>
                        <m:sSup>
                          <m:e>
                            <m:r>
                              <m:t xml:space="preserve">'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+</m:t>
                    </m:r>
                    <m:r>
                      <m:t xml:space="preserve">ν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vq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u</m:t>
                        </m:r>
                        <m:r>
                          <m:t xml:space="preserve">'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νq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828800" y="1219320"/>
                <a:ext cx="106668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809880" y="1143000"/>
                <a:ext cx="9144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θ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3276720" y="4267080"/>
            <a:ext cx="457200" cy="914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4320" y="270000"/>
            <a:ext cx="54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verning Equation (Displacement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logo" descr=""/>
          <p:cNvPicPr/>
          <p:nvPr/>
        </p:nvPicPr>
        <p:blipFill>
          <a:blip r:embed="rId2"/>
          <a:stretch/>
        </p:blipFill>
        <p:spPr>
          <a:xfrm>
            <a:off x="7740720" y="6122880"/>
            <a:ext cx="1403280" cy="7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Cont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1.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2. A Heterogeneous Model of Stress Re-Distribution (SRD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SRD Results of th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4.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logo" descr=""/>
          <p:cNvPicPr/>
          <p:nvPr/>
        </p:nvPicPr>
        <p:blipFill>
          <a:blip r:embed="rId2"/>
          <a:stretch/>
        </p:blipFill>
        <p:spPr>
          <a:xfrm>
            <a:off x="7740720" y="6122880"/>
            <a:ext cx="1403280" cy="7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4286160" y="1066680"/>
          <a:ext cx="4857840" cy="495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86160" y="1066680"/>
                    <a:ext cx="485784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9" name="logo" descr=""/>
          <p:cNvPicPr/>
          <p:nvPr/>
        </p:nvPicPr>
        <p:blipFill>
          <a:blip r:embed="rId4"/>
          <a:stretch/>
        </p:blipFill>
        <p:spPr>
          <a:xfrm>
            <a:off x="7740720" y="6122880"/>
            <a:ext cx="1403280" cy="7351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590920" y="19810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0" y="0"/>
            <a:ext cx="5105520" cy="6407640"/>
            <a:chOff x="0" y="0"/>
            <a:chExt cx="5105520" cy="6407640"/>
          </a:xfrm>
        </p:grpSpPr>
        <mc:AlternateContent>
          <mc:Choice xmlns:a14="http://schemas.microsoft.com/office/drawing/2010/main" Requires="a14">
            <p:sp>
              <p:nvSpPr>
                <p:cNvPr id="142" name=""/>
                <p:cNvSpPr txBox="1"/>
                <p:nvPr/>
              </p:nvSpPr>
              <p:spPr>
                <a:xfrm>
                  <a:off x="244440" y="2590920"/>
                  <a:ext cx="2133720" cy="49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ν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ν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ν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ν</m:t>
                          </m:r>
                        </m:den>
                      </m:f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3" name=""/>
                <p:cNvSpPr txBox="1"/>
                <p:nvPr/>
              </p:nvSpPr>
              <p:spPr>
                <a:xfrm>
                  <a:off x="2743200" y="2629080"/>
                  <a:ext cx="2286000" cy="38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+</m:t>
                      </m:r>
                      <m:r>
                        <m:t xml:space="preserve">ν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ν</m:t>
                      </m:r>
                      <m:r>
                        <m:t xml:space="preserve">)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4" name=""/>
                <p:cNvSpPr txBox="1"/>
                <p:nvPr/>
              </p:nvSpPr>
              <p:spPr>
                <a:xfrm>
                  <a:off x="701640" y="0"/>
                  <a:ext cx="3124080" cy="12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≈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45" name=""/>
            <p:cNvSpPr/>
            <p:nvPr/>
          </p:nvSpPr>
          <p:spPr>
            <a:xfrm>
              <a:off x="780120" y="1828800"/>
              <a:ext cx="33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 - D                  2 - 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30040" y="3387600"/>
              <a:ext cx="437184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1/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               p                        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              3                        2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.2            2.66                   1.7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.5            2.16                   1.3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.75          1.75                   1.0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4920" y="3048120"/>
              <a:ext cx="19047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19520" y="3048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0" y="2362320"/>
              <a:ext cx="510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0" y="4648320"/>
              <a:ext cx="510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0" y="3276720"/>
              <a:ext cx="510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838080" y="838080"/>
            <a:ext cx="7391520" cy="5803920"/>
            <a:chOff x="838080" y="838080"/>
            <a:chExt cx="7391520" cy="5803920"/>
          </a:xfrm>
        </p:grpSpPr>
        <p:graphicFrame>
          <p:nvGraphicFramePr>
            <p:cNvPr id="153" name=""/>
            <p:cNvGraphicFramePr/>
            <p:nvPr/>
          </p:nvGraphicFramePr>
          <p:xfrm>
            <a:off x="838080" y="838080"/>
            <a:ext cx="7391520" cy="5803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5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38080" y="838080"/>
                      <a:ext cx="7391520" cy="580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5" name=""/>
            <p:cNvSpPr/>
            <p:nvPr/>
          </p:nvSpPr>
          <p:spPr>
            <a:xfrm>
              <a:off x="6323400" y="3352680"/>
              <a:ext cx="1783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mod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ixed mod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last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6" name="logo" descr=""/>
          <p:cNvPicPr/>
          <p:nvPr/>
        </p:nvPicPr>
        <p:blipFill>
          <a:blip r:embed="rId4"/>
          <a:stretch/>
        </p:blipFill>
        <p:spPr>
          <a:xfrm>
            <a:off x="7740720" y="6122880"/>
            <a:ext cx="1403280" cy="7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logo" descr=""/>
          <p:cNvPicPr/>
          <p:nvPr/>
        </p:nvPicPr>
        <p:blipFill>
          <a:blip r:embed="rId2"/>
          <a:stretch/>
        </p:blipFill>
        <p:spPr>
          <a:xfrm>
            <a:off x="7740720" y="6122880"/>
            <a:ext cx="1403280" cy="73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1752480" y="784080"/>
          <a:ext cx="5334120" cy="504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784080"/>
                    <a:ext cx="5334120" cy="504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6171120" y="1143000"/>
            <a:ext cx="178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a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xed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22960" y="57168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=1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A Heterogeneous Model of Stress Re-Distribution (SRD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SRD Results of th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logo" descr=""/>
          <p:cNvPicPr/>
          <p:nvPr/>
        </p:nvPicPr>
        <p:blipFill>
          <a:blip r:embed="rId2"/>
          <a:stretch/>
        </p:blipFill>
        <p:spPr>
          <a:xfrm>
            <a:off x="7740720" y="6122880"/>
            <a:ext cx="1403280" cy="7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523880" y="1066680"/>
            <a:ext cx="6811920" cy="4896000"/>
            <a:chOff x="1523880" y="1066680"/>
            <a:chExt cx="6811920" cy="4896000"/>
          </a:xfrm>
        </p:grpSpPr>
        <p:graphicFrame>
          <p:nvGraphicFramePr>
            <p:cNvPr id="163" name=""/>
            <p:cNvGraphicFramePr/>
            <p:nvPr/>
          </p:nvGraphicFramePr>
          <p:xfrm>
            <a:off x="1523880" y="1066680"/>
            <a:ext cx="6629400" cy="4896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3880" y="1066680"/>
                      <a:ext cx="662940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5" name=""/>
            <p:cNvSpPr/>
            <p:nvPr/>
          </p:nvSpPr>
          <p:spPr>
            <a:xfrm>
              <a:off x="6552000" y="2666880"/>
              <a:ext cx="17838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mod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ixed mod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lastic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6" name="logo" descr=""/>
          <p:cNvPicPr/>
          <p:nvPr/>
        </p:nvPicPr>
        <p:blipFill>
          <a:blip r:embed="rId4"/>
          <a:stretch/>
        </p:blipFill>
        <p:spPr>
          <a:xfrm>
            <a:off x="7740720" y="6122880"/>
            <a:ext cx="1403280" cy="7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914400" y="1144440"/>
          <a:ext cx="6629400" cy="502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144440"/>
                    <a:ext cx="6629400" cy="502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6475680" y="1600200"/>
            <a:ext cx="178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xed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a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99280" y="72396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=1.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logo" descr=""/>
          <p:cNvPicPr/>
          <p:nvPr/>
        </p:nvPicPr>
        <p:blipFill>
          <a:blip r:embed="rId4"/>
          <a:stretch/>
        </p:blipFill>
        <p:spPr>
          <a:xfrm>
            <a:off x="7740720" y="6122880"/>
            <a:ext cx="1403280" cy="7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043360" y="374760"/>
            <a:ext cx="543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FE Simulati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vs 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Math1"/>
              </a:rPr>
              <a:t>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0.25, q=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logo" descr=""/>
          <p:cNvPicPr/>
          <p:nvPr/>
        </p:nvPicPr>
        <p:blipFill>
          <a:blip r:embed="rId2"/>
          <a:stretch/>
        </p:blipFill>
        <p:spPr>
          <a:xfrm>
            <a:off x="7740720" y="6122880"/>
            <a:ext cx="1403280" cy="7351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66688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838080" y="1066680"/>
            <a:ext cx="8534520" cy="6476760"/>
            <a:chOff x="838080" y="1066680"/>
            <a:chExt cx="8534520" cy="6476760"/>
          </a:xfrm>
        </p:grpSpPr>
        <p:grpSp>
          <p:nvGrpSpPr>
            <p:cNvPr id="176" name=""/>
            <p:cNvGrpSpPr/>
            <p:nvPr/>
          </p:nvGrpSpPr>
          <p:grpSpPr>
            <a:xfrm>
              <a:off x="838080" y="1066680"/>
              <a:ext cx="7391160" cy="6476760"/>
              <a:chOff x="838080" y="1066680"/>
              <a:chExt cx="7391160" cy="647676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838080" y="1066680"/>
                <a:ext cx="7391160" cy="6476760"/>
                <a:chOff x="838080" y="1066680"/>
                <a:chExt cx="7391160" cy="6476760"/>
              </a:xfrm>
            </p:grpSpPr>
            <p:graphicFrame>
              <p:nvGraphicFramePr>
                <p:cNvPr id="178" name=""/>
                <p:cNvGraphicFramePr/>
                <p:nvPr/>
              </p:nvGraphicFramePr>
              <p:xfrm>
                <a:off x="838080" y="1066680"/>
                <a:ext cx="7391160" cy="647676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79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838080" y="1066680"/>
                          <a:ext cx="7391160" cy="6476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80" name=""/>
                <p:cNvSpPr/>
                <p:nvPr/>
              </p:nvSpPr>
              <p:spPr>
                <a:xfrm>
                  <a:off x="4071600" y="6739920"/>
                  <a:ext cx="538920" cy="32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" name=""/>
              <p:cNvSpPr/>
              <p:nvPr/>
            </p:nvSpPr>
            <p:spPr>
              <a:xfrm>
                <a:off x="4724280" y="1600200"/>
                <a:ext cx="685800" cy="762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4800600" y="1447920"/>
              <a:ext cx="457200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oading steps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oading steps 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oading steps 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75256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762120" y="1066680"/>
          <a:ext cx="6781680" cy="529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066680"/>
                    <a:ext cx="6781680" cy="529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2789640" y="270000"/>
            <a:ext cx="543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FE Simulati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  D vs 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Math1"/>
              </a:rPr>
              <a:t>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0.25, q=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logo" descr=""/>
          <p:cNvPicPr/>
          <p:nvPr/>
        </p:nvPicPr>
        <p:blipFill>
          <a:blip r:embed="rId4"/>
          <a:stretch/>
        </p:blipFill>
        <p:spPr>
          <a:xfrm>
            <a:off x="7740720" y="6116760"/>
            <a:ext cx="1403280" cy="734760"/>
          </a:xfrm>
          <a:prstGeom prst="rect">
            <a:avLst/>
          </a:prstGeom>
          <a:ln w="0">
            <a:noFill/>
          </a:ln>
        </p:spPr>
      </p:pic>
      <p:pic>
        <p:nvPicPr>
          <p:cNvPr id="188" name="logo" descr=""/>
          <p:cNvPicPr/>
          <p:nvPr/>
        </p:nvPicPr>
        <p:blipFill>
          <a:blip r:embed="rId5"/>
          <a:stretch/>
        </p:blipFill>
        <p:spPr>
          <a:xfrm>
            <a:off x="7740720" y="6116760"/>
            <a:ext cx="1403280" cy="7347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733920" y="1676520"/>
            <a:ext cx="33526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92440" y="1295280"/>
            <a:ext cx="40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mage fie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successive loading steps 5-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n order to understand why a declustered or characteristic large earthquake may occur with a longer range stress re-distribution observed in CA simulations but aftershocks do not,  we proposed a linear-elastic but heterogeneous-brittle model. The stress re-distribution in the heterogeneous-brittle medium implies a longer-range interaction.  Therefore, it is supposed that the long-range stress re-distribution resulting from damage in heterogeneous media be a quite possible mechanism governing mainshock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logo" descr=""/>
          <p:cNvPicPr/>
          <p:nvPr/>
        </p:nvPicPr>
        <p:blipFill>
          <a:blip r:embed="rId2"/>
          <a:stretch/>
        </p:blipFill>
        <p:spPr>
          <a:xfrm>
            <a:off x="7740720" y="6122880"/>
            <a:ext cx="1403280" cy="7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21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More works are needed to justify the long-range SRD in heterogeneous media</a:t>
            </a:r>
            <a:br>
              <a:rPr sz="3600"/>
            </a:br>
            <a:br>
              <a:rPr sz="3600"/>
            </a:b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1. Direct Simulations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2. Experimental Observa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logo" descr=""/>
          <p:cNvPicPr/>
          <p:nvPr/>
        </p:nvPicPr>
        <p:blipFill>
          <a:blip r:embed="rId2"/>
          <a:stretch/>
        </p:blipFill>
        <p:spPr>
          <a:xfrm>
            <a:off x="7740720" y="6122880"/>
            <a:ext cx="1403280" cy="7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2286000" y="1371600"/>
            <a:ext cx="4395960" cy="357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END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97" name="logo" descr=""/>
          <p:cNvPicPr/>
          <p:nvPr/>
        </p:nvPicPr>
        <p:blipFill>
          <a:blip r:embed="rId2"/>
          <a:stretch/>
        </p:blipFill>
        <p:spPr>
          <a:xfrm>
            <a:off x="7740720" y="6116760"/>
            <a:ext cx="1403280" cy="73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declustered earthquakes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ftershocks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omplete catalog of earthquak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logo" descr=""/>
          <p:cNvPicPr/>
          <p:nvPr/>
        </p:nvPicPr>
        <p:blipFill>
          <a:blip r:embed="rId2"/>
          <a:stretch/>
        </p:blipFill>
        <p:spPr>
          <a:xfrm>
            <a:off x="7740720" y="6122880"/>
            <a:ext cx="1403280" cy="735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18520" y="380880"/>
            <a:ext cx="67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nopoff [PNAS, 2000, 97: 11880-11884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e magnitude distribution of declustered earthqu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 Southern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logo" descr=""/>
          <p:cNvPicPr/>
          <p:nvPr/>
        </p:nvPicPr>
        <p:blipFill>
          <a:blip r:embed="rId2"/>
          <a:stretch/>
        </p:blipFill>
        <p:spPr>
          <a:xfrm>
            <a:off x="7740720" y="6122880"/>
            <a:ext cx="1403280" cy="735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-45000" y="685800"/>
            <a:ext cx="8753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eatherley, Xia and Mora[AGU 2000]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e interaction exponent (p in 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1/r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) determines the effective 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 strain re-distribution in the mode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e effective range decreases rapidly as the exponent (p) incre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lbertus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lbertus Extra Bold"/>
              </a:rPr>
              <a:t>The event size-distribution illustr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lbertus Extra Bold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lbertus Extra Bold"/>
              </a:rPr>
              <a:t>three different populations of ev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lbertus Extra Bold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lbertus Extra Bold"/>
              </a:rPr>
              <a:t>(two-dimensional model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lbertus Extra Bold"/>
                <a:ea typeface="宋体"/>
              </a:rPr>
              <a:t>Characteristic large events          ( p &lt; 1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lbertus Extra Bold"/>
              </a:rPr>
              <a:t>Power-law scaling events            (1.5 &lt; p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zh-CN" sz="2400" spc="-1" strike="noStrike">
                <a:solidFill>
                  <a:srgbClr val="000000"/>
                </a:solidFill>
                <a:latin typeface="Albertus Extra Bold"/>
              </a:rPr>
              <a:t> 2.0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lbertus Extra Bold"/>
              </a:rPr>
              <a:t>Overdamped, no large events      ( p &gt; 2.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685800" y="609480"/>
            <a:ext cx="7543800" cy="5243400"/>
            <a:chOff x="685800" y="609480"/>
            <a:chExt cx="7543800" cy="5243400"/>
          </a:xfrm>
        </p:grpSpPr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685800" y="609480"/>
              <a:ext cx="7543800" cy="52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 rot="10796400">
              <a:off x="2319840" y="3539160"/>
              <a:ext cx="2261880" cy="1309320"/>
            </a:xfrm>
            <a:prstGeom prst="wedgeRoundRectCallout">
              <a:avLst>
                <a:gd name="adj1" fmla="val -79041"/>
                <a:gd name="adj2" fmla="val 33856"/>
                <a:gd name="adj3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-R law : N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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(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Times New Roman"/>
                </a:rPr>
                <a:t>1/ 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Times New Roman"/>
                </a:rPr>
                <a:t>-b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 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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80560" y="2537280"/>
              <a:ext cx="1885680" cy="1079280"/>
            </a:xfrm>
            <a:prstGeom prst="wedgeRoundRectCallout">
              <a:avLst>
                <a:gd name="adj1" fmla="val -30625"/>
                <a:gd name="adj2" fmla="val 151935"/>
                <a:gd name="adj3" fmla="val 16667"/>
              </a:avLst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haracteristic b&lt;=0.7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4" name="logo" descr=""/>
          <p:cNvPicPr/>
          <p:nvPr/>
        </p:nvPicPr>
        <p:blipFill>
          <a:blip r:embed="rId3"/>
          <a:stretch/>
        </p:blipFill>
        <p:spPr>
          <a:xfrm>
            <a:off x="7740720" y="6122880"/>
            <a:ext cx="1403280" cy="735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800440" y="6286680"/>
            <a:ext cx="389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After Weatherley, Xia and Mora, (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11160" y="0"/>
            <a:ext cx="9185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lein et al [AGU 2000]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near elasticity yields long-range stress tensors for a variety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ological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 a two-dimensional dislocation in a three-dimensional homogeneo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astic medium, the magnitude of the stress tensor goes as 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1/r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 geophysicists do not know the actual stress tensors for real fault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ey expect that long-range stress tensors, which are similar to the 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/r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interaction, apply to fa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t is suspected that microcracks in a fault, as well as other “defects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uch as water, screen the 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1/r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interaction, leading to a propos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r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interaction,where 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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, implying a slow decay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ng-range interaction over the fault’s ex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logo" descr=""/>
          <p:cNvPicPr/>
          <p:nvPr/>
        </p:nvPicPr>
        <p:blipFill>
          <a:blip r:embed="rId2"/>
          <a:stretch/>
        </p:blipFill>
        <p:spPr>
          <a:xfrm>
            <a:off x="7740720" y="6122880"/>
            <a:ext cx="1403280" cy="7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77640" y="5486400"/>
            <a:ext cx="709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How stress re -distribution for heterogeneous med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= ?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106720" y="5943600"/>
                <a:ext cx="188424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p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70" name="logo" descr=""/>
          <p:cNvPicPr/>
          <p:nvPr/>
        </p:nvPicPr>
        <p:blipFill>
          <a:blip r:embed="rId2"/>
          <a:stretch/>
        </p:blipFill>
        <p:spPr>
          <a:xfrm>
            <a:off x="7740720" y="6122880"/>
            <a:ext cx="1403280" cy="73512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304920" y="228600"/>
            <a:ext cx="8076960" cy="5091120"/>
            <a:chOff x="304920" y="228600"/>
            <a:chExt cx="8076960" cy="5091120"/>
          </a:xfrm>
        </p:grpSpPr>
        <p:sp>
          <p:nvSpPr>
            <p:cNvPr id="72" name=""/>
            <p:cNvSpPr/>
            <p:nvPr/>
          </p:nvSpPr>
          <p:spPr>
            <a:xfrm>
              <a:off x="304920" y="914400"/>
              <a:ext cx="2971800" cy="37339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600200" y="304920"/>
              <a:ext cx="380880" cy="519120"/>
            </a:xfrm>
            <a:prstGeom prst="upArrow">
              <a:avLst>
                <a:gd name="adj1" fmla="val 50000"/>
                <a:gd name="adj2" fmla="val 3407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705720" y="228600"/>
              <a:ext cx="380880" cy="519120"/>
            </a:xfrm>
            <a:prstGeom prst="upArrow">
              <a:avLst>
                <a:gd name="adj1" fmla="val 50000"/>
                <a:gd name="adj2" fmla="val 3407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0800000">
              <a:off x="1600200" y="4800600"/>
              <a:ext cx="380880" cy="519120"/>
            </a:xfrm>
            <a:prstGeom prst="upArrow">
              <a:avLst>
                <a:gd name="adj1" fmla="val 50000"/>
                <a:gd name="adj2" fmla="val 3407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0800000">
              <a:off x="6781320" y="4800600"/>
              <a:ext cx="381240" cy="519120"/>
            </a:xfrm>
            <a:prstGeom prst="upArrow">
              <a:avLst>
                <a:gd name="adj1" fmla="val 50000"/>
                <a:gd name="adj2" fmla="val 3404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410080" y="914400"/>
              <a:ext cx="2971800" cy="3733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553080" y="2362320"/>
              <a:ext cx="762120" cy="76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733920" y="1905120"/>
              <a:ext cx="976320" cy="1600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71600" y="2362320"/>
              <a:ext cx="762120" cy="76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Cont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1.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A Heterogeneous Model of Stress Re-Distribution (SRD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3. SRD Results of th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4.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logo" descr=""/>
          <p:cNvPicPr/>
          <p:nvPr/>
        </p:nvPicPr>
        <p:blipFill>
          <a:blip r:embed="rId2"/>
          <a:stretch/>
        </p:blipFill>
        <p:spPr>
          <a:xfrm>
            <a:off x="7740720" y="6122880"/>
            <a:ext cx="1403280" cy="7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terogeneous Elastic -Brittl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ame elastic modulus (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oscopically heterogeneous brittle fracture strength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llows a d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(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logo" descr=""/>
          <p:cNvPicPr/>
          <p:nvPr/>
        </p:nvPicPr>
        <p:blipFill>
          <a:blip r:embed="rId2"/>
          <a:stretch/>
        </p:blipFill>
        <p:spPr>
          <a:xfrm>
            <a:off x="7740720" y="6122880"/>
            <a:ext cx="1403280" cy="7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15T15:40:02Z</dcterms:created>
  <dc:creator/>
  <dc:description/>
  <dc:language>en-US</dc:language>
  <cp:lastModifiedBy>bai</cp:lastModifiedBy>
  <dcterms:modified xsi:type="dcterms:W3CDTF">2002-05-24T01:49:58Z</dcterms:modified>
  <cp:revision>49</cp:revision>
  <dc:subject/>
  <dc:title> Long-range Stress Re-distribution Resulting from Damage in Heterogeneous Media </dc:title>
</cp:coreProperties>
</file>