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12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C53-8D1F-4B94-AB49-7FB9D698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6BE-295C-42D8-B68B-50D93BEA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9D0-A41A-448C-9D8D-8A135AE9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35F-E336-491C-A814-671CBCB2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1BC-C883-44C1-B762-D858FEB1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52C-42AB-4DF7-8B15-53F5590A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D43-52A2-4B9A-A2FD-34AF8EE6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094-528F-4CD7-BBE4-744FDBF6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424-ECA1-46CA-A6D9-907AC4F3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E80-29DC-4A7A-9A23-480F6A38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9D9-6DF4-4273-938D-A29584E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F62-82A6-40AF-8F1B-23428D3E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6E60-789C-41D5-982E-93D79D819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868"/>
                </a:solidFill>
                <a:latin typeface="Arial"/>
              </a:rPr>
              <a:t>The GEM Computational System and Recent Scientific 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4952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0003"/>
                </a:solidFill>
                <a:latin typeface="Arial"/>
              </a:rPr>
              <a:t>Andrea Donnel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c0003"/>
                </a:solidFill>
                <a:latin typeface="Arial"/>
              </a:rPr>
              <a:t>Third International ACE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c0003"/>
                </a:solidFill>
                <a:latin typeface="Arial"/>
              </a:rPr>
              <a:t>May 10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ACES_small6" descr=""/>
          <p:cNvPicPr/>
          <p:nvPr/>
        </p:nvPicPr>
        <p:blipFill>
          <a:blip r:embed="rId2"/>
          <a:stretch/>
        </p:blipFill>
        <p:spPr>
          <a:xfrm>
            <a:off x="0" y="5791320"/>
            <a:ext cx="1006560" cy="960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772400" y="6140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Tahoma"/>
              </a:rPr>
              <a:t>G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M/SERVO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14264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and algorithm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: GRID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al Environments/P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handling/arch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mining/pattern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pe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end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p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es needed and other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d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Tahoma"/>
              </a:rPr>
              <a:t>Solid Earth Research Virtual Observatory (SER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157880" y="4141800"/>
            <a:ext cx="1352520" cy="415800"/>
            <a:chOff x="7157880" y="4141800"/>
            <a:chExt cx="1352520" cy="415800"/>
          </a:xfrm>
        </p:grpSpPr>
        <p:sp>
          <p:nvSpPr>
            <p:cNvPr id="66" name=""/>
            <p:cNvSpPr/>
            <p:nvPr/>
          </p:nvSpPr>
          <p:spPr>
            <a:xfrm>
              <a:off x="7157880" y="4141800"/>
              <a:ext cx="1352520" cy="4158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57880" y="4199760"/>
              <a:ext cx="135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ier2 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699000" y="966960"/>
            <a:ext cx="1066680" cy="276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rch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80200" y="2143080"/>
            <a:ext cx="2171520" cy="828360"/>
            <a:chOff x="5380200" y="2143080"/>
            <a:chExt cx="2171520" cy="828360"/>
          </a:xfrm>
        </p:grpSpPr>
        <p:sp>
          <p:nvSpPr>
            <p:cNvPr id="70" name=""/>
            <p:cNvSpPr/>
            <p:nvPr/>
          </p:nvSpPr>
          <p:spPr>
            <a:xfrm>
              <a:off x="5380200" y="2143080"/>
              <a:ext cx="2171520" cy="828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91160" y="2392200"/>
              <a:ext cx="178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ER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305400" y="3240000"/>
            <a:ext cx="1395360" cy="606600"/>
            <a:chOff x="6305400" y="3240000"/>
            <a:chExt cx="1395360" cy="606600"/>
          </a:xfrm>
        </p:grpSpPr>
        <p:sp>
          <p:nvSpPr>
            <p:cNvPr id="73" name=""/>
            <p:cNvSpPr/>
            <p:nvPr/>
          </p:nvSpPr>
          <p:spPr>
            <a:xfrm>
              <a:off x="6305400" y="3432240"/>
              <a:ext cx="1395360" cy="414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92680" y="3240000"/>
              <a:ext cx="82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23960" y="3432240"/>
            <a:ext cx="1395360" cy="414360"/>
            <a:chOff x="723960" y="3432240"/>
            <a:chExt cx="1395360" cy="414360"/>
          </a:xfrm>
        </p:grpSpPr>
        <p:sp>
          <p:nvSpPr>
            <p:cNvPr id="76" name=""/>
            <p:cNvSpPr/>
            <p:nvPr/>
          </p:nvSpPr>
          <p:spPr>
            <a:xfrm>
              <a:off x="723960" y="3432240"/>
              <a:ext cx="1395360" cy="414360"/>
            </a:xfrm>
            <a:prstGeom prst="ellipse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buClr>
                  <a:srgbClr val="009999"/>
                </a:buClr>
                <a:buSzPct val="80000"/>
                <a:buFont typeface="Monotype Sort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3560" y="3502080"/>
              <a:ext cx="131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oddard</a:t>
              </a: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446720" y="3432240"/>
            <a:ext cx="1393560" cy="414360"/>
            <a:chOff x="4446720" y="3432240"/>
            <a:chExt cx="1393560" cy="414360"/>
          </a:xfrm>
        </p:grpSpPr>
        <p:sp>
          <p:nvSpPr>
            <p:cNvPr id="79" name=""/>
            <p:cNvSpPr/>
            <p:nvPr/>
          </p:nvSpPr>
          <p:spPr>
            <a:xfrm>
              <a:off x="4446720" y="3432240"/>
              <a:ext cx="1393560" cy="414360"/>
            </a:xfrm>
            <a:prstGeom prst="ellipse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84520" y="3502080"/>
              <a:ext cx="131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Langley</a:t>
              </a: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84440" y="3432240"/>
            <a:ext cx="1395360" cy="414360"/>
            <a:chOff x="2584440" y="3432240"/>
            <a:chExt cx="1395360" cy="414360"/>
          </a:xfrm>
        </p:grpSpPr>
        <p:sp>
          <p:nvSpPr>
            <p:cNvPr id="82" name=""/>
            <p:cNvSpPr/>
            <p:nvPr/>
          </p:nvSpPr>
          <p:spPr>
            <a:xfrm>
              <a:off x="2584440" y="3432240"/>
              <a:ext cx="1395360" cy="414360"/>
            </a:xfrm>
            <a:prstGeom prst="ellipse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24040" y="3502080"/>
              <a:ext cx="13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553600" y="3611520"/>
            <a:ext cx="7776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97720" y="3611520"/>
            <a:ext cx="78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44000" y="3611520"/>
            <a:ext cx="7776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43400" y="4809960"/>
            <a:ext cx="1006200" cy="3542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22680" y="486576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4640" y="4809960"/>
            <a:ext cx="1008360" cy="3542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25720" y="486576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4809960"/>
            <a:ext cx="1008000" cy="3542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5080" y="486576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58880" y="4809960"/>
            <a:ext cx="1008000" cy="3542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84440" y="48610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22680" y="1954080"/>
            <a:ext cx="954360" cy="316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886040" y="2868480"/>
            <a:ext cx="3611520" cy="62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823920" y="2922480"/>
            <a:ext cx="1803240" cy="56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18000" y="3046320"/>
            <a:ext cx="371520" cy="336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18400" y="3062160"/>
            <a:ext cx="114120" cy="330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177800" y="4549680"/>
            <a:ext cx="451080" cy="27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92360" y="4484520"/>
            <a:ext cx="103680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7880" y="4376880"/>
            <a:ext cx="2259000" cy="37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59120" y="4443480"/>
            <a:ext cx="162864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8680" y="3933720"/>
            <a:ext cx="30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lly functional problem solving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2880" y="51735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 - 1000 Mbits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734240" y="2381400"/>
            <a:ext cx="774720" cy="531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981920" y="2538360"/>
            <a:ext cx="28260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PS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701120" y="3490920"/>
            <a:ext cx="387360" cy="297000"/>
            <a:chOff x="7701120" y="3490920"/>
            <a:chExt cx="387360" cy="2970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7701120" y="3490920"/>
              <a:ext cx="38736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7824960" y="3578400"/>
              <a:ext cx="1414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HPSS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503440" y="6012000"/>
            <a:ext cx="6512040" cy="103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lug and play composing of parallel programs from algorithmic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n-demand downloads of 100 GB in 5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volume elements rendering in real-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51360" y="4737240"/>
            <a:ext cx="4240080" cy="77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gram-to-program communication in milli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pproximately 100 model c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22360" y="4809960"/>
            <a:ext cx="844200" cy="442800"/>
            <a:chOff x="522360" y="4809960"/>
            <a:chExt cx="844200" cy="442800"/>
          </a:xfrm>
        </p:grpSpPr>
        <p:sp>
          <p:nvSpPr>
            <p:cNvPr id="114" name=""/>
            <p:cNvSpPr/>
            <p:nvPr/>
          </p:nvSpPr>
          <p:spPr>
            <a:xfrm>
              <a:off x="522360" y="4809960"/>
              <a:ext cx="506880" cy="221400"/>
            </a:xfrm>
            <a:prstGeom prst="flowChartMagneticDisk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9040" y="4865400"/>
              <a:ext cx="506880" cy="221400"/>
            </a:xfrm>
            <a:prstGeom prst="flowChartMagneticDisk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7720" y="4957560"/>
              <a:ext cx="506880" cy="221040"/>
            </a:xfrm>
            <a:prstGeom prst="flowChartMagneticDisk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680" y="5031360"/>
              <a:ext cx="506880" cy="221400"/>
            </a:xfrm>
            <a:prstGeom prst="flowChartMagneticDisk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11240" y="522144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1520" y="4986360"/>
            <a:ext cx="3096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69960" y="1843200"/>
            <a:ext cx="17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TBytes/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840280" y="3490920"/>
            <a:ext cx="387360" cy="297000"/>
            <a:chOff x="5840280" y="3490920"/>
            <a:chExt cx="387360" cy="29700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5840280" y="3490920"/>
              <a:ext cx="38736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5964120" y="3578400"/>
              <a:ext cx="1414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HPSS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979800" y="3490920"/>
            <a:ext cx="387360" cy="297000"/>
            <a:chOff x="3979800" y="3490920"/>
            <a:chExt cx="387360" cy="29700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3979800" y="3490920"/>
              <a:ext cx="38736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4103640" y="3578400"/>
              <a:ext cx="1414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HPSS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119320" y="3490920"/>
            <a:ext cx="387360" cy="297000"/>
            <a:chOff x="2119320" y="3490920"/>
            <a:chExt cx="387360" cy="297000"/>
          </a:xfrm>
        </p:grpSpPr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2119320" y="3490920"/>
              <a:ext cx="38736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 txBox="1"/>
            <p:nvPr/>
          </p:nvSpPr>
          <p:spPr>
            <a:xfrm>
              <a:off x="2243160" y="3578400"/>
              <a:ext cx="1414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HPSS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419960" y="2887560"/>
            <a:ext cx="959040" cy="64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537240" y="4141800"/>
            <a:ext cx="1314000" cy="415800"/>
            <a:chOff x="6537240" y="4141800"/>
            <a:chExt cx="1314000" cy="415800"/>
          </a:xfrm>
        </p:grpSpPr>
        <p:sp>
          <p:nvSpPr>
            <p:cNvPr id="132" name=""/>
            <p:cNvSpPr/>
            <p:nvPr/>
          </p:nvSpPr>
          <p:spPr>
            <a:xfrm>
              <a:off x="6537240" y="4141800"/>
              <a:ext cx="1314000" cy="4158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37240" y="4201200"/>
              <a:ext cx="13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ier2 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18040" y="4141800"/>
            <a:ext cx="1274400" cy="415800"/>
            <a:chOff x="5918040" y="4141800"/>
            <a:chExt cx="1274400" cy="415800"/>
          </a:xfrm>
        </p:grpSpPr>
        <p:sp>
          <p:nvSpPr>
            <p:cNvPr id="135" name=""/>
            <p:cNvSpPr/>
            <p:nvPr/>
          </p:nvSpPr>
          <p:spPr>
            <a:xfrm>
              <a:off x="5918040" y="4141800"/>
              <a:ext cx="1274400" cy="4158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18040" y="4201200"/>
              <a:ext cx="127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ier2 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375160" y="4141800"/>
            <a:ext cx="1326960" cy="415800"/>
            <a:chOff x="5375160" y="4141800"/>
            <a:chExt cx="1326960" cy="415800"/>
          </a:xfrm>
        </p:grpSpPr>
        <p:sp>
          <p:nvSpPr>
            <p:cNvPr id="138" name=""/>
            <p:cNvSpPr/>
            <p:nvPr/>
          </p:nvSpPr>
          <p:spPr>
            <a:xfrm>
              <a:off x="5375160" y="4141800"/>
              <a:ext cx="1326960" cy="4158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5160" y="4201200"/>
              <a:ext cx="13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ier2 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275600" y="3846600"/>
            <a:ext cx="182520" cy="322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02360" y="3846600"/>
            <a:ext cx="79560" cy="29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537240" y="3846600"/>
            <a:ext cx="233280" cy="29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48000" y="3814920"/>
            <a:ext cx="609480" cy="35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62200" y="3763800"/>
            <a:ext cx="118764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02200" y="2509920"/>
            <a:ext cx="12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Tier 0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400" y="3639960"/>
            <a:ext cx="10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Ti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4520" y="4322880"/>
            <a:ext cx="9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Ti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59240" y="5560920"/>
            <a:ext cx="11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Ti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524480" y="4168800"/>
            <a:ext cx="1402920" cy="412560"/>
            <a:chOff x="4524480" y="4168800"/>
            <a:chExt cx="1402920" cy="412560"/>
          </a:xfrm>
        </p:grpSpPr>
        <p:sp>
          <p:nvSpPr>
            <p:cNvPr id="150" name=""/>
            <p:cNvSpPr/>
            <p:nvPr/>
          </p:nvSpPr>
          <p:spPr>
            <a:xfrm>
              <a:off x="4524480" y="4168800"/>
              <a:ext cx="1402920" cy="4125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24480" y="4228920"/>
              <a:ext cx="1402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Tier2 Cente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1400040" y="5380200"/>
            <a:ext cx="625680" cy="37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1857240" y="5450040"/>
            <a:ext cx="625680" cy="3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2238480" y="5518080"/>
            <a:ext cx="625320" cy="371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2619360" y="5587920"/>
            <a:ext cx="625320" cy="370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H="1">
            <a:off x="1933200" y="5164200"/>
            <a:ext cx="112680" cy="28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85840" y="5164200"/>
            <a:ext cx="115920" cy="35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79520" y="5164200"/>
            <a:ext cx="187560" cy="42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57280" y="5164200"/>
            <a:ext cx="49068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17960" y="1239840"/>
            <a:ext cx="3861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PB per year data rate in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371520" y="741240"/>
            <a:ext cx="1295280" cy="1244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00200" y="838080"/>
            <a:ext cx="19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65640" y="1582560"/>
            <a:ext cx="1066680" cy="276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rch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082960"/>
            <a:ext cx="10670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own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85960" y="2540160"/>
            <a:ext cx="1067040" cy="276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rch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61960" y="2692440"/>
            <a:ext cx="10670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own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2880" y="2503440"/>
            <a:ext cx="10670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own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16120" y="1352520"/>
            <a:ext cx="133344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5680" y="1792440"/>
            <a:ext cx="520560" cy="82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5120" y="1996920"/>
            <a:ext cx="28440" cy="4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99080" y="1068480"/>
            <a:ext cx="528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80" y="2009880"/>
            <a:ext cx="528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3880" y="1636560"/>
            <a:ext cx="528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30920" y="2112840"/>
            <a:ext cx="528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5360" y="2544840"/>
            <a:ext cx="528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57720" y="2595600"/>
            <a:ext cx="528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37280" y="525600"/>
            <a:ext cx="528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0304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 TeraFLOPs sus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110440" y="3776760"/>
            <a:ext cx="9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00" y="5783400"/>
            <a:ext cx="23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stations, other por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Observator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6019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62120" y="106632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06360" y="605952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42800" y="64008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300600" y="332676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5105520"/>
            <a:ext cx="144792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e &amp; technology app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3765600"/>
            <a:ext cx="167652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omposition into services with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2514600"/>
            <a:ext cx="205740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type cooperative federated data base service integrating 5 datasets of 10 TB e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952880"/>
            <a:ext cx="15238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type data analysis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2666880"/>
            <a:ext cx="1524240" cy="1159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type modeling service capable of integrating 5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3994200"/>
            <a:ext cx="251460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type 1920x1080 pixels at 120 frames per second visualization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1905120"/>
            <a:ext cx="274320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led to 100 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914400"/>
            <a:ext cx="1828800" cy="2864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id earth research virtual observatory (SERV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-demand downloads of 100 GB files from 40 TB datasets within 5 minu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form access to 1000 archive sites with volumes from 1 TB to 1 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Solving Environment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6019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2120" y="9907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06360" y="605952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42800" y="64008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-300600" y="329976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5000760"/>
            <a:ext cx="144792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d platform dependent code fra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191120"/>
            <a:ext cx="220968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type PSE front end (portal) integrating 10 local and remot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2286000"/>
            <a:ext cx="426744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d PSE to Incl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users collaboratory with shared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mless access to high-performance computers linking remote processes over Gb data channe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1371600"/>
            <a:ext cx="205740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d visualization service with volumetric ren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914400"/>
            <a:ext cx="2133720" cy="3503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functional PSE used to develop models for building blocks for simula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-to-program communication in milliseconds using staging, streaming, and advanced cache re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d with SER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g and play composing of parallel programs from algorithmic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3352680"/>
            <a:ext cx="236232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g and play composing of sequential programs from algorithmic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6019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62120" y="152352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06360" y="605952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42800" y="64008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300600" y="331416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5105520"/>
            <a:ext cx="243828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’s GigaFL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 GB 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Gb/s network band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1022400"/>
            <a:ext cx="1828800" cy="335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00 model codes with parallel scaled efficiency of 50%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aFLOPs throughput per subfield per yea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00 TeraFLOPs sustained capability per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elements rendering in rea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352680"/>
            <a:ext cx="342900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to mixture of platforms low cost clusters (20-100) to supercomputers with massive memory and thousands of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entura Basin is Actively Defo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1911240"/>
            <a:ext cx="63248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thridg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7680" y="1292400"/>
            <a:ext cx="8053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ridge class simulation:  100,000 unknowns, 4000 time steps –&gt; 8 hours on high end works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ern California system:  0.5 km resolution –&gt; 100,000 processor hours or 400 hours (17 days) on a dedicated 256 processor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30480" y="3325680"/>
            <a:ext cx="659124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p Gradient Largely Attributable to Low Rigidity Basin F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Fig_11ai" descr=""/>
          <p:cNvPicPr/>
          <p:nvPr/>
        </p:nvPicPr>
        <p:blipFill>
          <a:blip r:embed="rId1"/>
          <a:stretch/>
        </p:blipFill>
        <p:spPr>
          <a:xfrm>
            <a:off x="1249200" y="1295280"/>
            <a:ext cx="644688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eismic Removed from the Interfe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76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895480" y="6324480"/>
            <a:ext cx="3505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seismic Interfe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Data Inversion Show Fault Afterslip as Primary Mech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66680" y="1914480"/>
            <a:ext cx="68580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Volumes from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CE:  50 MB/day onboard, 8GB/day derived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O: 100 GB/day on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TM:  12 TB raw dat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ESat:  1 GB/day onboard, 2 GB/day der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GN: 250MB daily - 7.5 GB/day for re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borne observations:  LI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L:  2 GB/day onboard, 4 GB/day der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spectral imagery:  100GB/day 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g LIDAR:  &gt;20 GB/day, &gt;40 GB/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InSAR and Seismic Anoma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920" y="1143000"/>
            <a:ext cx="4114800" cy="3062160"/>
            <a:chOff x="304920" y="1143000"/>
            <a:chExt cx="4114800" cy="30621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304920" y="1143000"/>
              <a:ext cx="4114800" cy="30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704960" y="2489040"/>
              <a:ext cx="1419120" cy="863640"/>
            </a:xfrm>
            <a:custGeom>
              <a:avLst/>
              <a:gdLst/>
              <a:ahLst/>
              <a:rect l="l" t="t" r="r" b="b"/>
              <a:pathLst>
                <a:path w="894" h="544">
                  <a:moveTo>
                    <a:pt x="9" y="101"/>
                  </a:moveTo>
                  <a:cubicBezTo>
                    <a:pt x="15" y="154"/>
                    <a:pt x="0" y="203"/>
                    <a:pt x="52" y="219"/>
                  </a:cubicBezTo>
                  <a:cubicBezTo>
                    <a:pt x="127" y="270"/>
                    <a:pt x="218" y="266"/>
                    <a:pt x="306" y="278"/>
                  </a:cubicBezTo>
                  <a:cubicBezTo>
                    <a:pt x="363" y="316"/>
                    <a:pt x="366" y="400"/>
                    <a:pt x="424" y="439"/>
                  </a:cubicBezTo>
                  <a:cubicBezTo>
                    <a:pt x="469" y="507"/>
                    <a:pt x="630" y="519"/>
                    <a:pt x="704" y="524"/>
                  </a:cubicBezTo>
                  <a:cubicBezTo>
                    <a:pt x="760" y="544"/>
                    <a:pt x="814" y="541"/>
                    <a:pt x="856" y="499"/>
                  </a:cubicBezTo>
                  <a:cubicBezTo>
                    <a:pt x="894" y="388"/>
                    <a:pt x="886" y="422"/>
                    <a:pt x="856" y="185"/>
                  </a:cubicBezTo>
                  <a:cubicBezTo>
                    <a:pt x="856" y="184"/>
                    <a:pt x="814" y="122"/>
                    <a:pt x="805" y="109"/>
                  </a:cubicBezTo>
                  <a:cubicBezTo>
                    <a:pt x="799" y="101"/>
                    <a:pt x="788" y="84"/>
                    <a:pt x="788" y="84"/>
                  </a:cubicBezTo>
                  <a:cubicBezTo>
                    <a:pt x="775" y="41"/>
                    <a:pt x="789" y="61"/>
                    <a:pt x="729" y="41"/>
                  </a:cubicBezTo>
                  <a:cubicBezTo>
                    <a:pt x="721" y="38"/>
                    <a:pt x="704" y="33"/>
                    <a:pt x="704" y="33"/>
                  </a:cubicBezTo>
                  <a:cubicBezTo>
                    <a:pt x="662" y="36"/>
                    <a:pt x="619" y="36"/>
                    <a:pt x="577" y="41"/>
                  </a:cubicBezTo>
                  <a:cubicBezTo>
                    <a:pt x="551" y="44"/>
                    <a:pt x="504" y="74"/>
                    <a:pt x="475" y="84"/>
                  </a:cubicBezTo>
                  <a:cubicBezTo>
                    <a:pt x="427" y="81"/>
                    <a:pt x="378" y="85"/>
                    <a:pt x="331" y="75"/>
                  </a:cubicBezTo>
                  <a:cubicBezTo>
                    <a:pt x="311" y="71"/>
                    <a:pt x="297" y="52"/>
                    <a:pt x="280" y="41"/>
                  </a:cubicBezTo>
                  <a:cubicBezTo>
                    <a:pt x="253" y="23"/>
                    <a:pt x="195" y="14"/>
                    <a:pt x="162" y="7"/>
                  </a:cubicBezTo>
                  <a:cubicBezTo>
                    <a:pt x="155" y="8"/>
                    <a:pt x="57" y="0"/>
                    <a:pt x="35" y="33"/>
                  </a:cubicBezTo>
                  <a:cubicBezTo>
                    <a:pt x="30" y="40"/>
                    <a:pt x="9" y="163"/>
                    <a:pt x="9" y="101"/>
                  </a:cubicBezTo>
                  <a:close/>
                </a:path>
              </a:pathLst>
            </a:custGeom>
            <a:noFill/>
            <a:ln cap="rnd" w="50760">
              <a:solidFill>
                <a:srgbClr val="ffff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800600" y="1143000"/>
            <a:ext cx="4114800" cy="2971800"/>
            <a:chOff x="4800600" y="1143000"/>
            <a:chExt cx="4114800" cy="2971800"/>
          </a:xfrm>
        </p:grpSpPr>
        <p:pic>
          <p:nvPicPr>
            <p:cNvPr id="233" name="NR_anomaly_cr" descr=""/>
            <p:cNvPicPr/>
            <p:nvPr/>
          </p:nvPicPr>
          <p:blipFill>
            <a:blip r:embed="rId2"/>
            <a:stretch/>
          </p:blipFill>
          <p:spPr>
            <a:xfrm>
              <a:off x="4800600" y="1143000"/>
              <a:ext cx="4114800" cy="29718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234" name=""/>
            <p:cNvSpPr/>
            <p:nvPr/>
          </p:nvSpPr>
          <p:spPr>
            <a:xfrm>
              <a:off x="6324480" y="2565360"/>
              <a:ext cx="1419480" cy="863640"/>
            </a:xfrm>
            <a:custGeom>
              <a:avLst/>
              <a:gdLst/>
              <a:ahLst/>
              <a:rect l="l" t="t" r="r" b="b"/>
              <a:pathLst>
                <a:path w="894" h="544">
                  <a:moveTo>
                    <a:pt x="9" y="101"/>
                  </a:moveTo>
                  <a:cubicBezTo>
                    <a:pt x="15" y="154"/>
                    <a:pt x="0" y="203"/>
                    <a:pt x="52" y="219"/>
                  </a:cubicBezTo>
                  <a:cubicBezTo>
                    <a:pt x="127" y="270"/>
                    <a:pt x="218" y="266"/>
                    <a:pt x="306" y="278"/>
                  </a:cubicBezTo>
                  <a:cubicBezTo>
                    <a:pt x="363" y="316"/>
                    <a:pt x="366" y="400"/>
                    <a:pt x="424" y="439"/>
                  </a:cubicBezTo>
                  <a:cubicBezTo>
                    <a:pt x="469" y="507"/>
                    <a:pt x="630" y="519"/>
                    <a:pt x="704" y="524"/>
                  </a:cubicBezTo>
                  <a:cubicBezTo>
                    <a:pt x="760" y="544"/>
                    <a:pt x="814" y="541"/>
                    <a:pt x="856" y="499"/>
                  </a:cubicBezTo>
                  <a:cubicBezTo>
                    <a:pt x="894" y="388"/>
                    <a:pt x="886" y="422"/>
                    <a:pt x="856" y="185"/>
                  </a:cubicBezTo>
                  <a:cubicBezTo>
                    <a:pt x="856" y="184"/>
                    <a:pt x="814" y="122"/>
                    <a:pt x="805" y="109"/>
                  </a:cubicBezTo>
                  <a:cubicBezTo>
                    <a:pt x="799" y="101"/>
                    <a:pt x="788" y="84"/>
                    <a:pt x="788" y="84"/>
                  </a:cubicBezTo>
                  <a:cubicBezTo>
                    <a:pt x="775" y="41"/>
                    <a:pt x="789" y="61"/>
                    <a:pt x="729" y="41"/>
                  </a:cubicBezTo>
                  <a:cubicBezTo>
                    <a:pt x="721" y="38"/>
                    <a:pt x="704" y="33"/>
                    <a:pt x="704" y="33"/>
                  </a:cubicBezTo>
                  <a:cubicBezTo>
                    <a:pt x="662" y="36"/>
                    <a:pt x="619" y="36"/>
                    <a:pt x="577" y="41"/>
                  </a:cubicBezTo>
                  <a:cubicBezTo>
                    <a:pt x="551" y="44"/>
                    <a:pt x="504" y="74"/>
                    <a:pt x="475" y="84"/>
                  </a:cubicBezTo>
                  <a:cubicBezTo>
                    <a:pt x="427" y="81"/>
                    <a:pt x="378" y="85"/>
                    <a:pt x="331" y="75"/>
                  </a:cubicBezTo>
                  <a:cubicBezTo>
                    <a:pt x="311" y="71"/>
                    <a:pt x="297" y="52"/>
                    <a:pt x="280" y="41"/>
                  </a:cubicBezTo>
                  <a:cubicBezTo>
                    <a:pt x="253" y="23"/>
                    <a:pt x="195" y="14"/>
                    <a:pt x="162" y="7"/>
                  </a:cubicBezTo>
                  <a:cubicBezTo>
                    <a:pt x="155" y="8"/>
                    <a:pt x="57" y="0"/>
                    <a:pt x="35" y="33"/>
                  </a:cubicBezTo>
                  <a:cubicBezTo>
                    <a:pt x="30" y="40"/>
                    <a:pt x="9" y="163"/>
                    <a:pt x="9" y="101"/>
                  </a:cubicBez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33520" y="447984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anomaly shows up in both the postseismic deformation indicated by GPS and InSAR (Donnellan et al) and seismic anomalies identified using Principal Component Analysis (Rundle and Tiamp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jave desert shows a similar correlation near Barstow and the Blackwater Fault (Rundle and Tiampo; Pelt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nt GPS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6880" cy="3486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14400" y="5470560"/>
            <a:ext cx="7620120" cy="398880"/>
          </a:xfrm>
          <a:prstGeom prst="rect">
            <a:avLst/>
          </a:prstGeom>
          <a:solidFill>
            <a:srgbClr val="ffe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pre-seismic velocity field, particularly near the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743800" cy="5249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43200" y="1066680"/>
            <a:ext cx="3809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malous Motion at JPL was Observed Related to the Northridge Earthqu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52280" y="1295280"/>
            <a:ext cx="5867280" cy="3962160"/>
            <a:chOff x="152280" y="1295280"/>
            <a:chExt cx="5867280" cy="396216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586728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rot="16200000">
              <a:off x="-858240" y="2916360"/>
              <a:ext cx="267624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sidual Geodetic Longitude (c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715000" y="2133720"/>
            <a:ext cx="3048120" cy="22161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8076960" cy="1618560"/>
          </a:xfrm>
          <a:prstGeom prst="rect">
            <a:avLst/>
          </a:prstGeom>
          <a:solidFill>
            <a:srgbClr val="ffe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PL is several fault dimensions away from the Northridge rup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quake probably triggered slip on the Sierra Madre Fault in the upper 0.5 k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additional observations collected near JP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extent of anomaly is unknown due to lack of st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158436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rra Madre 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91320" y="38480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791320" y="4038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38880" y="403848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595680" y="1725480"/>
            <a:ext cx="5338800" cy="3813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17520" y="1879560"/>
            <a:ext cx="347976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s are shown as light lines, the earthquakes at model year 4526 are shown as dark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s indicate that major events are clustered in time like the real ev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s using a realistic heterogeneous earth structure are computationally intens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ifornia 3D Fault Sim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ing Faults as Interacting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4760" y="129528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ern California Seism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8440" y="5257800"/>
            <a:ext cx="194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tesy John Rund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aul_Figure_3" descr=""/>
          <p:cNvPicPr/>
          <p:nvPr/>
        </p:nvPicPr>
        <p:blipFill>
          <a:blip r:embed="rId1"/>
          <a:stretch/>
        </p:blipFill>
        <p:spPr>
          <a:xfrm>
            <a:off x="4495680" y="1616040"/>
            <a:ext cx="4419720" cy="4251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37360" y="129528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-time Stress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54160" y="1844640"/>
            <a:ext cx="4241520" cy="3094200"/>
            <a:chOff x="254160" y="1844640"/>
            <a:chExt cx="4241520" cy="3094200"/>
          </a:xfrm>
        </p:grpSpPr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254160" y="1844640"/>
              <a:ext cx="4241520" cy="30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 txBox="1"/>
            <p:nvPr/>
          </p:nvSpPr>
          <p:spPr>
            <a:xfrm>
              <a:off x="254160" y="1844640"/>
              <a:ext cx="4241520" cy="309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28600" y="5867280"/>
            <a:ext cx="8686800" cy="767160"/>
          </a:xfrm>
          <a:prstGeom prst="rect">
            <a:avLst/>
          </a:prstGeom>
          <a:solidFill>
            <a:srgbClr val="ffe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ents likely occur as a result of stress re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observed on different faults, sometimes a few fault dimensions a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3429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752480"/>
            <a:ext cx="80010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of Northridge postseismic motion was aseism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slip on the mainshock rupture plane responsible for most of the de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vidence for lower crustal relaxation playing a major role in postseismic mo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deformation is consistent with that observed before the earthqu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48769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981080"/>
            <a:ext cx="815364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velocity gradient largely attributable to a low rigidity bas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rust is a minor player in interseismic and postseismic motion in this region – consistent with a cold lower cru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quake probably triggered slip on the Sierra Madre 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lumes from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dynamo model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GB of storage for one model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5 TB/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need of 10 r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earthquake/lithospheric mode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TB/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10 PB/run (multiple scales combined, many reg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GB/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 2 TB/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le convect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B/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 10PB/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agnetic field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GB/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 300 GB/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We Will Be in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olid earth missions f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aBytes of data per year gathered in a distributed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alyzed by widely distributed scientists using widely distributed computa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ing need for integration of information from multiple sources on multiple scales into a integrat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-wide computational systems supporting gathering of 3 PetaBytes of data per year, integrating analysis, visualization, simulation, and interpre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oard adaptiv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pace to ground bandwidth of TeraBytes per day per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nsmission and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le capabilities (fra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rocessing (100 Petaflops per mission per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storage (National Virtual Solid Earth Science Observatory) using cooperative federated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computational environment for analysis (interoperable framework, por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rdware (Hierarchic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entral Petaflop computers with TeraBytes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ign-on seam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computers for decomposabl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 computers (e.g. Beowulf for cost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computational capabilities (e.g. for storage, visualization, comp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olv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software integration into multidisciplinar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between data,software, and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8:37:19Z</dcterms:created>
  <dc:creator>Andrea Donnellan</dc:creator>
  <dc:description/>
  <dc:language>en-US</dc:language>
  <cp:lastModifiedBy>Andrea Donnellan</cp:lastModifiedBy>
  <dcterms:modified xsi:type="dcterms:W3CDTF">2002-05-10T19:54:10Z</dcterms:modified>
  <cp:revision>143</cp:revision>
  <dc:subject/>
  <dc:title>PowerPoint Presentation  -  Earthquakes and Space Technology</dc:title>
</cp:coreProperties>
</file>