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B67-A734-43DD-BB0A-43AF3040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07E-E506-434B-B690-F2F5356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676-E65A-429F-9F9A-F36DF0A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62E-C04F-4F99-902D-74AD639E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CE2-D91C-4A1C-929A-8C99234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50C-9E18-487C-BCE5-097E8C1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E0B-CD61-4AC2-9E5F-1FADCD2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7A9-D011-4A8E-BE41-D81C136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C6E-6101-4381-9998-F153E1AF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501-EF56-42B8-90C3-55B6B752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76F-22B6-478A-8591-236A7CB3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91D-16D5-4A51-B2B6-EAA5A06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EE5-44F0-489C-BC29-664FB8C48C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GeoFEM Kinematic </a:t>
            </a:r>
            <a:br>
              <a:rPr sz="4200"/>
            </a:br>
            <a:r>
              <a:rPr b="1" lang="ja-JP" sz="4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Earthquake Cycle Modeling </a:t>
            </a:r>
            <a:br>
              <a:rPr sz="4200"/>
            </a:br>
            <a:r>
              <a:rPr b="1" lang="ja-JP" sz="4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in the Japanese Islands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429000"/>
            <a:ext cx="8348760" cy="204444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irahara, K.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1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 H. Suito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1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 M. Hyodo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1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. Iizuka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2)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nd H. Okuda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oy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2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search Organization for Information 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(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niversity of Toky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Sources of Crustal De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tectonicsource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464080" cy="4765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419720" y="3581280"/>
            <a:ext cx="4572000" cy="2590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05120" y="3718080"/>
            <a:ext cx="6527520" cy="2323440"/>
            <a:chOff x="1905120" y="3718080"/>
            <a:chExt cx="6527520" cy="2323440"/>
          </a:xfrm>
        </p:grpSpPr>
        <p:sp>
          <p:nvSpPr>
            <p:cNvPr id="239" name=""/>
            <p:cNvSpPr/>
            <p:nvPr/>
          </p:nvSpPr>
          <p:spPr>
            <a:xfrm>
              <a:off x="4564080" y="5581800"/>
              <a:ext cx="38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669900"/>
                  </a:solidFill>
                  <a:latin typeface="Arial"/>
                </a:rPr>
                <a:t>４．</a:t>
              </a:r>
              <a:r>
                <a:rPr b="0" lang="ja-JP" sz="2400" spc="-1" strike="noStrike">
                  <a:solidFill>
                    <a:srgbClr val="669900"/>
                  </a:solidFill>
                  <a:latin typeface="Arial"/>
                </a:rPr>
                <a:t>1896 Riku’u Earthqua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tectonicsource5" descr=""/>
            <p:cNvPicPr/>
            <p:nvPr/>
          </p:nvPicPr>
          <p:blipFill>
            <a:blip r:embed="rId2"/>
            <a:stretch/>
          </p:blipFill>
          <p:spPr>
            <a:xfrm>
              <a:off x="1905120" y="3718080"/>
              <a:ext cx="47916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76320" y="1219320"/>
            <a:ext cx="8695440" cy="3760560"/>
            <a:chOff x="76320" y="1219320"/>
            <a:chExt cx="8695440" cy="3760560"/>
          </a:xfrm>
        </p:grpSpPr>
        <p:pic>
          <p:nvPicPr>
            <p:cNvPr id="242" name="tectonicsource3" descr=""/>
            <p:cNvPicPr/>
            <p:nvPr/>
          </p:nvPicPr>
          <p:blipFill>
            <a:blip r:embed="rId3"/>
            <a:stretch/>
          </p:blipFill>
          <p:spPr>
            <a:xfrm>
              <a:off x="76320" y="1219320"/>
              <a:ext cx="1828800" cy="37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60120" y="4133880"/>
              <a:ext cx="42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Arial"/>
                </a:rPr>
                <a:t>２．</a:t>
              </a:r>
              <a:r>
                <a:rPr b="0" lang="ja-JP" sz="2400" spc="-1" strike="noStrike">
                  <a:solidFill>
                    <a:srgbClr val="3333cc"/>
                  </a:solidFill>
                  <a:latin typeface="Arial"/>
                </a:rPr>
                <a:t>Subduction of AM 0-30 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819520" y="2133720"/>
            <a:ext cx="6070680" cy="3497040"/>
            <a:chOff x="2819520" y="2133720"/>
            <a:chExt cx="6070680" cy="3497040"/>
          </a:xfrm>
        </p:grpSpPr>
        <p:pic>
          <p:nvPicPr>
            <p:cNvPr id="245" name="tectonicsource2" descr=""/>
            <p:cNvPicPr/>
            <p:nvPr/>
          </p:nvPicPr>
          <p:blipFill>
            <a:blip r:embed="rId4"/>
            <a:stretch/>
          </p:blipFill>
          <p:spPr>
            <a:xfrm>
              <a:off x="2819520" y="2133720"/>
              <a:ext cx="348588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561200" y="3600360"/>
              <a:ext cx="43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１．</a:t>
              </a: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Subduction of PA 15-60 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82520" y="1600200"/>
            <a:ext cx="8078760" cy="3932280"/>
            <a:chOff x="1082520" y="1600200"/>
            <a:chExt cx="8078760" cy="3932280"/>
          </a:xfrm>
        </p:grpSpPr>
        <p:pic>
          <p:nvPicPr>
            <p:cNvPr id="248" name="tectonicsource4" descr=""/>
            <p:cNvPicPr/>
            <p:nvPr/>
          </p:nvPicPr>
          <p:blipFill>
            <a:blip r:embed="rId5"/>
            <a:stretch/>
          </p:blipFill>
          <p:spPr>
            <a:xfrm>
              <a:off x="1082520" y="1600200"/>
              <a:ext cx="425160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261320" y="4667400"/>
              <a:ext cx="48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３．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Interplate Earthqu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　　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Since 1890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（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M&gt;7.4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）</a:t>
              </a:r>
              <a:r>
                <a:rPr b="0" lang="ja-JP" sz="2400" spc="-1" strike="noStrike">
                  <a:solidFill>
                    <a:srgbClr val="ff66cc"/>
                  </a:solidFill>
                  <a:latin typeface="Arial"/>
                </a:rPr>
                <a:t>17 eq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00400" y="1371600"/>
            <a:ext cx="2189520" cy="192276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100%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up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32767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457200"/>
            <a:ext cx="6858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813200" y="1371600"/>
            <a:ext cx="3899520" cy="4800600"/>
            <a:chOff x="4813200" y="1371600"/>
            <a:chExt cx="3899520" cy="4800600"/>
          </a:xfrm>
        </p:grpSpPr>
        <p:sp>
          <p:nvSpPr>
            <p:cNvPr id="254" name=""/>
            <p:cNvSpPr/>
            <p:nvPr/>
          </p:nvSpPr>
          <p:spPr>
            <a:xfrm>
              <a:off x="4813200" y="1371600"/>
              <a:ext cx="3791880" cy="4800600"/>
            </a:xfrm>
            <a:prstGeom prst="foldedCorner">
              <a:avLst>
                <a:gd name="adj" fmla="val 125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34800" y="1431360"/>
              <a:ext cx="3877920" cy="46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★</a:t>
              </a:r>
              <a:r>
                <a:rPr b="0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Year  Interplate Earthquakes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36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Kinkaz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38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hioy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1940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Shyakot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52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okac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58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Etor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1964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Niig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68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okac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Eastern Hokka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73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Nemu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Miyag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1983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Central Japan Se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1993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3333cc"/>
                  </a:solidFill>
                  <a:latin typeface="Arial"/>
                </a:rPr>
                <a:t>Southwest Hokkai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Off-Sanrik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181400" cy="5657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Horizontal Displacement since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38440" y="116208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 Observation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Result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ps-h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3684600" cy="5073480"/>
          </a:xfrm>
          <a:prstGeom prst="rect">
            <a:avLst/>
          </a:prstGeom>
          <a:ln w="0">
            <a:noFill/>
          </a:ln>
        </p:spPr>
      </p:pic>
      <p:pic>
        <p:nvPicPr>
          <p:cNvPr id="260" name="gps-h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684600" cy="50734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-429120" y="1143000"/>
            <a:ext cx="4240440" cy="3504960"/>
            <a:chOff x="-429120" y="1143000"/>
            <a:chExt cx="4240440" cy="3504960"/>
          </a:xfrm>
        </p:grpSpPr>
        <p:sp>
          <p:nvSpPr>
            <p:cNvPr id="262" name=""/>
            <p:cNvSpPr/>
            <p:nvPr/>
          </p:nvSpPr>
          <p:spPr>
            <a:xfrm>
              <a:off x="0" y="1143000"/>
              <a:ext cx="2741040" cy="3504960"/>
            </a:xfrm>
            <a:prstGeom prst="foldedCorner">
              <a:avLst>
                <a:gd name="adj" fmla="val 12495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429120" y="1235520"/>
              <a:ext cx="42404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〇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nd × </a:t>
              </a:r>
              <a:r>
                <a:rPr b="0" lang="zh-CN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：　　　　　　　　　　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〇　　　　　　　　　　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stward rate of 2cm/y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ong the Pacific co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stern Hokka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×</a:t>
              </a:r>
              <a:r>
                <a:rPr b="0" lang="zh-CN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　　　　　　　　　　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thern Hokkaido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stward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thern Tohoku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mall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030480" y="2173320"/>
            <a:ext cx="5669280" cy="3361680"/>
            <a:chOff x="3030480" y="2173320"/>
            <a:chExt cx="5669280" cy="3361680"/>
          </a:xfrm>
        </p:grpSpPr>
        <p:grpSp>
          <p:nvGrpSpPr>
            <p:cNvPr id="265" name=""/>
            <p:cNvGrpSpPr/>
            <p:nvPr/>
          </p:nvGrpSpPr>
          <p:grpSpPr>
            <a:xfrm>
              <a:off x="3492000" y="2173320"/>
              <a:ext cx="5207760" cy="1444680"/>
              <a:chOff x="3492000" y="2173320"/>
              <a:chExt cx="5207760" cy="1444680"/>
            </a:xfrm>
          </p:grpSpPr>
          <p:sp>
            <p:nvSpPr>
              <p:cNvPr id="266" name=""/>
              <p:cNvSpPr/>
              <p:nvPr/>
            </p:nvSpPr>
            <p:spPr>
              <a:xfrm rot="3123000">
                <a:off x="3885840" y="2209680"/>
                <a:ext cx="762120" cy="1371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3123000">
                <a:off x="7543440" y="2209680"/>
                <a:ext cx="762120" cy="1371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030480" y="3989880"/>
              <a:ext cx="4492440" cy="1545120"/>
              <a:chOff x="3030480" y="3989880"/>
              <a:chExt cx="4492440" cy="1545120"/>
            </a:xfrm>
          </p:grpSpPr>
          <p:sp>
            <p:nvSpPr>
              <p:cNvPr id="269" name=""/>
              <p:cNvSpPr/>
              <p:nvPr/>
            </p:nvSpPr>
            <p:spPr>
              <a:xfrm rot="970200">
                <a:off x="3200040" y="4038480"/>
                <a:ext cx="533520" cy="1295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970200">
                <a:off x="6819480" y="4191120"/>
                <a:ext cx="533520" cy="1295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3429000" y="1752480"/>
            <a:ext cx="4267080" cy="533520"/>
            <a:chOff x="3429000" y="1752480"/>
            <a:chExt cx="4267080" cy="533520"/>
          </a:xfrm>
        </p:grpSpPr>
        <p:sp>
          <p:nvSpPr>
            <p:cNvPr id="272" name=""/>
            <p:cNvSpPr/>
            <p:nvPr/>
          </p:nvSpPr>
          <p:spPr>
            <a:xfrm>
              <a:off x="3429000" y="1752480"/>
              <a:ext cx="609480" cy="5335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86600" y="1752480"/>
              <a:ext cx="609480" cy="5335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000600" y="3443400"/>
            <a:ext cx="4514400" cy="733680"/>
            <a:chOff x="3000600" y="3443400"/>
            <a:chExt cx="4514400" cy="733680"/>
          </a:xfrm>
        </p:grpSpPr>
        <p:sp>
          <p:nvSpPr>
            <p:cNvPr id="275" name=""/>
            <p:cNvSpPr/>
            <p:nvPr/>
          </p:nvSpPr>
          <p:spPr>
            <a:xfrm rot="605400">
              <a:off x="3048120" y="3505320"/>
              <a:ext cx="761760" cy="6094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605400">
              <a:off x="6705720" y="3505320"/>
              <a:ext cx="761760" cy="6094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98720" y="2743200"/>
            <a:ext cx="4340160" cy="762120"/>
            <a:chOff x="2898720" y="2743200"/>
            <a:chExt cx="4340160" cy="762120"/>
          </a:xfrm>
        </p:grpSpPr>
        <p:sp>
          <p:nvSpPr>
            <p:cNvPr id="278" name=""/>
            <p:cNvSpPr/>
            <p:nvPr/>
          </p:nvSpPr>
          <p:spPr>
            <a:xfrm>
              <a:off x="2898720" y="2743200"/>
              <a:ext cx="68256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6320" y="2819520"/>
              <a:ext cx="68256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716800" y="5486400"/>
            <a:ext cx="913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Comparison of Rec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Horizontal Velocity 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79280" y="0"/>
            <a:ext cx="69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mparison of Principal Strain Rate in 100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gsi-ps" descr=""/>
          <p:cNvPicPr/>
          <p:nvPr/>
        </p:nvPicPr>
        <p:blipFill>
          <a:blip r:embed="rId1"/>
          <a:stretch/>
        </p:blipFill>
        <p:spPr>
          <a:xfrm>
            <a:off x="42840" y="914400"/>
            <a:ext cx="8948880" cy="58672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1490040" y="3867840"/>
            <a:ext cx="6358680" cy="1651320"/>
            <a:chOff x="1490040" y="3867840"/>
            <a:chExt cx="6358680" cy="1651320"/>
          </a:xfrm>
        </p:grpSpPr>
        <p:sp>
          <p:nvSpPr>
            <p:cNvPr id="285" name=""/>
            <p:cNvSpPr/>
            <p:nvPr/>
          </p:nvSpPr>
          <p:spPr>
            <a:xfrm rot="1430400">
              <a:off x="1749600" y="3976560"/>
              <a:ext cx="774360" cy="144792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666880" y="4648320"/>
              <a:ext cx="5335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430400">
              <a:off x="6400440" y="3962520"/>
              <a:ext cx="774720" cy="144756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15200" y="4648320"/>
              <a:ext cx="5335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94120" y="447840"/>
            <a:ext cx="4348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tion by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Ishikaw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himoto(1999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41920" y="914400"/>
            <a:ext cx="2738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gsi-ps2" descr=""/>
          <p:cNvPicPr/>
          <p:nvPr/>
        </p:nvPicPr>
        <p:blipFill>
          <a:blip r:embed="rId1"/>
          <a:stretch/>
        </p:blipFill>
        <p:spPr>
          <a:xfrm>
            <a:off x="152280" y="1144440"/>
            <a:ext cx="8991720" cy="5789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8600" y="838080"/>
            <a:ext cx="490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rincipal Strain Rate in 100 ye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5800" y="25560"/>
            <a:ext cx="3736080" cy="1221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istorical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 Assumed 1930 S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r the 1896 Afterslip Ev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Possible Slow Sl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636200" y="1162080"/>
            <a:ext cx="64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Planes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ent Accumulation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mom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37480" cy="4122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52280" y="5713560"/>
            <a:ext cx="5181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Backslip Accumulated Mo  = 3.3×10</a:t>
            </a:r>
            <a:r>
              <a:rPr b="0" lang="ja-JP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2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(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ismic Released Mo = 1.37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seismic Released  Mo = 4.9×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6640" y="5729400"/>
            <a:ext cx="3507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ismic Coupling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%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aseismic sli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Moment Accu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7162560" cy="6327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974680" y="152280"/>
            <a:ext cx="569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PS observed velo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9094400">
            <a:off x="3962160" y="3123720"/>
            <a:ext cx="28954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1276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K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6960" y="525780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rt Stable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996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 Black"/>
              </a:rPr>
              <a:t>Southwest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808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4680" y="0"/>
            <a:ext cx="39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sumed tectonic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2280" y="1969920"/>
            <a:ext cx="5410440" cy="488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2320" y="457200"/>
            <a:ext cx="476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1. Subduction of the Philippine Sea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upling zone: 6-3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ckslip rate  : 2-4-6cm/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2. Eastward motion of the Amurian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orizontal velocity: 1cm/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3. Subduction of the Pacific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upling zone: 15-6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ckslip rate   : 8cm/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495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 Black"/>
              </a:rPr>
              <a:t>Southwest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352320" y="44956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cross_mesh" descr=""/>
          <p:cNvPicPr/>
          <p:nvPr/>
        </p:nvPicPr>
        <p:blipFill>
          <a:blip r:embed="rId2"/>
          <a:stretch/>
        </p:blipFill>
        <p:spPr>
          <a:xfrm>
            <a:off x="4495680" y="4878360"/>
            <a:ext cx="4648320" cy="1381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561720" y="3962520"/>
            <a:ext cx="18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Nodes   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： 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24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lements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2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795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79720" y="514440"/>
            <a:ext cx="3959280" cy="6343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927080" y="5181480"/>
            <a:ext cx="4114800" cy="838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4480" y="3581280"/>
            <a:ext cx="31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earthqu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7967400">
            <a:off x="5853240" y="4651920"/>
            <a:ext cx="671760" cy="304920"/>
          </a:xfrm>
          <a:prstGeom prst="rightArrow">
            <a:avLst>
              <a:gd name="adj1" fmla="val 50000"/>
              <a:gd name="adj2" fmla="val 5507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rical earthquak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22860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723360" cy="5103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S:Assumed Coupling distrib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5040" y="4211640"/>
            <a:ext cx="118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914400"/>
            <a:ext cx="8349120" cy="58532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Present status of developing GeoFEM earthqu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cycle simulation module in a lo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( as Drs. Okuda, Nakajima, Kato and Furum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presented in this meeting)</a:t>
            </a:r>
            <a:r>
              <a:rPr b="1" lang="ja-JP" sz="9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Simulation of crustal deformation using kinema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earthquake cycle based on disloc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Northeast Japan model: 1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　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Compare present GPS and 100-year conven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　  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geodetic observations with comput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　  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Possible slow slip event in early 1900’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Southwest Japan model: 3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　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GPS observed concentrated deformed z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NK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4038480"/>
            <a:ext cx="396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ducting 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813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505320" y="2792520"/>
            <a:ext cx="5638680" cy="40654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946480" y="2133720"/>
            <a:ext cx="27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0 years after E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3857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ducting 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33920" y="2919240"/>
            <a:ext cx="54100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Velocity Field due to PH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Interplate Great Earthqua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79600" y="1523880"/>
            <a:ext cx="5516640" cy="4768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657600" y="2971800"/>
            <a:ext cx="15238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10200" y="2362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2971800"/>
            <a:ext cx="141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oks lik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astic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318200">
            <a:off x="14796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9298800">
            <a:off x="5898960" y="2285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87160" y="251460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isco-ela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ffec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5400" y="1461960"/>
            <a:ext cx="406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duction of PA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stward motion of AM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3992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49568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1440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d Present Velocity Fiel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054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495680" y="1681200"/>
            <a:ext cx="46483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144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with observed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572000" cy="3992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991720" cy="655308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286000"/>
            <a:ext cx="457200" cy="609480"/>
          </a:xfrm>
          <a:prstGeom prst="downArrow">
            <a:avLst>
              <a:gd name="adj1" fmla="val 37500"/>
              <a:gd name="adj2" fmla="val 409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286000"/>
            <a:ext cx="457200" cy="609480"/>
          </a:xfrm>
          <a:prstGeom prst="downArrow">
            <a:avLst>
              <a:gd name="adj1" fmla="val 37500"/>
              <a:gd name="adj2" fmla="val 409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5257800" y="1828800"/>
            <a:ext cx="457200" cy="609840"/>
          </a:xfrm>
          <a:prstGeom prst="downArrow">
            <a:avLst>
              <a:gd name="adj1" fmla="val 37500"/>
              <a:gd name="adj2" fmla="val 4098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752480"/>
            <a:ext cx="2666880" cy="762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8080" y="3580200"/>
            <a:ext cx="7696440" cy="3048120"/>
          </a:xfrm>
          <a:prstGeom prst="wedgeRoundRectCallout">
            <a:avLst>
              <a:gd name="adj1" fmla="val -601"/>
              <a:gd name="adj2" fmla="val 62134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051400">
            <a:off x="3429000" y="4952520"/>
            <a:ext cx="4572000" cy="762120"/>
          </a:xfrm>
          <a:prstGeom prst="cube">
            <a:avLst>
              <a:gd name="adj" fmla="val 5584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962520"/>
            <a:ext cx="5029200" cy="914400"/>
          </a:xfrm>
          <a:prstGeom prst="cube">
            <a:avLst>
              <a:gd name="adj" fmla="val 6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876920"/>
            <a:ext cx="1447920" cy="15228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952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00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143000"/>
            <a:ext cx="457200" cy="762120"/>
          </a:xfrm>
          <a:prstGeom prst="downArrow">
            <a:avLst>
              <a:gd name="adj1" fmla="val 33333"/>
              <a:gd name="adj2" fmla="val 3438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85800"/>
            <a:ext cx="495288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905120"/>
            <a:ext cx="4952880" cy="533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895480"/>
            <a:ext cx="518148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520" y="779400"/>
            <a:ext cx="49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si-Static Modeling of Earthquak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295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 on and between Fa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998720"/>
            <a:ext cx="50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Modeling of Earthquake Rup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35600" y="1752480"/>
            <a:ext cx="26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ve Propagation in Heterogeneous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971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 and Prediction of Strong 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2209320" y="54100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2437920" y="586692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0"/>
            <a:endCxn id="68" idx="0"/>
          </p:cNvCxnSpPr>
          <p:nvPr/>
        </p:nvCxnSpPr>
        <p:spPr>
          <a:xfrm>
            <a:off x="2743200" y="5429160"/>
            <a:ext cx="3816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/>
          <p:nvPr/>
        </p:nvCxnSpPr>
        <p:spPr>
          <a:xfrm flipV="1">
            <a:off x="2437920" y="5428440"/>
            <a:ext cx="3056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endCxn id="68" idx="0"/>
          </p:cNvCxnSpPr>
          <p:nvPr/>
        </p:nvCxnSpPr>
        <p:spPr>
          <a:xfrm flipV="1">
            <a:off x="2819520" y="5847840"/>
            <a:ext cx="3052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72" idx="0"/>
          </p:cNvCxnSpPr>
          <p:nvPr/>
        </p:nvCxnSpPr>
        <p:spPr>
          <a:xfrm flipV="1">
            <a:off x="3123720" y="5428800"/>
            <a:ext cx="2293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7432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6172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5867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867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581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plate Earthquak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Inland Activ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38480"/>
            <a:ext cx="761760" cy="228600"/>
          </a:xfrm>
          <a:prstGeom prst="leftRightArrow">
            <a:avLst>
              <a:gd name="adj1" fmla="val 41667"/>
              <a:gd name="adj2" fmla="val 66337"/>
            </a:avLst>
          </a:prstGeom>
          <a:gradFill rotWithShape="0">
            <a:gsLst>
              <a:gs pos="0">
                <a:srgbClr val="ff0000"/>
              </a:gs>
              <a:gs pos="100000">
                <a:srgbClr val="ff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683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Visco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Interaction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6600" y="365760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ictional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-4752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Earthquake Generation and Strong Mo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</a:t>
            </a: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in 3-D Heterogeneous Media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409720" y="3962520"/>
            <a:ext cx="609840" cy="990360"/>
            <a:chOff x="5409720" y="3962520"/>
            <a:chExt cx="609840" cy="990360"/>
          </a:xfrm>
        </p:grpSpPr>
        <p:sp>
          <p:nvSpPr>
            <p:cNvPr id="84" name=""/>
            <p:cNvSpPr/>
            <p:nvPr/>
          </p:nvSpPr>
          <p:spPr>
            <a:xfrm flipH="1">
              <a:off x="5562360" y="3962520"/>
              <a:ext cx="45720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409720" y="4572000"/>
              <a:ext cx="152280" cy="380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410080" y="4343400"/>
              <a:ext cx="457200" cy="6094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66920" y="3962520"/>
              <a:ext cx="152280" cy="3808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14440" y="3962520"/>
            <a:ext cx="914760" cy="1066680"/>
            <a:chOff x="4114440" y="3962520"/>
            <a:chExt cx="914760" cy="1066680"/>
          </a:xfrm>
        </p:grpSpPr>
        <p:sp>
          <p:nvSpPr>
            <p:cNvPr id="89" name=""/>
            <p:cNvSpPr/>
            <p:nvPr/>
          </p:nvSpPr>
          <p:spPr>
            <a:xfrm flipH="1">
              <a:off x="4114440" y="3962520"/>
              <a:ext cx="60948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4800" y="4572000"/>
              <a:ext cx="30492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419360" y="4419720"/>
              <a:ext cx="609480" cy="6094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3962520"/>
              <a:ext cx="304920" cy="4572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 rot="2411400">
            <a:off x="4647960" y="5105520"/>
            <a:ext cx="609480" cy="228600"/>
          </a:xfrm>
          <a:prstGeom prst="leftRightArrow">
            <a:avLst>
              <a:gd name="adj1" fmla="val 41667"/>
              <a:gd name="adj2" fmla="val 5307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411400">
            <a:off x="3687480" y="5151600"/>
            <a:ext cx="990360" cy="228600"/>
          </a:xfrm>
          <a:prstGeom prst="leftRightArrow">
            <a:avLst>
              <a:gd name="adj1" fmla="val 41667"/>
              <a:gd name="adj2" fmla="val 862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962520"/>
            <a:ext cx="1371600" cy="914400"/>
          </a:xfrm>
          <a:prstGeom prst="parallelogram">
            <a:avLst>
              <a:gd name="adj" fmla="val 9375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876920"/>
            <a:ext cx="609840" cy="75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396252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638320" y="4572000"/>
            <a:ext cx="1600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43600" y="3962520"/>
            <a:ext cx="1828800" cy="838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38320" y="4800600"/>
            <a:ext cx="304920" cy="6094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3809880"/>
            <a:ext cx="1295280" cy="1219320"/>
            <a:chOff x="1219320" y="3809880"/>
            <a:chExt cx="1295280" cy="1219320"/>
          </a:xfrm>
        </p:grpSpPr>
        <p:cxnSp>
          <p:nvCxnSpPr>
            <p:cNvPr id="102" name=""/>
            <p:cNvCxnSpPr/>
            <p:nvPr/>
          </p:nvCxnSpPr>
          <p:spPr>
            <a:xfrm>
              <a:off x="1219320" y="44953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/>
            <p:nvPr/>
          </p:nvCxnSpPr>
          <p:spPr>
            <a:xfrm flipV="1">
              <a:off x="1600200" y="4266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1676520" y="4267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76520" y="419076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2840" y="4190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52480" y="3962160"/>
              <a:ext cx="75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3962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05120" y="4190760"/>
              <a:ext cx="76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440" y="4190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828800" y="411480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10040" y="3886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7400" y="4114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057400" y="4038480"/>
              <a:ext cx="76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4038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62320" y="419076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38098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81080" y="41148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133720" y="3886200"/>
              <a:ext cx="76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09680" y="3809880"/>
              <a:ext cx="759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3886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286000" y="3886200"/>
              <a:ext cx="76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438280" y="426708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640" y="4190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4267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 flipV="1">
            <a:off x="2362320" y="48769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4724280"/>
            <a:ext cx="380880" cy="1526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572000"/>
            <a:ext cx="5335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419720"/>
            <a:ext cx="761760" cy="25380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267080"/>
            <a:ext cx="914400" cy="33048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4114800"/>
            <a:ext cx="762120" cy="228600"/>
          </a:xfrm>
          <a:prstGeom prst="leftRightArrow">
            <a:avLst>
              <a:gd name="adj1" fmla="val 41667"/>
              <a:gd name="adj2" fmla="val 6636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444920"/>
            <a:ext cx="1295280" cy="812880"/>
          </a:xfrm>
          <a:custGeom>
            <a:avLst/>
            <a:gdLst/>
            <a:ahLst/>
            <a:rect l="l" t="t" r="r" b="b"/>
            <a:pathLst>
              <a:path w="816" h="512">
                <a:moveTo>
                  <a:pt x="816" y="32"/>
                </a:moveTo>
                <a:cubicBezTo>
                  <a:pt x="716" y="16"/>
                  <a:pt x="616" y="0"/>
                  <a:pt x="480" y="80"/>
                </a:cubicBezTo>
                <a:cubicBezTo>
                  <a:pt x="344" y="160"/>
                  <a:pt x="172" y="336"/>
                  <a:pt x="0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038480"/>
            <a:ext cx="1600200" cy="17784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112"/>
                </a:moveTo>
                <a:cubicBezTo>
                  <a:pt x="64" y="72"/>
                  <a:pt x="128" y="32"/>
                  <a:pt x="240" y="16"/>
                </a:cubicBezTo>
                <a:cubicBezTo>
                  <a:pt x="352" y="0"/>
                  <a:pt x="568" y="0"/>
                  <a:pt x="672" y="16"/>
                </a:cubicBezTo>
                <a:cubicBezTo>
                  <a:pt x="776" y="32"/>
                  <a:pt x="820" y="72"/>
                  <a:pt x="864" y="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399200">
            <a:off x="5790960" y="5105520"/>
            <a:ext cx="228600" cy="7596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399200">
            <a:off x="5875200" y="4908600"/>
            <a:ext cx="381240" cy="15228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399200">
            <a:off x="6019560" y="4723920"/>
            <a:ext cx="533160" cy="15264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399200">
            <a:off x="6444720" y="4566960"/>
            <a:ext cx="460440" cy="10008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399200">
            <a:off x="6781320" y="4419360"/>
            <a:ext cx="457200" cy="7596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399200">
            <a:off x="7086240" y="4266720"/>
            <a:ext cx="30312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295280"/>
            <a:ext cx="3200400" cy="381240"/>
          </a:xfrm>
          <a:prstGeom prst="roundRect">
            <a:avLst>
              <a:gd name="adj" fmla="val 16667"/>
            </a:avLst>
          </a:prstGeom>
          <a:solidFill>
            <a:srgbClr val="00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480" y="129528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ult Constitutiv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31400">
            <a:off x="6172200" y="5028840"/>
            <a:ext cx="747720" cy="228600"/>
          </a:xfrm>
          <a:prstGeom prst="leftArrow">
            <a:avLst>
              <a:gd name="adj1" fmla="val 50000"/>
              <a:gd name="adj2" fmla="val 8177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993800">
            <a:off x="5793120" y="525744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late Sub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resent status of GeoFEM development   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                       : </a:t>
            </a:r>
            <a:r>
              <a:rPr b="1" lang="ja-JP" sz="3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Kinematic modelin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219320"/>
            <a:ext cx="7772400" cy="1676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3-D viscoelastic parallel FEM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time domain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Elastic/Maxwell/Standard linear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Dislo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711600"/>
            <a:ext cx="7696080" cy="313092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ontact analysis on plate boundaries,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mplementation of friction law(R/S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late motion→Quasi-static slip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→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ynamic fault rupture→Strong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466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971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160" y="29718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gr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Kinematic Earthquak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343400"/>
            <a:ext cx="3048120" cy="190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6440" y="3368520"/>
            <a:ext cx="2997360" cy="173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7080" y="1494000"/>
            <a:ext cx="3006720" cy="170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828800"/>
            <a:ext cx="297180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1360" y="121932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a) Intersei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57600" y="38862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Black"/>
              </a:rPr>
              <a:t>(b) Cosei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13280" y="2255760"/>
            <a:ext cx="1868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986360" y="1932120"/>
            <a:ext cx="157788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80240" y="1949400"/>
            <a:ext cx="1250280" cy="71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113800" y="2177280"/>
            <a:ext cx="1269000" cy="734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5480" y="25146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ecoup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21146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eanic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8400" y="190512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ental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28640" y="5380200"/>
            <a:ext cx="18687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701720" y="5056200"/>
            <a:ext cx="157788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322600">
            <a:off x="1612440" y="54403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29720" y="5019120"/>
            <a:ext cx="512640" cy="30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682360" y="5247720"/>
            <a:ext cx="512280" cy="30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9560" y="566568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1680" y="495288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ental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4864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eanic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160880"/>
            <a:ext cx="1868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965840" y="3836880"/>
            <a:ext cx="157788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322600">
            <a:off x="5028840" y="41605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973120" y="4028400"/>
            <a:ext cx="512280" cy="30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806440" y="3799800"/>
            <a:ext cx="512280" cy="30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2280" y="43704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2480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eanic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68400" y="365760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ental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3760" y="2808360"/>
            <a:ext cx="1868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36840" y="2484360"/>
            <a:ext cx="157788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322600">
            <a:off x="2209320" y="24382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06040" y="2928240"/>
            <a:ext cx="512280" cy="30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629720" y="3156840"/>
            <a:ext cx="512280" cy="30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97160" y="28656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2724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eanic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362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ental plat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6320" y="262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68200" y="292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4840" y="4572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late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520" y="19810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3680" y="15318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2760" y="3352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8640" y="60948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ing dislocation (Savage,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japan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19732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Present stage of our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03040" y="68580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stal motion mode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277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1295280"/>
            <a:ext cx="3657600" cy="192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dislocation mod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 the past and the present crustal motion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the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uth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pan,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東北日本1" descr=""/>
          <p:cNvPicPr/>
          <p:nvPr/>
        </p:nvPicPr>
        <p:blipFill>
          <a:blip r:embed="rId1"/>
          <a:stretch/>
        </p:blipFill>
        <p:spPr>
          <a:xfrm>
            <a:off x="304920" y="1108080"/>
            <a:ext cx="5805360" cy="5749920"/>
          </a:xfrm>
          <a:prstGeom prst="rect">
            <a:avLst/>
          </a:prstGeom>
          <a:ln w="0">
            <a:noFill/>
          </a:ln>
        </p:spPr>
      </p:pic>
      <p:pic>
        <p:nvPicPr>
          <p:cNvPr id="202" name="東北日本2太平洋側地震" descr=""/>
          <p:cNvPicPr/>
          <p:nvPr/>
        </p:nvPicPr>
        <p:blipFill>
          <a:blip r:embed="rId2"/>
          <a:stretch/>
        </p:blipFill>
        <p:spPr>
          <a:xfrm>
            <a:off x="2692440" y="2368440"/>
            <a:ext cx="2717640" cy="3498840"/>
          </a:xfrm>
          <a:prstGeom prst="rect">
            <a:avLst/>
          </a:prstGeom>
          <a:ln w="0">
            <a:noFill/>
          </a:ln>
        </p:spPr>
      </p:pic>
      <p:pic>
        <p:nvPicPr>
          <p:cNvPr id="203" name="東北日本3日本海側地震" descr=""/>
          <p:cNvPicPr/>
          <p:nvPr/>
        </p:nvPicPr>
        <p:blipFill>
          <a:blip r:embed="rId3"/>
          <a:stretch/>
        </p:blipFill>
        <p:spPr>
          <a:xfrm>
            <a:off x="1917720" y="2209680"/>
            <a:ext cx="673200" cy="327204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039120" y="3429000"/>
            <a:ext cx="6104520" cy="3170160"/>
            <a:chOff x="3039120" y="3429000"/>
            <a:chExt cx="6104520" cy="3170160"/>
          </a:xfrm>
        </p:grpSpPr>
        <p:grpSp>
          <p:nvGrpSpPr>
            <p:cNvPr id="205" name=""/>
            <p:cNvGrpSpPr/>
            <p:nvPr/>
          </p:nvGrpSpPr>
          <p:grpSpPr>
            <a:xfrm>
              <a:off x="5016240" y="3429000"/>
              <a:ext cx="4127400" cy="3170160"/>
              <a:chOff x="5016240" y="3429000"/>
              <a:chExt cx="4127400" cy="3170160"/>
            </a:xfrm>
          </p:grpSpPr>
          <p:sp>
            <p:nvSpPr>
              <p:cNvPr id="206" name=""/>
              <p:cNvSpPr/>
              <p:nvPr/>
            </p:nvSpPr>
            <p:spPr>
              <a:xfrm>
                <a:off x="5181480" y="3429000"/>
                <a:ext cx="3962160" cy="317016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16240" y="3443400"/>
                <a:ext cx="378288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★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Slow Sli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・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In 1989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1992 Off Sanrik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Strain met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ja-JP" sz="2000" spc="-1" strike="noStrike" baseline="-2000">
                    <a:solidFill>
                      <a:srgbClr val="000000"/>
                    </a:solidFill>
                    <a:latin typeface="Arial"/>
                  </a:rPr>
                  <a:t>AWASAKI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 et al. (1995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・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the 1994 Off Sanriku Eq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Afterslip 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GPS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ja-JP" sz="2000" spc="-1" strike="noStrike" baseline="-2000">
                    <a:solidFill>
                      <a:srgbClr val="000000"/>
                    </a:solidFill>
                    <a:latin typeface="Arial"/>
                  </a:rPr>
                  <a:t>EKI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 et al. (1997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・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1978 Off-Miyag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Afterslip (Level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ja-JP" sz="2000" spc="-1" strike="noStrike" baseline="-2000">
                    <a:solidFill>
                      <a:srgbClr val="000000"/>
                    </a:solidFill>
                    <a:latin typeface="Arial"/>
                  </a:rPr>
                  <a:t>EDA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</a:rPr>
                  <a:t> et al. (200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039120" y="4998960"/>
              <a:ext cx="1027440" cy="276480"/>
              <a:chOff x="3039120" y="4998960"/>
              <a:chExt cx="1027440" cy="276480"/>
            </a:xfrm>
          </p:grpSpPr>
          <p:sp>
            <p:nvSpPr>
              <p:cNvPr id="209" name=""/>
              <p:cNvSpPr/>
              <p:nvPr/>
            </p:nvSpPr>
            <p:spPr>
              <a:xfrm>
                <a:off x="3132000" y="4998960"/>
                <a:ext cx="296640" cy="263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39120" y="4998960"/>
                <a:ext cx="1027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78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～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7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328560" y="3906720"/>
              <a:ext cx="1042560" cy="406440"/>
              <a:chOff x="3328560" y="3906720"/>
              <a:chExt cx="1042560" cy="406440"/>
            </a:xfrm>
          </p:grpSpPr>
          <p:sp>
            <p:nvSpPr>
              <p:cNvPr id="212" name=""/>
              <p:cNvSpPr/>
              <p:nvPr/>
            </p:nvSpPr>
            <p:spPr>
              <a:xfrm rot="20758200">
                <a:off x="3358440" y="3957480"/>
                <a:ext cx="456840" cy="3045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43680" y="3962520"/>
                <a:ext cx="1027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～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656880" y="4648320"/>
              <a:ext cx="522000" cy="276480"/>
              <a:chOff x="3656880" y="4648320"/>
              <a:chExt cx="522000" cy="276480"/>
            </a:xfrm>
          </p:grpSpPr>
          <p:sp>
            <p:nvSpPr>
              <p:cNvPr id="215" name=""/>
              <p:cNvSpPr/>
              <p:nvPr/>
            </p:nvSpPr>
            <p:spPr>
              <a:xfrm>
                <a:off x="3741120" y="4653000"/>
                <a:ext cx="30456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56880" y="46483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9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593160" y="4348080"/>
              <a:ext cx="528840" cy="317880"/>
              <a:chOff x="3593160" y="4348080"/>
              <a:chExt cx="528840" cy="317880"/>
            </a:xfrm>
          </p:grpSpPr>
          <p:sp>
            <p:nvSpPr>
              <p:cNvPr id="218" name=""/>
              <p:cNvSpPr/>
              <p:nvPr/>
            </p:nvSpPr>
            <p:spPr>
              <a:xfrm>
                <a:off x="3665160" y="4348080"/>
                <a:ext cx="456840" cy="304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93160" y="438948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Arial"/>
                  </a:rPr>
                  <a:t>19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Interplate Earthquakes in Northeast Japan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in the last 10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108000" y="1447920"/>
            <a:ext cx="39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.of Nodes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268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.of Eleme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242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124080" y="990720"/>
            <a:ext cx="5867640" cy="5790600"/>
            <a:chOff x="3124080" y="990720"/>
            <a:chExt cx="5867640" cy="5790600"/>
          </a:xfrm>
        </p:grpSpPr>
        <p:pic>
          <p:nvPicPr>
            <p:cNvPr id="223" name="メッシュ1" descr=""/>
            <p:cNvPicPr/>
            <p:nvPr/>
          </p:nvPicPr>
          <p:blipFill>
            <a:blip r:embed="rId1"/>
            <a:stretch/>
          </p:blipFill>
          <p:spPr>
            <a:xfrm>
              <a:off x="3124080" y="990720"/>
              <a:ext cx="5867640" cy="57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3914280" y="3458160"/>
              <a:ext cx="3755160" cy="1872720"/>
              <a:chOff x="3914280" y="3458160"/>
              <a:chExt cx="3755160" cy="1872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199760" y="3695040"/>
                <a:ext cx="3156120" cy="1431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14280" y="3458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86040" y="4962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" name="メッシュ3日本海東縁" descr=""/>
            <p:cNvPicPr/>
            <p:nvPr/>
          </p:nvPicPr>
          <p:blipFill>
            <a:blip r:embed="rId2"/>
            <a:stretch/>
          </p:blipFill>
          <p:spPr>
            <a:xfrm>
              <a:off x="5204160" y="1706400"/>
              <a:ext cx="433440" cy="34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メッシュ2太平洋プレート" descr=""/>
            <p:cNvPicPr/>
            <p:nvPr/>
          </p:nvPicPr>
          <p:blipFill>
            <a:blip r:embed="rId3"/>
            <a:stretch/>
          </p:blipFill>
          <p:spPr>
            <a:xfrm>
              <a:off x="5246280" y="1627200"/>
              <a:ext cx="3105360" cy="40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457200" y="228600"/>
            <a:ext cx="6858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GeoFEM Mesh Configuration (Horizonta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NEmesh-v" descr=""/>
          <p:cNvPicPr/>
          <p:nvPr/>
        </p:nvPicPr>
        <p:blipFill>
          <a:blip r:embed="rId1"/>
          <a:stretch/>
        </p:blipFill>
        <p:spPr>
          <a:xfrm>
            <a:off x="990720" y="1195560"/>
            <a:ext cx="7619760" cy="2690640"/>
          </a:xfrm>
          <a:prstGeom prst="rect">
            <a:avLst/>
          </a:prstGeom>
          <a:ln w="0">
            <a:noFill/>
          </a:ln>
        </p:spPr>
      </p:pic>
      <p:pic>
        <p:nvPicPr>
          <p:cNvPr id="233" name="material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763120" cy="2004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GeoFEM Mesh Configuration (Vertica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5:03:49Z</dcterms:created>
  <dc:creator>水藤　尚</dc:creator>
  <dc:description/>
  <dc:language>en-US</dc:language>
  <cp:lastModifiedBy>平原和朗</cp:lastModifiedBy>
  <dcterms:modified xsi:type="dcterms:W3CDTF">2002-05-24T00:46:49Z</dcterms:modified>
  <cp:revision>96</cp:revision>
  <dc:subject/>
  <dc:title>PowerPoint プレゼンテーション</dc:title>
</cp:coreProperties>
</file>