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5D4-2E1B-4D44-A332-FAA73FF6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FD8-A77F-4A5E-98F3-DFEC7004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EC2-9E27-4723-90CF-D6E3CB4E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336-1B68-4DBF-A145-AFE25000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2AB-F999-4FC5-AC97-3D9320C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C2B-F756-4D56-AD72-4FC543B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1E4-764C-486D-989C-496F0644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5D4-9A89-478F-A51B-6E9C38A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B63-4C37-4A28-A9F4-71788A4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D35-693C-4F25-BB16-511B100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3F2-A257-438F-AF82-1FF4B77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86B-2DA3-4252-81FD-6C5686F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E602-A3AC-432E-8178-C4FAD417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明朝"/>
              </a:rPr>
              <a:t>Numerical simulation of seismic cycles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明朝"/>
              </a:rPr>
              <a:t> at a subduction zone with 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明朝"/>
              </a:rPr>
              <a:t>a laboratory-derived friction law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Naoyuki Kato</a:t>
            </a:r>
            <a:r>
              <a:rPr b="0" lang="ja-JP" sz="22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1)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, Kazuro Hirahara</a:t>
            </a:r>
            <a:r>
              <a:rPr b="0" lang="ja-JP" sz="22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2)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, and Mikio Iizuka</a:t>
            </a:r>
            <a:r>
              <a:rPr b="0" lang="ja-JP" sz="22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6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2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1) 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  <a:ea typeface="ＭＳ 明朝"/>
              </a:rPr>
              <a:t>Earthquake Research Institute, University of Tok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2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2) 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  <a:ea typeface="ＭＳ 明朝"/>
              </a:rPr>
              <a:t>Graduate School of Environmental Sciences, Nagoya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2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(3) 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  <a:ea typeface="ＭＳ 明朝"/>
              </a:rPr>
              <a:t>Research Organization for Information Science and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52560" y="363600"/>
            <a:ext cx="746748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sible mechanism of episodic slip event on a plat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For a spring-block model, the ratio of spring stiffness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ritical stiffness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B-A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)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controls sliding mo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B-A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= -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ja-JP" sz="1800" spc="-1" strike="noStrike" baseline="30000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characteristic slip dist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&gt;&gt;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seis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～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episo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&lt;&lt;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eismic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For a finite fault in a uniform elastic medium, the critical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imension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cGL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(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B-A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may be defined, and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liding mode. (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; constant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～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; rigidit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&gt;&gt;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eis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～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episo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&lt;&lt;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seismic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11960" y="3568680"/>
            <a:ext cx="26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137040"/>
            <a:ext cx="69840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35268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997680" y="3213000"/>
            <a:ext cx="381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5120" y="3224160"/>
            <a:ext cx="88560" cy="31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124040" y="3212280"/>
            <a:ext cx="8856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01880" y="3224520"/>
            <a:ext cx="88560" cy="31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12960" y="3236760"/>
            <a:ext cx="88560" cy="31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04120" y="3238560"/>
            <a:ext cx="38160" cy="1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2280" y="3378240"/>
            <a:ext cx="13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35840" y="283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kg106a_a_b" descr=""/>
          <p:cNvPicPr/>
          <p:nvPr/>
        </p:nvPicPr>
        <p:blipFill>
          <a:blip r:embed="rId1"/>
          <a:stretch/>
        </p:blipFill>
        <p:spPr>
          <a:xfrm>
            <a:off x="2343240" y="271440"/>
            <a:ext cx="4457520" cy="631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80880"/>
            <a:ext cx="78483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of slip on a flat fault in an infinite uniform elastic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ular patch with negative A-B value is embedded in a uniform fault with positive A-B valu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743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3581280"/>
            <a:ext cx="16002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81120" y="388620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09680"/>
            <a:ext cx="22860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critical fault radius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4.12 k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radius 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f the negative A-B patch is 3.0 k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= 0.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stribution of A-B (M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kg106g_vel2563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762120"/>
            <a:ext cx="6629400" cy="9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; the assumed plate velocity = 4 cm/y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743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gative A-B patch is more strongly lock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kg106g_vel2687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914400"/>
            <a:ext cx="66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 from the last slide = 5.7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743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sodic slip starts in the negative A-B pat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kg106a_vel2700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990720"/>
            <a:ext cx="66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 from the last slide = 13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6232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sodic slip propagates in the negative A-B patch, but the slip is not significantly acceler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kg106a_vel2747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066680"/>
            <a:ext cx="66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 from the last slide = 32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3623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p is decelerated because the rupture front enters the positive A-B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kg106a_vel2755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914400"/>
            <a:ext cx="66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 from the last slide = 150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36232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low slip propagates in the positive A-B region, while healing starts in the negative A-B pat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kg106a_vel2800" descr=""/>
          <p:cNvPicPr/>
          <p:nvPr/>
        </p:nvPicPr>
        <p:blipFill>
          <a:blip r:embed="rId1"/>
          <a:stretch/>
        </p:blipFill>
        <p:spPr>
          <a:xfrm>
            <a:off x="2054160" y="-135000"/>
            <a:ext cx="5035680" cy="712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1600200"/>
            <a:ext cx="2209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990720"/>
            <a:ext cx="6629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napshot of distribution of slip velocit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ln(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me from the last slide = 2.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3623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gative A-B patch is strongly locked and the next cycle st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kg106a_1cycle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6362640" cy="4457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48520" y="3886200"/>
            <a:ext cx="22096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 = 3 km,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4.12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-B = 0.2 MPa at 1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-B = -0.2 MPa at 7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57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 history during the entir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tkg106a_a_b_sml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1914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kg106a_slowev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6257880" cy="4457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15000" y="3200400"/>
            <a:ext cx="22096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 = 3 km, r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4.12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-B = 0.2 MPa at 1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-B = -0.2 MPa at 7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80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lip history at the aseismic slip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410080"/>
            <a:ext cx="2057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kg106a_a_b_sml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1914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明朝"/>
              </a:rPr>
              <a:t>Numerical simulation of seismic cycles at a subduction zone with a laboratory-derived friction la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ja-JP" sz="3600" spc="-1" strike="noStrike">
                <a:solidFill>
                  <a:srgbClr val="ffffff"/>
                </a:solidFill>
                <a:latin typeface="Arial"/>
                <a:ea typeface="ＭＳ 明朝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1. Composite rate- and state-dependent friction la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2. Forecast models for the Tokai earthqua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3. Mechanism of episodic slip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4. Historical earthquake sequence along the Nankai trough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   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ＭＳ 明朝"/>
              </a:rPr>
              <a:t>- Future study -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990720"/>
            <a:ext cx="746748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Arial"/>
              </a:rPr>
              <a:t>Summary of simulation for episodic slip ev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Aseismic episodic slip event may be simulated for a negative   A-B patch with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= 0.7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Episodic events with various time duration may be simulated by varying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-value. The duration of the event decreases with an increase in 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ja-JP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Episodic events may be simulated not only by nonuniform distribution of A-B but also by nonuniformity in the characteristic slip distance L or in the effective normal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If the source size and duration of an episodic event are obtained, the value of (B-A)/L may be estim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0"/>
            <a:ext cx="8991720" cy="655308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86000"/>
            <a:ext cx="457200" cy="609480"/>
          </a:xfrm>
          <a:prstGeom prst="downArrow">
            <a:avLst>
              <a:gd name="adj1" fmla="val 37500"/>
              <a:gd name="adj2" fmla="val 409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286000"/>
            <a:ext cx="457200" cy="609480"/>
          </a:xfrm>
          <a:prstGeom prst="downArrow">
            <a:avLst>
              <a:gd name="adj1" fmla="val 37500"/>
              <a:gd name="adj2" fmla="val 4096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257800" y="1828800"/>
            <a:ext cx="457200" cy="609840"/>
          </a:xfrm>
          <a:prstGeom prst="downArrow">
            <a:avLst>
              <a:gd name="adj1" fmla="val 37500"/>
              <a:gd name="adj2" fmla="val 4098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752480"/>
            <a:ext cx="2666880" cy="762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8080" y="3580200"/>
            <a:ext cx="7696440" cy="3048120"/>
          </a:xfrm>
          <a:prstGeom prst="wedgeRoundRectCallout">
            <a:avLst>
              <a:gd name="adj1" fmla="val -601"/>
              <a:gd name="adj2" fmla="val 62134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051400">
            <a:off x="3429000" y="4952520"/>
            <a:ext cx="4572000" cy="762120"/>
          </a:xfrm>
          <a:prstGeom prst="cube">
            <a:avLst>
              <a:gd name="adj" fmla="val 5584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962520"/>
            <a:ext cx="5029200" cy="914400"/>
          </a:xfrm>
          <a:prstGeom prst="cube">
            <a:avLst>
              <a:gd name="adj" fmla="val 6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876920"/>
            <a:ext cx="1447920" cy="15228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1295280"/>
            <a:ext cx="4267080" cy="381240"/>
          </a:xfrm>
          <a:prstGeom prst="roundRect">
            <a:avLst>
              <a:gd name="adj" fmla="val 16667"/>
            </a:avLst>
          </a:prstGeom>
          <a:solidFill>
            <a:srgbClr val="00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143000"/>
            <a:ext cx="457200" cy="762120"/>
          </a:xfrm>
          <a:prstGeom prst="downArrow">
            <a:avLst>
              <a:gd name="adj1" fmla="val 33333"/>
              <a:gd name="adj2" fmla="val 3438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85800"/>
            <a:ext cx="495288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05120"/>
            <a:ext cx="4952880" cy="533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2895480"/>
            <a:ext cx="518148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520" y="779400"/>
            <a:ext cx="49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si-Static Modeling of Earthquak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1295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on on and between Fa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998720"/>
            <a:ext cx="50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Modeling of Earthquake Rup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35600" y="1752480"/>
            <a:ext cx="26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ve Propagation in Heterogeneous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971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 and Prediction of Strong 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2209320" y="54100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2437920" y="586692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7" idx="0"/>
            <a:endCxn id="181" idx="0"/>
          </p:cNvCxnSpPr>
          <p:nvPr/>
        </p:nvCxnSpPr>
        <p:spPr>
          <a:xfrm>
            <a:off x="2743200" y="5429160"/>
            <a:ext cx="3816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 flipV="1">
            <a:off x="2437920" y="5428440"/>
            <a:ext cx="3056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endCxn id="181" idx="0"/>
          </p:cNvCxnSpPr>
          <p:nvPr/>
        </p:nvCxnSpPr>
        <p:spPr>
          <a:xfrm flipV="1">
            <a:off x="2819520" y="5847840"/>
            <a:ext cx="30528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0"/>
            <a:endCxn id="185" idx="0"/>
          </p:cNvCxnSpPr>
          <p:nvPr/>
        </p:nvCxnSpPr>
        <p:spPr>
          <a:xfrm flipV="1">
            <a:off x="3123720" y="5428800"/>
            <a:ext cx="2293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7432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6172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867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5867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3581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plate Earthquak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Inland Activ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4038480"/>
            <a:ext cx="761760" cy="228600"/>
          </a:xfrm>
          <a:prstGeom prst="leftRightArrow">
            <a:avLst>
              <a:gd name="adj1" fmla="val 41667"/>
              <a:gd name="adj2" fmla="val 66337"/>
            </a:avLst>
          </a:prstGeom>
          <a:gradFill rotWithShape="0">
            <a:gsLst>
              <a:gs pos="0">
                <a:srgbClr val="ff0000"/>
              </a:gs>
              <a:gs pos="100000">
                <a:srgbClr val="ff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5683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Visco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Interaction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06600" y="365760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ictional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-4752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Earthquake Generation and Strong Mo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</a:t>
            </a: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in 3-D Heterogeneous Media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409720" y="3962520"/>
            <a:ext cx="609840" cy="990360"/>
            <a:chOff x="5409720" y="3962520"/>
            <a:chExt cx="609840" cy="990360"/>
          </a:xfrm>
        </p:grpSpPr>
        <p:sp>
          <p:nvSpPr>
            <p:cNvPr id="197" name=""/>
            <p:cNvSpPr/>
            <p:nvPr/>
          </p:nvSpPr>
          <p:spPr>
            <a:xfrm flipH="1">
              <a:off x="5562360" y="3962520"/>
              <a:ext cx="45720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09720" y="4572000"/>
              <a:ext cx="152280" cy="380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410080" y="4343400"/>
              <a:ext cx="457200" cy="6094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866920" y="3962520"/>
              <a:ext cx="152280" cy="3808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114440" y="3962520"/>
            <a:ext cx="914760" cy="1066680"/>
            <a:chOff x="4114440" y="3962520"/>
            <a:chExt cx="914760" cy="1066680"/>
          </a:xfrm>
        </p:grpSpPr>
        <p:sp>
          <p:nvSpPr>
            <p:cNvPr id="202" name=""/>
            <p:cNvSpPr/>
            <p:nvPr/>
          </p:nvSpPr>
          <p:spPr>
            <a:xfrm flipH="1">
              <a:off x="4114440" y="3962520"/>
              <a:ext cx="60948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4800" y="4572000"/>
              <a:ext cx="30492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419360" y="4419720"/>
              <a:ext cx="609480" cy="60948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3962520"/>
              <a:ext cx="304920" cy="4572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 rot="2411400">
            <a:off x="4647960" y="5105520"/>
            <a:ext cx="609480" cy="228600"/>
          </a:xfrm>
          <a:prstGeom prst="leftRightArrow">
            <a:avLst>
              <a:gd name="adj1" fmla="val 41667"/>
              <a:gd name="adj2" fmla="val 5307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411400">
            <a:off x="3687480" y="5151600"/>
            <a:ext cx="990360" cy="228600"/>
          </a:xfrm>
          <a:prstGeom prst="leftRightArrow">
            <a:avLst>
              <a:gd name="adj1" fmla="val 41667"/>
              <a:gd name="adj2" fmla="val 862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3962520"/>
            <a:ext cx="1371600" cy="914400"/>
          </a:xfrm>
          <a:prstGeom prst="parallelogram">
            <a:avLst>
              <a:gd name="adj" fmla="val 9375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4876920"/>
            <a:ext cx="609840" cy="75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880" y="396252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38320" y="4572000"/>
            <a:ext cx="1600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943600" y="3962520"/>
            <a:ext cx="1828800" cy="838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38320" y="4800600"/>
            <a:ext cx="304920" cy="6094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19320" y="3809880"/>
            <a:ext cx="1295280" cy="1219320"/>
            <a:chOff x="1219320" y="3809880"/>
            <a:chExt cx="1295280" cy="1219320"/>
          </a:xfrm>
        </p:grpSpPr>
        <p:cxnSp>
          <p:nvCxnSpPr>
            <p:cNvPr id="215" name=""/>
            <p:cNvCxnSpPr/>
            <p:nvPr/>
          </p:nvCxnSpPr>
          <p:spPr>
            <a:xfrm>
              <a:off x="1219320" y="44953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6" name=""/>
            <p:cNvCxnSpPr/>
            <p:nvPr/>
          </p:nvCxnSpPr>
          <p:spPr>
            <a:xfrm flipV="1">
              <a:off x="1600200" y="4266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7" name=""/>
            <p:cNvSpPr/>
            <p:nvPr/>
          </p:nvSpPr>
          <p:spPr>
            <a:xfrm>
              <a:off x="1676520" y="4267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76520" y="419076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2840" y="4190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752480" y="3962160"/>
              <a:ext cx="759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962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905120" y="4190760"/>
              <a:ext cx="76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440" y="4190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1480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10040" y="38862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7400" y="4114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057400" y="4038480"/>
              <a:ext cx="76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4038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362320" y="419076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6000" y="38098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81080" y="41148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133720" y="3886200"/>
              <a:ext cx="76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209680" y="3809880"/>
              <a:ext cx="759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2320" y="3886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286000" y="3886200"/>
              <a:ext cx="76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438280" y="426708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640" y="4190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14600" y="4267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 flipV="1">
            <a:off x="2362320" y="48769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4724280"/>
            <a:ext cx="380880" cy="1526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572000"/>
            <a:ext cx="5335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4419720"/>
            <a:ext cx="761760" cy="25380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67080"/>
            <a:ext cx="914400" cy="33048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114800"/>
            <a:ext cx="762120" cy="228600"/>
          </a:xfrm>
          <a:prstGeom prst="leftRightArrow">
            <a:avLst>
              <a:gd name="adj1" fmla="val 41667"/>
              <a:gd name="adj2" fmla="val 6636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444920"/>
            <a:ext cx="1295280" cy="812880"/>
          </a:xfrm>
          <a:custGeom>
            <a:avLst/>
            <a:gdLst/>
            <a:ahLst/>
            <a:rect l="l" t="t" r="r" b="b"/>
            <a:pathLst>
              <a:path w="816" h="512">
                <a:moveTo>
                  <a:pt x="816" y="32"/>
                </a:moveTo>
                <a:cubicBezTo>
                  <a:pt x="716" y="16"/>
                  <a:pt x="616" y="0"/>
                  <a:pt x="480" y="80"/>
                </a:cubicBezTo>
                <a:cubicBezTo>
                  <a:pt x="344" y="160"/>
                  <a:pt x="172" y="336"/>
                  <a:pt x="0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038480"/>
            <a:ext cx="1600200" cy="17784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112"/>
                </a:moveTo>
                <a:cubicBezTo>
                  <a:pt x="64" y="72"/>
                  <a:pt x="128" y="32"/>
                  <a:pt x="240" y="16"/>
                </a:cubicBezTo>
                <a:cubicBezTo>
                  <a:pt x="352" y="0"/>
                  <a:pt x="568" y="0"/>
                  <a:pt x="672" y="16"/>
                </a:cubicBezTo>
                <a:cubicBezTo>
                  <a:pt x="776" y="32"/>
                  <a:pt x="820" y="72"/>
                  <a:pt x="864" y="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9200">
            <a:off x="5790960" y="5105520"/>
            <a:ext cx="228600" cy="7596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399200">
            <a:off x="5875200" y="4908600"/>
            <a:ext cx="381240" cy="15228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399200">
            <a:off x="6019560" y="4723920"/>
            <a:ext cx="533160" cy="15264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399200">
            <a:off x="6444720" y="4566960"/>
            <a:ext cx="460440" cy="10008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399200">
            <a:off x="6781320" y="4419360"/>
            <a:ext cx="457200" cy="7596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399200">
            <a:off x="7086240" y="4266720"/>
            <a:ext cx="30312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0"/>
                  <a:pt x="96" y="8"/>
                </a:cubicBezTo>
                <a:cubicBezTo>
                  <a:pt x="112" y="16"/>
                  <a:pt x="136" y="48"/>
                  <a:pt x="144" y="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295280"/>
            <a:ext cx="3200400" cy="381240"/>
          </a:xfrm>
          <a:prstGeom prst="roundRect">
            <a:avLst>
              <a:gd name="adj" fmla="val 16667"/>
            </a:avLst>
          </a:prstGeom>
          <a:solidFill>
            <a:srgbClr val="00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1480" y="129528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ult Constitutiv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9931400">
            <a:off x="6172200" y="5028840"/>
            <a:ext cx="747720" cy="228600"/>
          </a:xfrm>
          <a:prstGeom prst="leftArrow">
            <a:avLst>
              <a:gd name="adj1" fmla="val 50000"/>
              <a:gd name="adj2" fmla="val 8177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9993800">
            <a:off x="5793120" y="525744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late Sub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mitsui1mod" descr=""/>
          <p:cNvPicPr/>
          <p:nvPr/>
        </p:nvPicPr>
        <p:blipFill>
          <a:blip r:embed="rId1"/>
          <a:stretch/>
        </p:blipFill>
        <p:spPr>
          <a:xfrm>
            <a:off x="1090440" y="795240"/>
            <a:ext cx="69631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mitsui2mod" descr=""/>
          <p:cNvPicPr/>
          <p:nvPr/>
        </p:nvPicPr>
        <p:blipFill>
          <a:blip r:embed="rId1"/>
          <a:stretch/>
        </p:blipFill>
        <p:spPr>
          <a:xfrm>
            <a:off x="843120" y="857160"/>
            <a:ext cx="745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mitsui3mod" descr=""/>
          <p:cNvPicPr/>
          <p:nvPr/>
        </p:nvPicPr>
        <p:blipFill>
          <a:blip r:embed="rId1"/>
          <a:stretch/>
        </p:blipFill>
        <p:spPr>
          <a:xfrm>
            <a:off x="1066680" y="804960"/>
            <a:ext cx="70106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838080"/>
            <a:ext cx="7696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 the Earth Simulator Project, we take into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eterogeneous viscoelastic struc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 rate- and state-dependent friction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teractions of many segments of plat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nd inland active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EM; Iizuka, 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olving friction problem; Prabhakar, Pos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mesh-to3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105520" cy="3946680"/>
          </a:xfrm>
          <a:prstGeom prst="rect">
            <a:avLst/>
          </a:prstGeom>
          <a:ln w="0">
            <a:noFill/>
          </a:ln>
        </p:spPr>
      </p:pic>
      <p:pic>
        <p:nvPicPr>
          <p:cNvPr id="265" name="mesh-hy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5257800" cy="4340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19920" y="6019920"/>
            <a:ext cx="5331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15000"/>
            <a:ext cx="5331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5410080"/>
            <a:ext cx="53316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38320" y="5372280"/>
            <a:ext cx="155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3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si-Static Earthquake Cycle Simulation with GeoF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5000" y="106668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D-FEM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0" y="380988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1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7920" y="41148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9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5120" y="48769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2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8120" y="25146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2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7600" y="14479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115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2720" y="12952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75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322280" y="3958920"/>
            <a:ext cx="1695600" cy="44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71240" y="3994560"/>
            <a:ext cx="669960" cy="926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09880" y="495252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810400" y="1361520"/>
            <a:ext cx="1106640" cy="1173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5865120" y="2589480"/>
            <a:ext cx="22320" cy="22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71480" y="1341360"/>
            <a:ext cx="1325520" cy="58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1320" y="56386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. of Nodes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9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. of Elements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47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81560" y="350532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. of  Nodes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4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. of Elements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124080"/>
            <a:ext cx="4496040" cy="327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066680"/>
            <a:ext cx="3886200" cy="3353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800" y="4191120"/>
            <a:ext cx="2971440" cy="459720"/>
            <a:chOff x="5257800" y="4191120"/>
            <a:chExt cx="2971440" cy="459720"/>
          </a:xfrm>
        </p:grpSpPr>
        <p:sp>
          <p:nvSpPr>
            <p:cNvPr id="289" name=""/>
            <p:cNvSpPr/>
            <p:nvPr/>
          </p:nvSpPr>
          <p:spPr>
            <a:xfrm>
              <a:off x="5257800" y="4191120"/>
              <a:ext cx="2971440" cy="457200"/>
            </a:xfrm>
            <a:prstGeom prst="bevel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91000" y="419112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rtheast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　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a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85800" y="2895480"/>
            <a:ext cx="2868120" cy="459720"/>
            <a:chOff x="685800" y="2895480"/>
            <a:chExt cx="2868120" cy="459720"/>
          </a:xfrm>
        </p:grpSpPr>
        <p:sp>
          <p:nvSpPr>
            <p:cNvPr id="292" name=""/>
            <p:cNvSpPr/>
            <p:nvPr/>
          </p:nvSpPr>
          <p:spPr>
            <a:xfrm>
              <a:off x="685800" y="2895480"/>
              <a:ext cx="2819520" cy="457200"/>
            </a:xfrm>
            <a:prstGeom prst="bevel">
              <a:avLst>
                <a:gd name="adj" fmla="val 125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400" y="289548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thwest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　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a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914400"/>
            <a:ext cx="60958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Rate- and state-dependent friction la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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ln(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ln(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3276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friction co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liding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t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962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t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= 1 - 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;                                  slownes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495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t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=  - (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 ln (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;                        slip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5029200"/>
            <a:ext cx="64771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dt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=  exp(-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 - (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 ln (</a:t>
            </a:r>
            <a:r>
              <a:rPr b="0" lang="ja-JP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;   composit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ja-JP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ja-JP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; constan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Kato and Tullis (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igure4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571920" cy="3248280"/>
          </a:xfrm>
          <a:prstGeom prst="rect">
            <a:avLst/>
          </a:prstGeom>
          <a:ln w="0">
            <a:noFill/>
          </a:ln>
        </p:spPr>
      </p:pic>
      <p:pic>
        <p:nvPicPr>
          <p:cNvPr id="51" name="vel_step_test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48200" cy="299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838080"/>
            <a:ext cx="32004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-hold-sli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838080"/>
            <a:ext cx="32004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tepping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1055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ffness independent higher healing rates for the slowness and composite laws explain laborator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48769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responses to velocity increases and decreases for the slip and composite laws explain laborator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ato and Tullis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lideholdslide" descr=""/>
          <p:cNvPicPr/>
          <p:nvPr/>
        </p:nvPicPr>
        <p:blipFill>
          <a:blip r:embed="rId3"/>
          <a:stretch/>
        </p:blipFill>
        <p:spPr>
          <a:xfrm>
            <a:off x="2706840" y="247680"/>
            <a:ext cx="2333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t01_ph_with_state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257720" cy="4362480"/>
          </a:xfrm>
          <a:prstGeom prst="rect">
            <a:avLst/>
          </a:prstGeom>
          <a:ln w="0">
            <a:noFill/>
          </a:ln>
        </p:spPr>
      </p:pic>
      <p:pic>
        <p:nvPicPr>
          <p:cNvPr id="59" name="Fig2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847960" cy="13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812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ato and Tulli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of stick-slip cycle of a spring-bloc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809880"/>
            <a:ext cx="30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currence interval and stress drop are the largest for the composite la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kai97rev_TonankaiGPS3" descr=""/>
          <p:cNvPicPr/>
          <p:nvPr/>
        </p:nvPicPr>
        <p:blipFill>
          <a:blip r:embed="rId1"/>
          <a:stretch/>
        </p:blipFill>
        <p:spPr>
          <a:xfrm>
            <a:off x="1295280" y="-838080"/>
            <a:ext cx="3409920" cy="4843440"/>
          </a:xfrm>
          <a:prstGeom prst="rect">
            <a:avLst/>
          </a:prstGeom>
          <a:ln w="0">
            <a:noFill/>
          </a:ln>
        </p:spPr>
      </p:pic>
      <p:pic>
        <p:nvPicPr>
          <p:cNvPr id="64" name="tkga24model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3714840" cy="98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7652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for seismic cycle at the Tokai seismic gap    along the Suruga trough, central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8862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slip distribution estimated from GPS data by Sagiya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867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-D model for the Tokai earthquake Kato and Hirasawa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reslip3" descr=""/>
          <p:cNvPicPr/>
          <p:nvPr/>
        </p:nvPicPr>
        <p:blipFill>
          <a:blip r:embed="rId3"/>
          <a:stretch/>
        </p:blipFill>
        <p:spPr>
          <a:xfrm>
            <a:off x="5105520" y="2209680"/>
            <a:ext cx="3333600" cy="343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8148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ismic moment release of preseismic sl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ato and Tulli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2819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ismic g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ig4sml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429080" cy="2800080"/>
          </a:xfrm>
          <a:prstGeom prst="rect">
            <a:avLst/>
          </a:prstGeom>
          <a:ln w="0">
            <a:noFill/>
          </a:ln>
        </p:spPr>
      </p:pic>
      <p:pic>
        <p:nvPicPr>
          <p:cNvPr id="73" name="fig12sml" descr=""/>
          <p:cNvPicPr/>
          <p:nvPr/>
        </p:nvPicPr>
        <p:blipFill>
          <a:blip r:embed="rId2"/>
          <a:stretch/>
        </p:blipFill>
        <p:spPr>
          <a:xfrm>
            <a:off x="4191120" y="0"/>
            <a:ext cx="4657680" cy="641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6019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uroki et al.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808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3-D model for the Tokai earthqua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91040" y="939960"/>
            <a:ext cx="30225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901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 change (for one day before E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80240" y="5168880"/>
            <a:ext cx="9777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80240" y="51436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 (1E-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93054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200400" cy="4896000"/>
          </a:xfrm>
          <a:prstGeom prst="rect">
            <a:avLst/>
          </a:prstGeom>
          <a:ln w="0">
            <a:noFill/>
          </a:ln>
        </p:spPr>
      </p:pic>
      <p:pic>
        <p:nvPicPr>
          <p:cNvPr id="81" name="ichizu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152520" cy="220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1143000"/>
            <a:ext cx="358164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pisodic strain event near the hypothesized source area of the Tokai earthquake detected by 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ata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ographical Survey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http://www.gsi.go.j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8380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06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mamat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053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67080"/>
            <a:ext cx="304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53341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mamat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velc_sml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46716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ts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233352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480060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586728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s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0320" y="5283360"/>
            <a:ext cx="2793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low slip event beneath the Bungo channel, southwest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irose et al.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vecn_sml" descr=""/>
          <p:cNvPicPr/>
          <p:nvPr/>
        </p:nvPicPr>
        <p:blipFill>
          <a:blip r:embed="rId3"/>
          <a:stretch/>
        </p:blipFill>
        <p:spPr>
          <a:xfrm>
            <a:off x="2286000" y="1143000"/>
            <a:ext cx="4952880" cy="25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403848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model horizontal displ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4114800"/>
            <a:ext cx="12952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 of estimated fault slip over 10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ment magnitude = 6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5187960"/>
            <a:ext cx="2793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1920" y="5219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200" y="51307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s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0760" y="1054080"/>
            <a:ext cx="54486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6960" y="1003320"/>
            <a:ext cx="57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changes for 3 years in southwest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8600" y="14731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) Apr. 1, 1996 - Apr. 1, 19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9560" y="1447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b) Apr. 1, 1997 - Apr. 1, 19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143496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) Apr. 1, 1998 - Apr. 1, 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38:13Z</dcterms:created>
  <dc:creator>加藤尚之</dc:creator>
  <dc:description/>
  <dc:language>en-US</dc:language>
  <cp:lastModifiedBy>加藤尚之</cp:lastModifiedBy>
  <cp:lastPrinted>2002-04-30T05:43:30Z</cp:lastPrinted>
  <dcterms:modified xsi:type="dcterms:W3CDTF">2002-06-06T01:41:52Z</dcterms:modified>
  <cp:revision>49</cp:revision>
  <dc:subject/>
  <dc:title>Numerical simulation of seismic cycles  at a subduction zone with  a laboratory-derived friction law </dc:title>
</cp:coreProperties>
</file>