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0.jpeg" ContentType="image/jpeg"/>
  <Override PartName="/ppt/media/image21.jpeg" ContentType="image/jpeg"/>
  <Override PartName="/ppt/media/image29.png" ContentType="image/png"/>
  <Override PartName="/ppt/media/image18.png" ContentType="image/png"/>
  <Override PartName="/ppt/media/image17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6367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6367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6367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6367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6367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6367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6367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36367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6367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36367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36367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36367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36367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36367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36367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6367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6367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367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a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pic>
        <p:nvPicPr>
          <p:cNvPr id="10" name="ACES" descr=""/>
          <p:cNvPicPr/>
          <p:nvPr/>
        </p:nvPicPr>
        <p:blipFill>
          <a:blip r:embed="rId2"/>
          <a:stretch/>
        </p:blipFill>
        <p:spPr>
          <a:xfrm>
            <a:off x="7772400" y="54864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a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pic>
        <p:nvPicPr>
          <p:cNvPr id="58" name="ACES" descr=""/>
          <p:cNvPicPr/>
          <p:nvPr/>
        </p:nvPicPr>
        <p:blipFill>
          <a:blip r:embed="rId2"/>
          <a:stretch/>
        </p:blipFill>
        <p:spPr>
          <a:xfrm>
            <a:off x="7772400" y="54864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461520"/>
            <a:ext cx="9144000" cy="14526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2"/>
                </a:solidFill>
                <a:latin typeface="Arial Black"/>
                <a:ea typeface="Arial"/>
              </a:rPr>
              <a:t>Exploring the dynamics of crustal fault system models with micro-scale and CA simulations</a:t>
            </a:r>
            <a:endParaRPr b="0" lang="en-US" sz="28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190240" y="5176440"/>
            <a:ext cx="4854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Peter Mora, David Pla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Dion Weatherley, Steffen Abe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Yucang Wa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806560" y="2336760"/>
            <a:ext cx="3556080" cy="2594160"/>
            <a:chOff x="2806560" y="2336760"/>
            <a:chExt cx="3556080" cy="259416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2806560" y="2336760"/>
              <a:ext cx="3556080" cy="25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 txBox="1"/>
            <p:nvPr/>
          </p:nvSpPr>
          <p:spPr>
            <a:xfrm>
              <a:off x="2806560" y="2336760"/>
              <a:ext cx="3556080" cy="259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520" y="324000"/>
            <a:ext cx="8077320" cy="76176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 Black"/>
              </a:rPr>
              <a:t>Stress field correlation function</a:t>
            </a: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266" name=""/>
          <p:cNvSpPr/>
          <p:nvPr/>
        </p:nvSpPr>
        <p:spPr>
          <a:xfrm>
            <a:off x="2104920" y="1290600"/>
            <a:ext cx="4991040" cy="925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279520" y="1476360"/>
                <a:ext cx="4818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Δσ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Δσ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/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730520" y="2367000"/>
                <a:ext cx="5591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 </m:t>
                    </m:r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nd   </m:t>
                    </m:r>
                    <m:r>
                      <m:t xml:space="preserve">Δσ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σ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269" name="DCorrFun.grd_180_89_a_flt" descr=""/>
          <p:cNvPicPr/>
          <p:nvPr/>
        </p:nvPicPr>
        <p:blipFill>
          <a:blip r:embed="rId1"/>
          <a:stretch/>
        </p:blipFill>
        <p:spPr>
          <a:xfrm>
            <a:off x="260280" y="3780000"/>
            <a:ext cx="8883720" cy="28875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8637480" y="4694400"/>
            <a:ext cx="50652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30800" y="3009960"/>
            <a:ext cx="660240" cy="685800"/>
          </a:xfrm>
          <a:prstGeom prst="star5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72"/>
                </a:solidFill>
                <a:latin typeface="Arial Black"/>
              </a:rPr>
              <a:t>Compression of intact material</a:t>
            </a: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973160" y="1220760"/>
            <a:ext cx="5381280" cy="3441600"/>
            <a:chOff x="1973160" y="1220760"/>
            <a:chExt cx="5381280" cy="3441600"/>
          </a:xfrm>
        </p:grpSpPr>
        <p:sp>
          <p:nvSpPr>
            <p:cNvPr id="274" name=""/>
            <p:cNvSpPr/>
            <p:nvPr/>
          </p:nvSpPr>
          <p:spPr>
            <a:xfrm>
              <a:off x="6588360" y="3900600"/>
              <a:ext cx="766080" cy="76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73160" y="1253520"/>
              <a:ext cx="1512720" cy="3189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18160" y="1220760"/>
              <a:ext cx="1512720" cy="318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12040" y="1229040"/>
              <a:ext cx="1512720" cy="3189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8" name="Img32" descr=""/>
            <p:cNvPicPr/>
            <p:nvPr/>
          </p:nvPicPr>
          <p:blipFill>
            <a:blip r:embed="rId1"/>
            <a:stretch/>
          </p:blipFill>
          <p:spPr>
            <a:xfrm>
              <a:off x="5657040" y="1593000"/>
              <a:ext cx="1426680" cy="24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Img10" descr=""/>
            <p:cNvPicPr/>
            <p:nvPr/>
          </p:nvPicPr>
          <p:blipFill>
            <a:blip r:embed="rId2"/>
            <a:stretch/>
          </p:blipFill>
          <p:spPr>
            <a:xfrm>
              <a:off x="3854520" y="1608840"/>
              <a:ext cx="1426680" cy="244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Img5" descr=""/>
            <p:cNvPicPr/>
            <p:nvPr/>
          </p:nvPicPr>
          <p:blipFill>
            <a:blip r:embed="rId3"/>
            <a:stretch/>
          </p:blipFill>
          <p:spPr>
            <a:xfrm>
              <a:off x="2019960" y="1631520"/>
              <a:ext cx="1416240" cy="243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370920" y="3959640"/>
              <a:ext cx="720" cy="452520"/>
            </a:xfrm>
            <a:prstGeom prst="line">
              <a:avLst/>
            </a:prstGeom>
            <a:ln w="12708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63240" y="3895200"/>
              <a:ext cx="1229040" cy="80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65160" y="3994920"/>
              <a:ext cx="1080" cy="425880"/>
            </a:xfrm>
            <a:prstGeom prst="line">
              <a:avLst/>
            </a:prstGeom>
            <a:ln w="12708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52080" y="3913560"/>
              <a:ext cx="1229400" cy="80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25560" y="4005720"/>
              <a:ext cx="1080" cy="439560"/>
            </a:xfrm>
            <a:prstGeom prst="line">
              <a:avLst/>
            </a:prstGeom>
            <a:ln w="12708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6800" y="3932640"/>
              <a:ext cx="1229040" cy="80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61920" y="1234440"/>
              <a:ext cx="720" cy="426960"/>
            </a:xfrm>
            <a:prstGeom prst="line">
              <a:avLst/>
            </a:prstGeom>
            <a:ln w="127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59280" y="1660320"/>
              <a:ext cx="1230120" cy="80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68040" y="1225800"/>
              <a:ext cx="720" cy="434520"/>
            </a:xfrm>
            <a:prstGeom prst="line">
              <a:avLst/>
            </a:prstGeom>
            <a:ln w="127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63240" y="1667880"/>
              <a:ext cx="1229040" cy="80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22320" y="1250640"/>
              <a:ext cx="1080" cy="435240"/>
            </a:xfrm>
            <a:prstGeom prst="line">
              <a:avLst/>
            </a:prstGeom>
            <a:ln w="127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16800" y="1689480"/>
              <a:ext cx="1229040" cy="79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3" name="DCorrFun_txt_180_89" descr=""/>
          <p:cNvPicPr/>
          <p:nvPr/>
        </p:nvPicPr>
        <p:blipFill>
          <a:blip r:embed="rId4"/>
          <a:stretch/>
        </p:blipFill>
        <p:spPr>
          <a:xfrm>
            <a:off x="1765440" y="4700520"/>
            <a:ext cx="570996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 Black"/>
              </a:rPr>
              <a:t>Load-Unload Response ratio and critical sensitivity</a:t>
            </a: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79360" y="1442880"/>
            <a:ext cx="3060720" cy="4081680"/>
          </a:xfrm>
          <a:prstGeom prst="rect">
            <a:avLst/>
          </a:prstGeom>
          <a:ln w="0">
            <a:noFill/>
          </a:ln>
        </p:spPr>
      </p:pic>
      <p:pic>
        <p:nvPicPr>
          <p:cNvPr id="296" name="LURR-stress-stress" descr=""/>
          <p:cNvPicPr/>
          <p:nvPr/>
        </p:nvPicPr>
        <p:blipFill>
          <a:blip r:embed="rId2"/>
          <a:srcRect l="5327" t="2258" r="1333" b="74580"/>
          <a:stretch/>
        </p:blipFill>
        <p:spPr>
          <a:xfrm>
            <a:off x="3436920" y="2622600"/>
            <a:ext cx="5707080" cy="2768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4894560" y="1681200"/>
            <a:ext cx="2951640" cy="642600"/>
          </a:xfrm>
          <a:prstGeom prst="rect">
            <a:avLst/>
          </a:prstGeom>
          <a:solidFill>
            <a:srgbClr val="ffff8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URR =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5000" y="26640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 Black"/>
              </a:rPr>
              <a:t>Load-Unload response ratio</a:t>
            </a: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pic>
        <p:nvPicPr>
          <p:cNvPr id="299" name="LURR-stress-ke.gif" descr=""/>
          <p:cNvPicPr/>
          <p:nvPr/>
        </p:nvPicPr>
        <p:blipFill>
          <a:blip r:embed="rId1"/>
          <a:stretch/>
        </p:blipFill>
        <p:spPr>
          <a:xfrm>
            <a:off x="0" y="1281240"/>
            <a:ext cx="9144000" cy="2955960"/>
          </a:xfrm>
          <a:prstGeom prst="rect">
            <a:avLst/>
          </a:prstGeom>
          <a:ln w="0">
            <a:noFill/>
          </a:ln>
        </p:spPr>
      </p:pic>
      <p:pic>
        <p:nvPicPr>
          <p:cNvPr id="300" name="LURR-stress-LURR.gif" descr=""/>
          <p:cNvPicPr/>
          <p:nvPr/>
        </p:nvPicPr>
        <p:blipFill>
          <a:blip r:embed="rId2"/>
          <a:stretch/>
        </p:blipFill>
        <p:spPr>
          <a:xfrm>
            <a:off x="633240" y="3654360"/>
            <a:ext cx="8504280" cy="29815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7746840" y="2374920"/>
            <a:ext cx="660600" cy="685800"/>
          </a:xfrm>
          <a:prstGeom prst="star5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709040" y="4533840"/>
            <a:ext cx="660240" cy="685800"/>
          </a:xfrm>
          <a:prstGeom prst="star5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 Black"/>
              </a:rPr>
              <a:t>LURR ensemble average</a:t>
            </a: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711360" y="1015920"/>
          <a:ext cx="7670520" cy="31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015920"/>
                    <a:ext cx="767052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787320" y="4414680"/>
          <a:ext cx="6756480" cy="20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7320" y="4414680"/>
                    <a:ext cx="675648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3333600" y="6183360"/>
            <a:ext cx="265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33600" y="3745080"/>
            <a:ext cx="265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592560" y="2142360"/>
            <a:ext cx="1106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U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305640" y="4842360"/>
            <a:ext cx="1525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5840" y="4572000"/>
            <a:ext cx="446040" cy="164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41360" y="1549440"/>
            <a:ext cx="547920" cy="21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13480" y="2743200"/>
            <a:ext cx="660240" cy="685800"/>
          </a:xfrm>
          <a:prstGeom prst="star5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 Black"/>
              </a:rPr>
              <a:t>What has been learned from particle simulations</a:t>
            </a: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393840" y="3695760"/>
            <a:ext cx="8026200" cy="14479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See evidence for CP-like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See evidence for LURR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elation between AMR and LU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o be res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hows direct evidence for phy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echanism for earthquake fore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390600"/>
            <a:ext cx="9144000" cy="76176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 Black"/>
              </a:rPr>
              <a:t>Long range cellular automata</a:t>
            </a: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pic>
        <p:nvPicPr>
          <p:cNvPr id="319" name="grid" descr=""/>
          <p:cNvPicPr/>
          <p:nvPr/>
        </p:nvPicPr>
        <p:blipFill>
          <a:blip r:embed="rId1"/>
          <a:stretch/>
        </p:blipFill>
        <p:spPr>
          <a:xfrm>
            <a:off x="330120" y="1496880"/>
            <a:ext cx="3245040" cy="4262400"/>
          </a:xfrm>
          <a:prstGeom prst="rect">
            <a:avLst/>
          </a:prstGeom>
          <a:ln w="0">
            <a:noFill/>
          </a:ln>
        </p:spPr>
      </p:pic>
      <p:pic>
        <p:nvPicPr>
          <p:cNvPr id="320" name="switch" descr=""/>
          <p:cNvPicPr/>
          <p:nvPr/>
        </p:nvPicPr>
        <p:blipFill>
          <a:blip r:embed="rId2"/>
          <a:srcRect l="0" t="0" r="50056" b="50062"/>
          <a:stretch/>
        </p:blipFill>
        <p:spPr>
          <a:xfrm>
            <a:off x="3513240" y="1866960"/>
            <a:ext cx="5284800" cy="34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 Black"/>
              </a:rPr>
              <a:t>Accelerating energy release &amp; correlation evolution</a:t>
            </a: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990720" y="1405080"/>
            <a:ext cx="3380760" cy="5236560"/>
            <a:chOff x="990720" y="1405080"/>
            <a:chExt cx="3380760" cy="5236560"/>
          </a:xfrm>
        </p:grpSpPr>
        <p:pic>
          <p:nvPicPr>
            <p:cNvPr id="323" name="LRcorr1" descr=""/>
            <p:cNvPicPr/>
            <p:nvPr/>
          </p:nvPicPr>
          <p:blipFill>
            <a:blip r:embed="rId1"/>
            <a:stretch/>
          </p:blipFill>
          <p:spPr>
            <a:xfrm>
              <a:off x="990720" y="3403080"/>
              <a:ext cx="3162240" cy="32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LRpwr1" descr=""/>
            <p:cNvPicPr/>
            <p:nvPr/>
          </p:nvPicPr>
          <p:blipFill>
            <a:blip r:embed="rId2"/>
            <a:stretch/>
          </p:blipFill>
          <p:spPr>
            <a:xfrm>
              <a:off x="1333440" y="1405080"/>
              <a:ext cx="3038040" cy="196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"/>
          <p:cNvSpPr/>
          <p:nvPr/>
        </p:nvSpPr>
        <p:spPr>
          <a:xfrm>
            <a:off x="7810560" y="5511960"/>
            <a:ext cx="1155600" cy="1168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854600" y="1447920"/>
            <a:ext cx="3349080" cy="5244480"/>
            <a:chOff x="4854600" y="1447920"/>
            <a:chExt cx="3349080" cy="5244480"/>
          </a:xfrm>
        </p:grpSpPr>
        <p:pic>
          <p:nvPicPr>
            <p:cNvPr id="327" name="LRcorr3" descr=""/>
            <p:cNvPicPr/>
            <p:nvPr/>
          </p:nvPicPr>
          <p:blipFill>
            <a:blip r:embed="rId3"/>
            <a:stretch/>
          </p:blipFill>
          <p:spPr>
            <a:xfrm>
              <a:off x="4854600" y="3371760"/>
              <a:ext cx="3119040" cy="33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LRpwr3" descr=""/>
            <p:cNvPicPr/>
            <p:nvPr/>
          </p:nvPicPr>
          <p:blipFill>
            <a:blip r:embed="rId4"/>
            <a:stretch/>
          </p:blipFill>
          <p:spPr>
            <a:xfrm>
              <a:off x="5115240" y="1447920"/>
              <a:ext cx="3088440" cy="193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"/>
          <p:cNvSpPr/>
          <p:nvPr/>
        </p:nvSpPr>
        <p:spPr>
          <a:xfrm>
            <a:off x="5905800" y="4253040"/>
            <a:ext cx="12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 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84760" y="4282920"/>
            <a:ext cx="12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 = 0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9080" y="0"/>
            <a:ext cx="7772400" cy="6984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 Black"/>
              </a:rPr>
              <a:t>Short range cellular automata</a:t>
            </a: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81000" y="1057320"/>
            <a:ext cx="2797200" cy="2517120"/>
            <a:chOff x="81000" y="1057320"/>
            <a:chExt cx="2797200" cy="2517120"/>
          </a:xfrm>
        </p:grpSpPr>
        <p:grpSp>
          <p:nvGrpSpPr>
            <p:cNvPr id="333" name=""/>
            <p:cNvGrpSpPr/>
            <p:nvPr/>
          </p:nvGrpSpPr>
          <p:grpSpPr>
            <a:xfrm>
              <a:off x="304920" y="1139760"/>
              <a:ext cx="2401920" cy="2252520"/>
              <a:chOff x="304920" y="1139760"/>
              <a:chExt cx="2401920" cy="2252520"/>
            </a:xfrm>
          </p:grpSpPr>
          <p:pic>
            <p:nvPicPr>
              <p:cNvPr id="334" name="NNgr1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920" y="1139760"/>
                <a:ext cx="2401920" cy="225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>
                <a:off x="2112840" y="1295280"/>
                <a:ext cx="474840" cy="58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388800" y="3054240"/>
              <a:ext cx="24894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      1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 failed cel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51040" y="1257480"/>
              <a:ext cx="1765080" cy="176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81000" y="1057320"/>
              <a:ext cx="826920" cy="2124720"/>
              <a:chOff x="81000" y="1057320"/>
              <a:chExt cx="826920" cy="2124720"/>
            </a:xfrm>
          </p:grpSpPr>
          <p:sp>
            <p:nvSpPr>
              <p:cNvPr id="339" name=""/>
              <p:cNvSpPr/>
              <p:nvPr/>
            </p:nvSpPr>
            <p:spPr>
              <a:xfrm>
                <a:off x="299880" y="1057320"/>
                <a:ext cx="514440" cy="20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70000" y="1108080"/>
                <a:ext cx="637920" cy="20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e+6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00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6200000">
                <a:off x="-286920" y="196668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 cluste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157320" y="3857760"/>
            <a:ext cx="2816280" cy="2521800"/>
            <a:chOff x="157320" y="3857760"/>
            <a:chExt cx="2816280" cy="2521800"/>
          </a:xfrm>
        </p:grpSpPr>
        <p:pic>
          <p:nvPicPr>
            <p:cNvPr id="343" name="NNgr4" descr=""/>
            <p:cNvPicPr/>
            <p:nvPr/>
          </p:nvPicPr>
          <p:blipFill>
            <a:blip r:embed="rId2"/>
            <a:stretch/>
          </p:blipFill>
          <p:spPr>
            <a:xfrm>
              <a:off x="343080" y="3944880"/>
              <a:ext cx="243504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2163600" y="4125960"/>
              <a:ext cx="47484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14400" y="4065480"/>
              <a:ext cx="1765440" cy="1776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4200" y="5859360"/>
              <a:ext cx="24894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      1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 failed cel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57320" y="3857760"/>
              <a:ext cx="826920" cy="2124720"/>
              <a:chOff x="157320" y="3857760"/>
              <a:chExt cx="826920" cy="2124720"/>
            </a:xfrm>
          </p:grpSpPr>
          <p:sp>
            <p:nvSpPr>
              <p:cNvPr id="348" name=""/>
              <p:cNvSpPr/>
              <p:nvPr/>
            </p:nvSpPr>
            <p:spPr>
              <a:xfrm>
                <a:off x="376200" y="3857760"/>
                <a:ext cx="514440" cy="20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6320" y="3908520"/>
                <a:ext cx="637920" cy="20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e+6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00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6200000">
                <a:off x="-210600" y="4767120"/>
                <a:ext cx="104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 cluste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1" name=""/>
          <p:cNvGrpSpPr/>
          <p:nvPr/>
        </p:nvGrpSpPr>
        <p:grpSpPr>
          <a:xfrm>
            <a:off x="2763720" y="1054080"/>
            <a:ext cx="6387840" cy="5806080"/>
            <a:chOff x="2763720" y="1054080"/>
            <a:chExt cx="6387840" cy="5806080"/>
          </a:xfrm>
        </p:grpSpPr>
        <p:pic>
          <p:nvPicPr>
            <p:cNvPr id="352" name="NNparam" descr=""/>
            <p:cNvPicPr/>
            <p:nvPr/>
          </p:nvPicPr>
          <p:blipFill>
            <a:blip r:embed="rId3"/>
            <a:stretch/>
          </p:blipFill>
          <p:spPr>
            <a:xfrm>
              <a:off x="2763720" y="1054080"/>
              <a:ext cx="6370920" cy="58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3929040" y="1303200"/>
              <a:ext cx="5011920" cy="472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36960" y="1517760"/>
              <a:ext cx="4962600" cy="4302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11760" y="1541520"/>
              <a:ext cx="5029200" cy="4503600"/>
            </a:xfrm>
            <a:custGeom>
              <a:avLst/>
              <a:gdLst/>
              <a:ahLst/>
              <a:rect l="l" t="t" r="r" b="b"/>
              <a:pathLst>
                <a:path w="3168" h="2837">
                  <a:moveTo>
                    <a:pt x="11" y="2826"/>
                  </a:moveTo>
                  <a:lnTo>
                    <a:pt x="0" y="1024"/>
                  </a:lnTo>
                  <a:lnTo>
                    <a:pt x="288" y="896"/>
                  </a:lnTo>
                  <a:lnTo>
                    <a:pt x="491" y="906"/>
                  </a:lnTo>
                  <a:lnTo>
                    <a:pt x="619" y="757"/>
                  </a:lnTo>
                  <a:lnTo>
                    <a:pt x="811" y="757"/>
                  </a:lnTo>
                  <a:lnTo>
                    <a:pt x="939" y="597"/>
                  </a:lnTo>
                  <a:lnTo>
                    <a:pt x="1451" y="373"/>
                  </a:lnTo>
                  <a:lnTo>
                    <a:pt x="1611" y="213"/>
                  </a:lnTo>
                  <a:lnTo>
                    <a:pt x="2048" y="0"/>
                  </a:lnTo>
                  <a:lnTo>
                    <a:pt x="3168" y="0"/>
                  </a:lnTo>
                  <a:lnTo>
                    <a:pt x="3157" y="2837"/>
                  </a:lnTo>
                  <a:lnTo>
                    <a:pt x="11" y="28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32280" y="1541520"/>
              <a:ext cx="3270240" cy="1628640"/>
            </a:xfrm>
            <a:custGeom>
              <a:avLst/>
              <a:gdLst/>
              <a:ahLst/>
              <a:rect l="l" t="t" r="r" b="b"/>
              <a:pathLst>
                <a:path w="2052" h="1026">
                  <a:moveTo>
                    <a:pt x="0" y="1026"/>
                  </a:moveTo>
                  <a:lnTo>
                    <a:pt x="306" y="885"/>
                  </a:lnTo>
                  <a:lnTo>
                    <a:pt x="477" y="885"/>
                  </a:lnTo>
                  <a:lnTo>
                    <a:pt x="627" y="738"/>
                  </a:lnTo>
                  <a:lnTo>
                    <a:pt x="795" y="738"/>
                  </a:lnTo>
                  <a:lnTo>
                    <a:pt x="963" y="579"/>
                  </a:lnTo>
                  <a:lnTo>
                    <a:pt x="1134" y="504"/>
                  </a:lnTo>
                  <a:lnTo>
                    <a:pt x="1434" y="363"/>
                  </a:lnTo>
                  <a:lnTo>
                    <a:pt x="1596" y="213"/>
                  </a:lnTo>
                  <a:lnTo>
                    <a:pt x="2052" y="0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41640" y="1316160"/>
              <a:ext cx="5011920" cy="47242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67760" y="6081840"/>
              <a:ext cx="5383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           0.2          0.4         0.6         0.8      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56280" y="6413400"/>
              <a:ext cx="253980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70400" y="6461280"/>
              <a:ext cx="2601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ess transfer rat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93960" y="2247840"/>
              <a:ext cx="343080" cy="302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40080" y="1130400"/>
              <a:ext cx="495360" cy="507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17480" y="1116000"/>
              <a:ext cx="534240" cy="51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2054880" y="3567240"/>
              <a:ext cx="2331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ssipation fa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43160" y="15019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46880" y="16542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524560" y="2425680"/>
              <a:ext cx="152280" cy="291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90520" y="2465280"/>
              <a:ext cx="200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moothn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20960" y="4125960"/>
              <a:ext cx="392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cc"/>
                  </a:solidFill>
                  <a:latin typeface="Arial"/>
                </a:rPr>
                <a:t>No accelerating energy rele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06640" y="1598760"/>
              <a:ext cx="1709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cc"/>
                  </a:solidFill>
                  <a:latin typeface="Arial"/>
                </a:rPr>
                <a:t>Acceler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cc"/>
                  </a:solidFill>
                  <a:latin typeface="Arial"/>
                </a:rPr>
                <a:t>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 Black"/>
              </a:rPr>
              <a:t>Accelerating energy release</a:t>
            </a: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pic>
        <p:nvPicPr>
          <p:cNvPr id="372" name="NNfprob" descr=""/>
          <p:cNvPicPr/>
          <p:nvPr/>
        </p:nvPicPr>
        <p:blipFill>
          <a:blip r:embed="rId1"/>
          <a:stretch/>
        </p:blipFill>
        <p:spPr>
          <a:xfrm>
            <a:off x="181080" y="1301760"/>
            <a:ext cx="4903560" cy="4903920"/>
          </a:xfrm>
          <a:prstGeom prst="rect">
            <a:avLst/>
          </a:prstGeom>
          <a:ln w="0">
            <a:noFill/>
          </a:ln>
        </p:spPr>
      </p:pic>
      <p:pic>
        <p:nvPicPr>
          <p:cNvPr id="373" name="NNgr2" descr=""/>
          <p:cNvPicPr/>
          <p:nvPr/>
        </p:nvPicPr>
        <p:blipFill>
          <a:blip r:embed="rId2"/>
          <a:stretch/>
        </p:blipFill>
        <p:spPr>
          <a:xfrm>
            <a:off x="5192640" y="2136600"/>
            <a:ext cx="3422880" cy="31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55680"/>
            <a:ext cx="6933960" cy="76176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72"/>
                </a:solidFill>
                <a:latin typeface="Arial Black"/>
              </a:rPr>
              <a:t>To predict or not to predict, that is the question!</a:t>
            </a: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1373400"/>
            <a:ext cx="5032440" cy="4531680"/>
            <a:chOff x="0" y="1373400"/>
            <a:chExt cx="5032440" cy="4531680"/>
          </a:xfrm>
        </p:grpSpPr>
        <p:sp>
          <p:nvSpPr>
            <p:cNvPr id="103" name=""/>
            <p:cNvSpPr/>
            <p:nvPr/>
          </p:nvSpPr>
          <p:spPr>
            <a:xfrm>
              <a:off x="3691080" y="4708440"/>
              <a:ext cx="1158840" cy="1189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newcastle_150a" descr=""/>
            <p:cNvPicPr/>
            <p:nvPr/>
          </p:nvPicPr>
          <p:blipFill>
            <a:blip r:embed="rId1"/>
            <a:stretch/>
          </p:blipFill>
          <p:spPr>
            <a:xfrm>
              <a:off x="646200" y="2013120"/>
              <a:ext cx="4141800" cy="33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27120" y="5251320"/>
              <a:ext cx="4228920" cy="18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8040" y="5213520"/>
              <a:ext cx="415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60         1970         1980         19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9800" y="2131920"/>
              <a:ext cx="4105080" cy="9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76760" y="2008080"/>
              <a:ext cx="77760" cy="321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81360" y="2149560"/>
              <a:ext cx="123840" cy="199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40240" y="2284560"/>
              <a:ext cx="210960" cy="306360"/>
            </a:xfrm>
            <a:prstGeom prst="star5">
              <a:avLst/>
            </a:prstGeom>
            <a:solidFill>
              <a:srgbClr val="03f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59120" y="3505320"/>
              <a:ext cx="398520" cy="207720"/>
            </a:xfrm>
            <a:prstGeom prst="line">
              <a:avLst/>
            </a:prstGeom>
            <a:ln w="38160">
              <a:solidFill>
                <a:srgbClr val="0000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40680" y="3227400"/>
              <a:ext cx="285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4"/>
                  </a:solidFill>
                  <a:latin typeface="Arial"/>
                </a:rPr>
                <a:t>AMR observ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002120" y="2576520"/>
              <a:ext cx="471600" cy="339840"/>
            </a:xfrm>
            <a:prstGeom prst="line">
              <a:avLst/>
            </a:prstGeom>
            <a:ln w="38160">
              <a:solidFill>
                <a:srgbClr val="03f90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105440" y="2225160"/>
              <a:ext cx="439560" cy="16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0360" y="2698920"/>
              <a:ext cx="207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3f90f"/>
                  </a:solidFill>
                  <a:latin typeface="Arial"/>
                </a:rPr>
                <a:t>Predicted 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5360" y="1989000"/>
              <a:ext cx="338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ewcastle earthqua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2880" y="1968480"/>
              <a:ext cx="3960720" cy="3220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8720" y="1833480"/>
              <a:ext cx="195480" cy="35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8640" y="2098800"/>
              <a:ext cx="462600" cy="32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-2081520" y="3454920"/>
              <a:ext cx="453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mulative Benioff strain release (x 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018040" y="1825560"/>
            <a:ext cx="4131000" cy="3755880"/>
            <a:chOff x="5018040" y="1825560"/>
            <a:chExt cx="4131000" cy="3755880"/>
          </a:xfrm>
        </p:grpSpPr>
        <p:sp>
          <p:nvSpPr>
            <p:cNvPr id="122" name=""/>
            <p:cNvSpPr/>
            <p:nvPr/>
          </p:nvSpPr>
          <p:spPr>
            <a:xfrm>
              <a:off x="5410080" y="1967040"/>
              <a:ext cx="3357720" cy="3216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07040" y="2049480"/>
              <a:ext cx="2500200" cy="3063960"/>
            </a:xfrm>
            <a:custGeom>
              <a:avLst/>
              <a:gdLst/>
              <a:ahLst/>
              <a:rect l="l" t="t" r="r" b="b"/>
              <a:pathLst>
                <a:path w="883" h="2473">
                  <a:moveTo>
                    <a:pt x="883" y="1759"/>
                  </a:moveTo>
                  <a:lnTo>
                    <a:pt x="864" y="1912"/>
                  </a:lnTo>
                  <a:lnTo>
                    <a:pt x="856" y="1225"/>
                  </a:lnTo>
                  <a:lnTo>
                    <a:pt x="833" y="1302"/>
                  </a:lnTo>
                  <a:lnTo>
                    <a:pt x="826" y="1163"/>
                  </a:lnTo>
                  <a:lnTo>
                    <a:pt x="807" y="1102"/>
                  </a:lnTo>
                  <a:lnTo>
                    <a:pt x="784" y="1225"/>
                  </a:lnTo>
                  <a:lnTo>
                    <a:pt x="764" y="1183"/>
                  </a:lnTo>
                  <a:lnTo>
                    <a:pt x="760" y="1121"/>
                  </a:lnTo>
                  <a:lnTo>
                    <a:pt x="734" y="1121"/>
                  </a:lnTo>
                  <a:lnTo>
                    <a:pt x="726" y="1186"/>
                  </a:lnTo>
                  <a:lnTo>
                    <a:pt x="695" y="1186"/>
                  </a:lnTo>
                  <a:lnTo>
                    <a:pt x="684" y="1102"/>
                  </a:lnTo>
                  <a:lnTo>
                    <a:pt x="664" y="1033"/>
                  </a:lnTo>
                  <a:lnTo>
                    <a:pt x="645" y="0"/>
                  </a:lnTo>
                  <a:lnTo>
                    <a:pt x="618" y="1881"/>
                  </a:lnTo>
                  <a:lnTo>
                    <a:pt x="588" y="1878"/>
                  </a:lnTo>
                  <a:lnTo>
                    <a:pt x="584" y="2020"/>
                  </a:lnTo>
                  <a:lnTo>
                    <a:pt x="568" y="1862"/>
                  </a:lnTo>
                  <a:lnTo>
                    <a:pt x="553" y="1789"/>
                  </a:lnTo>
                  <a:lnTo>
                    <a:pt x="488" y="2031"/>
                  </a:lnTo>
                  <a:lnTo>
                    <a:pt x="284" y="2346"/>
                  </a:lnTo>
                  <a:lnTo>
                    <a:pt x="269" y="1997"/>
                  </a:lnTo>
                  <a:lnTo>
                    <a:pt x="242" y="2112"/>
                  </a:lnTo>
                  <a:lnTo>
                    <a:pt x="127" y="2116"/>
                  </a:lnTo>
                  <a:lnTo>
                    <a:pt x="115" y="2235"/>
                  </a:lnTo>
                  <a:lnTo>
                    <a:pt x="81" y="2154"/>
                  </a:lnTo>
                  <a:lnTo>
                    <a:pt x="65" y="2269"/>
                  </a:lnTo>
                  <a:lnTo>
                    <a:pt x="0" y="2473"/>
                  </a:lnTo>
                </a:path>
              </a:pathLst>
            </a:custGeom>
            <a:noFill/>
            <a:ln w="25560">
              <a:solidFill>
                <a:srgbClr val="03f9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29040" y="2935440"/>
              <a:ext cx="18388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ewcast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arthqua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40040" y="2092320"/>
              <a:ext cx="1889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3f90f"/>
                  </a:solidFill>
                  <a:latin typeface="Arial"/>
                </a:rPr>
                <a:t>LURR 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83240" y="2389320"/>
              <a:ext cx="398520" cy="372960"/>
            </a:xfrm>
            <a:prstGeom prst="line">
              <a:avLst/>
            </a:prstGeom>
            <a:ln w="50760">
              <a:solidFill>
                <a:srgbClr val="03f90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410080" y="4527360"/>
              <a:ext cx="33386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51880" y="4435560"/>
              <a:ext cx="104760" cy="177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59320" y="1960560"/>
              <a:ext cx="8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33760" y="2651040"/>
              <a:ext cx="8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33760" y="3252600"/>
              <a:ext cx="8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25840" y="3881520"/>
              <a:ext cx="8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40240" y="4527360"/>
              <a:ext cx="8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87680" y="1866960"/>
              <a:ext cx="82800" cy="29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24160" y="1825560"/>
              <a:ext cx="32256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57840" y="3706920"/>
              <a:ext cx="1067040" cy="765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10080" y="5160960"/>
              <a:ext cx="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75440" y="5183280"/>
              <a:ext cx="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773920" y="5165640"/>
              <a:ext cx="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76600" y="5267160"/>
              <a:ext cx="34959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18040" y="5213160"/>
              <a:ext cx="41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80                  1985                   19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969120" y="5751360"/>
            <a:ext cx="691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, Yin, Mora, Peng, Wang and Weatherley, 2002, PAGEOPH, Vol. 159, No.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5200" y="1420920"/>
            <a:ext cx="837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ervations such as accelerating seismic energy release &amp; high Load-Unload respon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ceding large earthquakes provide encouragement, understanding of the physics is required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 Black"/>
              </a:rPr>
              <a:t>What is learned from CA simulations</a:t>
            </a:r>
            <a:br>
              <a:rPr sz="1600"/>
            </a:br>
            <a:br>
              <a:rPr sz="1600"/>
            </a:br>
            <a:r>
              <a:rPr b="0" lang="en-US" sz="2400" spc="-1" strike="noStrike">
                <a:solidFill>
                  <a:srgbClr val="000072"/>
                </a:solidFill>
                <a:latin typeface="Arial Black"/>
              </a:rPr>
              <a:t>(See Weatherley, Thurs, 16:45)</a:t>
            </a:r>
            <a:endParaRPr b="0" lang="en-US" sz="24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375" name=""/>
          <p:cNvSpPr/>
          <p:nvPr/>
        </p:nvSpPr>
        <p:spPr>
          <a:xfrm>
            <a:off x="469800" y="4038480"/>
            <a:ext cx="7670880" cy="14479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Can get either CP-like behavior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SOC behaviour depending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 Black"/>
              </a:rPr>
              <a:t>Dissi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 Black"/>
              </a:rPr>
              <a:t>Stress transf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 Black"/>
              </a:rPr>
              <a:t>Visco-elastic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Two regimes: 1. Forecasting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2. Forecasting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Where is the cru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47160" cy="76212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 Black"/>
              </a:rPr>
              <a:t>What kind of complex system?</a:t>
            </a: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pic>
        <p:nvPicPr>
          <p:cNvPr id="378" name="NNmnstr" descr=""/>
          <p:cNvPicPr/>
          <p:nvPr/>
        </p:nvPicPr>
        <p:blipFill>
          <a:blip r:embed="rId1"/>
          <a:stretch/>
        </p:blipFill>
        <p:spPr>
          <a:xfrm>
            <a:off x="0" y="906480"/>
            <a:ext cx="9144000" cy="5951520"/>
          </a:xfrm>
          <a:prstGeom prst="rect">
            <a:avLst/>
          </a:prstGeom>
          <a:ln w="0">
            <a:noFill/>
          </a:ln>
        </p:spPr>
      </p:pic>
      <p:pic>
        <p:nvPicPr>
          <p:cNvPr id="379" name="mu" descr=""/>
          <p:cNvPicPr/>
          <p:nvPr/>
        </p:nvPicPr>
        <p:blipFill>
          <a:blip r:embed="rId2"/>
          <a:srcRect l="667" t="12921" r="667" b="29814"/>
          <a:stretch/>
        </p:blipFill>
        <p:spPr>
          <a:xfrm>
            <a:off x="5030640" y="2589120"/>
            <a:ext cx="3476880" cy="696960"/>
          </a:xfrm>
          <a:prstGeom prst="rect">
            <a:avLst/>
          </a:prstGeom>
          <a:ln w="0">
            <a:noFill/>
          </a:ln>
        </p:spPr>
      </p:pic>
      <p:pic>
        <p:nvPicPr>
          <p:cNvPr id="380" name="mu" descr=""/>
          <p:cNvPicPr/>
          <p:nvPr/>
        </p:nvPicPr>
        <p:blipFill>
          <a:blip r:embed="rId3"/>
          <a:srcRect l="667" t="18884" r="667" b="995"/>
          <a:stretch/>
        </p:blipFill>
        <p:spPr>
          <a:xfrm>
            <a:off x="5008680" y="2313000"/>
            <a:ext cx="3473280" cy="37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382" name=""/>
          <p:cNvSpPr/>
          <p:nvPr/>
        </p:nvSpPr>
        <p:spPr>
          <a:xfrm>
            <a:off x="380880" y="2031840"/>
            <a:ext cx="8026560" cy="262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06440" y="2298240"/>
            <a:ext cx="81914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5f5f"/>
                </a:solidFill>
                <a:latin typeface="Arial Black"/>
              </a:rPr>
              <a:t>Elasto-dynamic systems like the crust </a:t>
            </a:r>
            <a:r>
              <a:rPr b="0" i="1" lang="en-US" sz="2800" spc="-1" strike="noStrike">
                <a:solidFill>
                  <a:srgbClr val="0000cc"/>
                </a:solidFill>
                <a:latin typeface="Arial Black"/>
              </a:rPr>
              <a:t>may</a:t>
            </a:r>
            <a:r>
              <a:rPr b="0" i="1" lang="en-US" sz="2800" spc="-1" strike="noStrike">
                <a:solidFill>
                  <a:srgbClr val="5f5f5f"/>
                </a:solidFill>
                <a:latin typeface="Arial Black"/>
              </a:rPr>
              <a:t> lie near the border betw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 Black"/>
              </a:rPr>
              <a:t>predictability and unpredic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 Black"/>
              </a:rPr>
              <a:t>References</a:t>
            </a: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2440" y="118116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ra, P. and Place, D., 2002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ress Correlation Function Evolution in Lattice Solid Elasto-dynamic Models of Shear and Fracture Zones and Earthquake Predic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Pure Appl. Geophys., Vol. 159, No. 1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ra, P., Wang, Y.C., Yin, C., Place, D., and Yin, X.C., 2002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imulation of Load-Unload Response Ratio and Critical Sensitivity in the Lattice Solid Mode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Pure Appl. Geophys., Vol. 159, No. 1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ra, P., Place, D., Abe, S. &amp; Jaume, S., 2000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attice solid simulation of the physics of earthquakes: the model,results and directio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in: GeoComplexity and the Physics of Earthquakes (Geophysical Monograph series; no. 120), eds. Rundle, J.B., Turcotte, D.L. &amp; Klein, W., pp 105-125 (American Geophys. Union, Washington, DC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ce, D., and Mora, P., Place, D. &amp; Mora, P., 1999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 lattice solid model to simulate the physics of rocks and earthquakes: incorporation of fric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J. Comp. Phys., 150, 1-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atherley, D., Mora, P., and Xia, M.F., 2002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ong-Range Automaton Models of Earthquakes: Power Law Accelerations, Correlation Evolution, and Mode Switch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Pure Appl. Geophys., Vol. 159, No. 1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in, X.C., Mora, P., Peng, K.Y., Wang, Y.C., and Weatherley, D., 2002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oad-Unload Response Ratio and Accelerating Moment/nergy Release Critical Region Scaling and Earthquake Predic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Pure Appl. Geophys., Vol. 159, No. 1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6920" y="-360"/>
            <a:ext cx="8718480" cy="76212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 Black"/>
              </a:rPr>
              <a:t>Critical scaling region size</a:t>
            </a: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99360" y="1212840"/>
            <a:ext cx="6485400" cy="5411160"/>
            <a:chOff x="999360" y="1212840"/>
            <a:chExt cx="6485400" cy="5411160"/>
          </a:xfrm>
        </p:grpSpPr>
        <p:sp>
          <p:nvSpPr>
            <p:cNvPr id="146" name=""/>
            <p:cNvSpPr/>
            <p:nvPr/>
          </p:nvSpPr>
          <p:spPr>
            <a:xfrm>
              <a:off x="2145240" y="1279080"/>
              <a:ext cx="5183640" cy="4532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37720" y="6225120"/>
              <a:ext cx="40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URR critical region radius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03600">
              <a:off x="1001160" y="1570320"/>
              <a:ext cx="485280" cy="38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MR critical region radius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176560" y="1391760"/>
              <a:ext cx="5047200" cy="4390920"/>
            </a:xfrm>
            <a:prstGeom prst="line">
              <a:avLst/>
            </a:prstGeom>
            <a:ln w="5076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58280" y="4237920"/>
              <a:ext cx="524160" cy="16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91040" y="1270080"/>
              <a:ext cx="524160" cy="16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32080" y="5698440"/>
              <a:ext cx="524160" cy="16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58280" y="2760120"/>
              <a:ext cx="524160" cy="16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35000" y="6000120"/>
              <a:ext cx="5549760" cy="19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                   200                   400                    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60880" y="1212840"/>
              <a:ext cx="563040" cy="512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2145240" y="5804280"/>
              <a:ext cx="5059440" cy="167400"/>
              <a:chOff x="2145240" y="5804280"/>
              <a:chExt cx="5059440" cy="16740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5099040" y="5810040"/>
                <a:ext cx="422280" cy="157320"/>
                <a:chOff x="5099040" y="5810040"/>
                <a:chExt cx="422280" cy="1573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099040" y="5815440"/>
                  <a:ext cx="0" cy="73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521320" y="5810040"/>
                  <a:ext cx="0" cy="1573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5940720" y="5810040"/>
                <a:ext cx="1263960" cy="161640"/>
                <a:chOff x="5940720" y="5810040"/>
                <a:chExt cx="1263960" cy="1616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5940720" y="5810040"/>
                  <a:ext cx="422280" cy="157320"/>
                  <a:chOff x="5940720" y="5810040"/>
                  <a:chExt cx="422280" cy="15732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5940720" y="5815440"/>
                    <a:ext cx="0" cy="73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6363000" y="5810040"/>
                    <a:ext cx="0" cy="1573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6782040" y="5820120"/>
                  <a:ext cx="0" cy="73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204680" y="5814360"/>
                  <a:ext cx="0" cy="1573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40720" y="5820120"/>
                  <a:ext cx="0" cy="73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363360" y="5814360"/>
                  <a:ext cx="0" cy="1573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3414240" y="5804280"/>
                <a:ext cx="1263600" cy="161640"/>
                <a:chOff x="3414240" y="5804280"/>
                <a:chExt cx="1263600" cy="16164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3414240" y="5804280"/>
                  <a:ext cx="421920" cy="157320"/>
                  <a:chOff x="3414240" y="5804280"/>
                  <a:chExt cx="421920" cy="15732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3414240" y="5809680"/>
                    <a:ext cx="0" cy="73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836160" y="5804280"/>
                    <a:ext cx="0" cy="1573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4255560" y="5814360"/>
                  <a:ext cx="0" cy="73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677840" y="5808600"/>
                  <a:ext cx="0" cy="1573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414240" y="5814360"/>
                  <a:ext cx="0" cy="73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836520" y="5808600"/>
                  <a:ext cx="0" cy="1573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2145240" y="5804280"/>
                <a:ext cx="0" cy="157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564280" y="5814360"/>
                <a:ext cx="0" cy="73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986560" y="5808600"/>
                <a:ext cx="0" cy="157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145240" y="5808600"/>
                <a:ext cx="0" cy="157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31840" y="5074200"/>
              <a:ext cx="120960" cy="740160"/>
              <a:chOff x="2031840" y="5074200"/>
              <a:chExt cx="120960" cy="740160"/>
            </a:xfrm>
          </p:grpSpPr>
          <p:sp>
            <p:nvSpPr>
              <p:cNvPr id="181" name=""/>
              <p:cNvSpPr/>
              <p:nvPr/>
            </p:nvSpPr>
            <p:spPr>
              <a:xfrm>
                <a:off x="2031840" y="5814360"/>
                <a:ext cx="1047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80800" y="5074200"/>
                <a:ext cx="72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030040" y="3596400"/>
              <a:ext cx="121320" cy="740160"/>
              <a:chOff x="2030040" y="3596400"/>
              <a:chExt cx="121320" cy="740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030040" y="4336560"/>
                <a:ext cx="1051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079000" y="3596400"/>
                <a:ext cx="72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030040" y="2112480"/>
              <a:ext cx="121320" cy="740160"/>
              <a:chOff x="2030040" y="2112480"/>
              <a:chExt cx="121320" cy="740160"/>
            </a:xfrm>
          </p:grpSpPr>
          <p:sp>
            <p:nvSpPr>
              <p:cNvPr id="187" name=""/>
              <p:cNvSpPr/>
              <p:nvPr/>
            </p:nvSpPr>
            <p:spPr>
              <a:xfrm>
                <a:off x="2030040" y="2852640"/>
                <a:ext cx="1051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079000" y="2112480"/>
                <a:ext cx="72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038680" y="1373400"/>
              <a:ext cx="104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30840" y="4822560"/>
              <a:ext cx="149400" cy="13356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44400" y="4638600"/>
              <a:ext cx="149760" cy="13356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69920" y="4255560"/>
              <a:ext cx="149760" cy="13356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98280" y="3727080"/>
              <a:ext cx="149400" cy="13356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46360" y="1323000"/>
              <a:ext cx="149760" cy="13356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907000" y="5051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72200" y="4762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68920" y="4321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92960" y="3787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97880" y="18842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83560" y="1433520"/>
            <a:ext cx="413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tical region scaling with magnitude sugg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physical mechanism rather t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stical fluctuations ar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in of such observation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247320"/>
            <a:ext cx="8286480" cy="76212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2"/>
                </a:solidFill>
                <a:latin typeface="Arial Black"/>
              </a:rPr>
              <a:t>No eq cycle = prediction impossible</a:t>
            </a:r>
            <a:endParaRPr b="0" lang="en-US" sz="28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005280"/>
            <a:ext cx="9144000" cy="76176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2"/>
                </a:solidFill>
                <a:latin typeface="Arial Black"/>
              </a:rPr>
              <a:t>Eq cycle exists = prediction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60520" y="1154160"/>
            <a:ext cx="5838840" cy="89676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077560" y="1242720"/>
            <a:ext cx="4692600" cy="107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 behavi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58800" y="4041720"/>
            <a:ext cx="5838840" cy="187488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19320" y="4160880"/>
            <a:ext cx="4800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 behavi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law time-to-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olution of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3200" y="466200"/>
            <a:ext cx="8274240" cy="58284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 Black"/>
              </a:rPr>
              <a:t>Overview</a:t>
            </a: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7796160" y="5462640"/>
            <a:ext cx="1155600" cy="120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25240" y="1612800"/>
            <a:ext cx="8062920" cy="3935520"/>
          </a:xfrm>
          <a:prstGeom prst="rect">
            <a:avLst/>
          </a:prstGeom>
          <a:solidFill>
            <a:srgbClr val="ffff81"/>
          </a:solidFill>
          <a:ln w="1908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y use particle and CA simu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was learned from particle simu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has been learned from CA simu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kind of complex system is the cru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331920"/>
            <a:ext cx="9144000" cy="76176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 Black"/>
              </a:rPr>
              <a:t>Why use particle and CA simulations</a:t>
            </a: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26960" y="1174320"/>
            <a:ext cx="4003920" cy="31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le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Pro: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Tractable  model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iscontinuous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Con: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Computation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72080" y="1143000"/>
            <a:ext cx="4317840" cy="31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Pro: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Fast – can 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overall system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Con: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Simplifications m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affect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07920" y="3433680"/>
            <a:ext cx="2870280" cy="2870280"/>
          </a:xfrm>
          <a:prstGeom prst="rect">
            <a:avLst/>
          </a:prstGeom>
          <a:ln w="0">
            <a:noFill/>
          </a:ln>
        </p:spPr>
      </p:pic>
      <p:pic>
        <p:nvPicPr>
          <p:cNvPr id="214" name="Dsnap3" descr=""/>
          <p:cNvPicPr/>
          <p:nvPr/>
        </p:nvPicPr>
        <p:blipFill>
          <a:blip r:embed="rId2"/>
          <a:stretch/>
        </p:blipFill>
        <p:spPr>
          <a:xfrm>
            <a:off x="5006880" y="3505320"/>
            <a:ext cx="2659320" cy="26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48840" y="247320"/>
            <a:ext cx="6782040" cy="76212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 Black"/>
              </a:rPr>
              <a:t>Particle simulations: the lattice solid model</a:t>
            </a: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216" name=""/>
          <p:cNvSpPr/>
          <p:nvPr/>
        </p:nvSpPr>
        <p:spPr>
          <a:xfrm>
            <a:off x="1215360" y="147960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lastic stress transfer, rupture dynamics, gran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ynamics, elastic wave radiation, fracture, fric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hermo-mechanical feedback, thermo-porous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83480" y="5372280"/>
            <a:ext cx="1460520" cy="1485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ls_model" descr=""/>
          <p:cNvPicPr/>
          <p:nvPr/>
        </p:nvPicPr>
        <p:blipFill>
          <a:blip r:embed="rId1"/>
          <a:stretch/>
        </p:blipFill>
        <p:spPr>
          <a:xfrm>
            <a:off x="281160" y="2692440"/>
            <a:ext cx="8610480" cy="35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0268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 Black"/>
              </a:rPr>
              <a:t>Shear experiments of a granular layer</a:t>
            </a: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98160" y="1130400"/>
            <a:ext cx="2313360" cy="2563560"/>
            <a:chOff x="398160" y="1130400"/>
            <a:chExt cx="2313360" cy="2563560"/>
          </a:xfrm>
        </p:grpSpPr>
        <p:sp>
          <p:nvSpPr>
            <p:cNvPr id="221" name=""/>
            <p:cNvSpPr/>
            <p:nvPr/>
          </p:nvSpPr>
          <p:spPr>
            <a:xfrm>
              <a:off x="1194120" y="1130400"/>
              <a:ext cx="838080" cy="27936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0800000">
              <a:off x="1078200" y="3414600"/>
              <a:ext cx="838080" cy="27936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RegGrid_0" descr=""/>
            <p:cNvPicPr/>
            <p:nvPr/>
          </p:nvPicPr>
          <p:blipFill>
            <a:blip r:embed="rId1"/>
            <a:stretch/>
          </p:blipFill>
          <p:spPr>
            <a:xfrm>
              <a:off x="406440" y="1263600"/>
              <a:ext cx="2305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06440" y="1263600"/>
              <a:ext cx="2305080" cy="824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0800000">
              <a:off x="398160" y="3477960"/>
              <a:ext cx="2305080" cy="824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179520" y="1117440"/>
            <a:ext cx="2313360" cy="2583000"/>
            <a:chOff x="3179520" y="1117440"/>
            <a:chExt cx="2313360" cy="2583000"/>
          </a:xfrm>
        </p:grpSpPr>
        <p:sp>
          <p:nvSpPr>
            <p:cNvPr id="227" name=""/>
            <p:cNvSpPr/>
            <p:nvPr/>
          </p:nvSpPr>
          <p:spPr>
            <a:xfrm>
              <a:off x="3975120" y="1117440"/>
              <a:ext cx="838440" cy="279720"/>
            </a:xfrm>
            <a:prstGeom prst="rightArrow">
              <a:avLst>
                <a:gd name="adj1" fmla="val 50000"/>
                <a:gd name="adj2" fmla="val 74936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0800000">
              <a:off x="3858840" y="3421080"/>
              <a:ext cx="838440" cy="279360"/>
            </a:xfrm>
            <a:prstGeom prst="rightArrow">
              <a:avLst>
                <a:gd name="adj1" fmla="val 50000"/>
                <a:gd name="adj2" fmla="val 75032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9" name="RegGrid_66" descr=""/>
            <p:cNvPicPr/>
            <p:nvPr/>
          </p:nvPicPr>
          <p:blipFill>
            <a:blip r:embed="rId2"/>
            <a:stretch/>
          </p:blipFill>
          <p:spPr>
            <a:xfrm>
              <a:off x="3187800" y="1263600"/>
              <a:ext cx="2305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187800" y="1251000"/>
              <a:ext cx="2305080" cy="824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0800000">
              <a:off x="3179520" y="3484440"/>
              <a:ext cx="2305080" cy="828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962680" y="1098720"/>
            <a:ext cx="2310840" cy="2588400"/>
            <a:chOff x="5962680" y="1098720"/>
            <a:chExt cx="2310840" cy="2588400"/>
          </a:xfrm>
        </p:grpSpPr>
        <p:sp>
          <p:nvSpPr>
            <p:cNvPr id="233" name=""/>
            <p:cNvSpPr/>
            <p:nvPr/>
          </p:nvSpPr>
          <p:spPr>
            <a:xfrm>
              <a:off x="6750000" y="1098720"/>
              <a:ext cx="837720" cy="279360"/>
            </a:xfrm>
            <a:prstGeom prst="rightArrow">
              <a:avLst>
                <a:gd name="adj1" fmla="val 50000"/>
                <a:gd name="adj2" fmla="val 74968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0800000">
              <a:off x="6646320" y="3408120"/>
              <a:ext cx="837720" cy="279000"/>
            </a:xfrm>
            <a:prstGeom prst="rightArrow">
              <a:avLst>
                <a:gd name="adj1" fmla="val 50000"/>
                <a:gd name="adj2" fmla="val 75065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5" name="RegGrid_120" descr=""/>
            <p:cNvPicPr/>
            <p:nvPr/>
          </p:nvPicPr>
          <p:blipFill>
            <a:blip r:embed="rId3"/>
            <a:stretch/>
          </p:blipFill>
          <p:spPr>
            <a:xfrm>
              <a:off x="5968800" y="1244520"/>
              <a:ext cx="2304720" cy="23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962680" y="1231920"/>
              <a:ext cx="2304720" cy="82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0800000">
              <a:off x="5967360" y="3471840"/>
              <a:ext cx="2304720" cy="82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356000" y="6173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7440" y="48783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46840" y="5448240"/>
            <a:ext cx="139716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ke_flt" descr=""/>
          <p:cNvPicPr/>
          <p:nvPr/>
        </p:nvPicPr>
        <p:blipFill>
          <a:blip r:embed="rId4"/>
          <a:stretch/>
        </p:blipFill>
        <p:spPr>
          <a:xfrm>
            <a:off x="939960" y="4556160"/>
            <a:ext cx="7232400" cy="1601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660920" y="3835440"/>
            <a:ext cx="660240" cy="685800"/>
          </a:xfrm>
          <a:prstGeom prst="star5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231920" y="3647880"/>
            <a:ext cx="328680" cy="87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4392360" y="3648240"/>
            <a:ext cx="522360" cy="90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081560" y="3647880"/>
            <a:ext cx="895320" cy="911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7920" y="177480"/>
            <a:ext cx="8496360" cy="76212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e0dea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72"/>
                </a:solidFill>
                <a:latin typeface="Arial Black"/>
              </a:rPr>
              <a:t>Shear experiment of granular layer</a:t>
            </a:r>
            <a:endParaRPr b="0" lang="en-US" sz="3200" spc="-1" strike="noStrike">
              <a:solidFill>
                <a:srgbClr val="000072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7632720" y="5321160"/>
            <a:ext cx="1511280" cy="1359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CumE_AB_axis" descr=""/>
          <p:cNvPicPr/>
          <p:nvPr/>
        </p:nvPicPr>
        <p:blipFill>
          <a:blip r:embed="rId1"/>
          <a:stretch/>
        </p:blipFill>
        <p:spPr>
          <a:xfrm>
            <a:off x="614520" y="1117440"/>
            <a:ext cx="8300880" cy="50184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rot="16205400">
            <a:off x="-2042640" y="3367800"/>
            <a:ext cx="492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ulative Benioff st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56000" y="622296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73680" y="529128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cc"/>
                </a:solidFill>
                <a:latin typeface="Arial"/>
              </a:rPr>
              <a:t>Sequenc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09760" y="5776920"/>
            <a:ext cx="4089240" cy="648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1960" y="3416400"/>
            <a:ext cx="2514600" cy="936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45480" y="354024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cc"/>
                </a:solidFill>
                <a:latin typeface="Arial"/>
              </a:rPr>
              <a:t>Sequenc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99000" y="3443400"/>
            <a:ext cx="0" cy="234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13600" y="1998720"/>
            <a:ext cx="0" cy="1403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440000" y="1450800"/>
            <a:ext cx="3442680" cy="2591280"/>
            <a:chOff x="1440000" y="1450800"/>
            <a:chExt cx="3442680" cy="2591280"/>
          </a:xfrm>
        </p:grpSpPr>
        <p:grpSp>
          <p:nvGrpSpPr>
            <p:cNvPr id="258" name=""/>
            <p:cNvGrpSpPr/>
            <p:nvPr/>
          </p:nvGrpSpPr>
          <p:grpSpPr>
            <a:xfrm>
              <a:off x="1440000" y="1450800"/>
              <a:ext cx="3442680" cy="2591280"/>
              <a:chOff x="1440000" y="1450800"/>
              <a:chExt cx="3442680" cy="2591280"/>
            </a:xfrm>
          </p:grpSpPr>
          <p:pic>
            <p:nvPicPr>
              <p:cNvPr id="259" name="GR_2" descr=""/>
              <p:cNvPicPr/>
              <p:nvPr/>
            </p:nvPicPr>
            <p:blipFill>
              <a:blip r:embed="rId2"/>
              <a:stretch/>
            </p:blipFill>
            <p:spPr>
              <a:xfrm>
                <a:off x="1854000" y="1450800"/>
                <a:ext cx="3028680" cy="208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2056320" y="3363840"/>
                <a:ext cx="26053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       4       5       6       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744640" y="3643200"/>
                <a:ext cx="136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gnitu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725840" y="1539720"/>
                <a:ext cx="307080" cy="189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6200000">
                <a:off x="1158840" y="2167920"/>
                <a:ext cx="96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og(N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3191400" y="1486080"/>
              <a:ext cx="15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0000cc"/>
                  </a:solidFill>
                  <a:latin typeface="Arial"/>
                </a:rPr>
                <a:t>Sequenc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4T03:25:15Z</dcterms:created>
  <dc:creator>.</dc:creator>
  <dc:description/>
  <dc:language>en-US</dc:language>
  <cp:lastModifiedBy>Mora</cp:lastModifiedBy>
  <dcterms:modified xsi:type="dcterms:W3CDTF">2002-05-29T02:13:34Z</dcterms:modified>
  <cp:revision>156</cp:revision>
  <dc:subject/>
  <dc:title>The virtual earth: towards integration of earthquake and computer science</dc:title>
</cp:coreProperties>
</file>