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48488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B690-FF18-42C8-9BA9-2F4C844A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06FC-1B96-4A18-8980-777D52C3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F40D-26CC-4CD1-8A35-B4982E86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CC45-BD31-41BA-9F51-3CF96D7B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D8AD-4D7F-48FB-B2B0-29623B28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CA18-7F15-4B90-AD71-59F75412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FA08-6A7C-4963-A0AE-6D066666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C1C6-2D93-4382-89FE-C3B0FB59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5FED-A2B8-4F1E-AF84-691C65EE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4524-248B-492B-9BFC-2EC814C5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322E-DBBB-4E34-8DE6-E1198A89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722D-4600-4BD8-B6B7-F27B0A6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C9EA-6CB5-415F-8EA2-AE24C778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C8F0-FA79-4E21-81C1-9415EDBF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7418-2AE5-49E0-9A10-1D9CAF75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E135-AF3C-4A74-BC8D-86EEAC7D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625F-62BD-4481-AFFF-BAB13BE0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3BE4-5586-46B8-A122-C64A7D37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797A-558D-4DA5-8EBF-D374DC42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15F8-239A-48F5-A2E8-EE786D79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1824-01EC-4257-9AD8-FD5300FF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7429-E9A6-47B3-A4AC-04BC2A3C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BFD9-9821-4A3A-BB86-82F8767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8B94-F9FF-4AAC-B901-54CE33CD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c4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704700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5D94-310A-4FD0-93E7-197A05826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5580000" y="-63720"/>
            <a:ext cx="35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7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7e7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c4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a1a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a9a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dfd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c8c8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92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709308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CB90-57F2-4855-8D76-F2A277FDD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e3e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560" y="2205000"/>
            <a:ext cx="9109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arallel Iterative Solvers with the Selective Blocking Preconditioning for Simulations of Fault-Zone Contact</a:t>
            </a: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6360" y="4545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Kengo Naka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GeoFEM/RIST,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3rd ACES Workshop, May 5-10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Maui, Hawaii,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67640" y="443700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152280" y="2063880"/>
            <a:ext cx="5562360" cy="47941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533560" y="539424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●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ton Raphson it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86400" y="3886200"/>
            <a:ext cx="3657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▲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lver iteration for ent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ton Raphson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3520" y="4668840"/>
            <a:ext cx="34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lver iteration for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ton Raphson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09760" y="2241720"/>
            <a:ext cx="410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rge Penalty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ood N-R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rge Conditio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453680" y="4997520"/>
            <a:ext cx="1799280" cy="640800"/>
            <a:chOff x="1453680" y="4997520"/>
            <a:chExt cx="1799280" cy="640800"/>
          </a:xfrm>
        </p:grpSpPr>
        <p:sp>
          <p:nvSpPr>
            <p:cNvPr id="574" name=""/>
            <p:cNvSpPr/>
            <p:nvPr/>
          </p:nvSpPr>
          <p:spPr>
            <a:xfrm>
              <a:off x="2362320" y="5333760"/>
              <a:ext cx="304560" cy="304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53680" y="4997520"/>
              <a:ext cx="179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Optimum Cho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-152280" y="6858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Augmented Lagrangean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enalty~Iteration Relation for Contact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ewton-Raphson / Iterative Sol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B449-EF00-49E4-ADD9-2B01B4CAF2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685800" y="58672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ＭＳ ゴシック"/>
              </a:rPr>
              <a:t>Block-type Preconditioning seems to work well for ill-conditioned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4160" indent="-18252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Results in the Benchmark</a:t>
            </a:r>
            <a:br>
              <a:rPr sz="36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7,220 nodes, 21,660 DOFs, </a:t>
            </a: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=10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-8</a:t>
            </a:r>
            <a:br>
              <a:rPr sz="3200"/>
            </a:b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eoFEM's CG solver (scalar version)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Single P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2166840"/>
            <a:ext cx="7848720" cy="271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ＭＳ ゴシック"/>
                <a:ea typeface="ＭＳ ゴシック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C(0)            :      89 iters,      8.9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IAG             :     340 iters,     19.1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LU scaling :     165 iters,     11.9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3995640"/>
            <a:ext cx="7848720" cy="2349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ＭＳ ゴシック"/>
                <a:ea typeface="ＭＳ ゴシック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C(0)            : &gt;10,000 iters, &gt;1,300.0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IAG             : No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LU scaling :   3,727 iters,    268.9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1EFF-C219-447E-8623-07C535F4FF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52280" y="1015920"/>
            <a:ext cx="8839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General Remedy for Ill-Conditione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ep Fill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Special Method for Fault-Contact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Selectiv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Special Repartitio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Large Scale Computation on Hitachi SR2201 w/128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B6FF-521B-4698-837C-E905C74567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08000" y="155736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he world where direct solvers have gove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ut iterative methods are the only choice for large-scale massively parallel co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ＭＳ ゴシック"/>
              </a:rPr>
              <a:t>We need robust preconditioning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ＭＳ ゴシック"/>
              </a:rPr>
              <a:t>Remedy : Basically Preconditioning like Direct Sol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2080" indent="-91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ＭＳ ゴシック"/>
              </a:rPr>
              <a:t>Deep Fill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2080" indent="-91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ＭＳ ゴシック"/>
              </a:rPr>
              <a:t>Blocking and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Ill-Conditioned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1DAD-2710-4025-9D8E-257782AFE0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Deep Fill-in : LU and ILU(0)/IC(0)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Even if A is sparse,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-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 is not necessarily sparse due to fill-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0" y="2149560"/>
            <a:ext cx="3871800" cy="2692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aussian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i= 2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k= 1,  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a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ＭＳ 明朝"/>
                <a:ea typeface="ＭＳ 明朝"/>
              </a:rPr>
              <a:t>ik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:= a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ＭＳ 明朝"/>
                <a:ea typeface="ＭＳ 明朝"/>
              </a:rPr>
              <a:t>ik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/a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ＭＳ 明朝"/>
                <a:ea typeface="ＭＳ 明朝"/>
              </a:rPr>
              <a:t>k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j= k+1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a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ＭＳ 明朝"/>
                <a:ea typeface="ＭＳ 明朝"/>
              </a:rPr>
              <a:t>ij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:= a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ＭＳ 明朝"/>
                <a:ea typeface="ＭＳ 明朝"/>
              </a:rPr>
              <a:t>ij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- a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ＭＳ 明朝"/>
                <a:ea typeface="ＭＳ 明朝"/>
              </a:rPr>
              <a:t>ik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*a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ＭＳ 明朝"/>
                <a:ea typeface="ＭＳ 明朝"/>
              </a:rPr>
              <a:t>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80000" y="2120760"/>
            <a:ext cx="5184720" cy="477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ILU(0) : keep non-zero pattern of  the original coefficien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i= 2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k= 1,  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if ((i,k)∈ NonZero(A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        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a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k 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:= a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k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/a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k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         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baseline="-25000">
                <a:solidFill>
                  <a:srgbClr val="000000"/>
                </a:solidFill>
                <a:latin typeface="ＭＳ 明朝"/>
                <a:ea typeface="ＭＳ 明朝"/>
              </a:rPr>
              <a:t>     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j= k+1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        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if ((i,j)∈ NonZero(A)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    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a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j 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:= a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j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 - a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k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*a</a:t>
            </a:r>
            <a:r>
              <a:rPr b="1" lang="ja-JP" sz="20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            </a:t>
            </a:r>
            <a:r>
              <a:rPr b="1" lang="ja-JP" sz="20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2160" y="6308640"/>
            <a:ext cx="141048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Fill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C086-9931-44CD-9346-F53D6BF7B0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Deep Fill-in : ILU(p)/IC(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4000" y="1700280"/>
            <a:ext cx="8496000" cy="48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1" lang="ja-JP" sz="2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LEV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ＭＳ 明朝"/>
                <a:ea typeface="ＭＳ 明朝"/>
              </a:rPr>
              <a:t>ij</a:t>
            </a:r>
            <a:r>
              <a:rPr b="1" lang="ja-JP" sz="2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=0 if ((i,j)∈ NonZero(A)) otherwise LEV</a:t>
            </a:r>
            <a:r>
              <a:rPr b="1" lang="ja-JP" sz="2400" spc="-1" strike="noStrike" baseline="-25000">
                <a:solidFill>
                  <a:srgbClr val="ff0000"/>
                </a:solidFill>
                <a:latin typeface="ＭＳ 明朝"/>
                <a:ea typeface="ＭＳ 明朝"/>
              </a:rPr>
              <a:t>ij</a:t>
            </a:r>
            <a:r>
              <a:rPr b="1" lang="ja-JP" sz="2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= p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i= 2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k= 1,  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if (LEV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k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≦p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        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a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k 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:= a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k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/a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k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         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baseline="-25000">
                <a:solidFill>
                  <a:srgbClr val="000000"/>
                </a:solidFill>
                <a:latin typeface="ＭＳ 明朝"/>
                <a:ea typeface="ＭＳ 明朝"/>
              </a:rPr>
              <a:t>         </a:t>
            </a: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j= k+1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        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if (LEV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j 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= min(LEV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j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,1+LEV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k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+ LEV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kj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)≦p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    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a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j 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:= a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j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 - a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ik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*a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k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baseline="-25000">
                <a:solidFill>
                  <a:srgbClr val="ff3300"/>
                </a:solidFill>
                <a:latin typeface="ＭＳ 明朝"/>
                <a:ea typeface="ＭＳ 明朝"/>
              </a:rPr>
              <a:t>            </a:t>
            </a:r>
            <a:r>
              <a:rPr b="1" lang="ja-JP" sz="2400" spc="-1" strike="noStrike">
                <a:solidFill>
                  <a:srgbClr val="ff3300"/>
                </a:solidFill>
                <a:latin typeface="ＭＳ 明朝"/>
                <a:ea typeface="ＭＳ 明朝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160" y="6308640"/>
            <a:ext cx="141048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Fill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EDE7-28B3-4A6F-B5BB-91050D9447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04920" y="1828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lose to direct solver if you have DEEPER fill-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equires additional memory and compu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964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x2 for ILU(0) -&gt; ILU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Deep Fill-in : Gener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82160" y="6308640"/>
            <a:ext cx="141048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Fill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09EC-AA2D-4DF1-8C79-DD2EA9AE74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80880" y="4363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9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pply complete/full LU factorization in the certain size block for process D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-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17000">
              <a:lnSpc>
                <a:spcPct val="9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Just divided by diagonal component for scalar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9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ＭＳ ゴシック"/>
              </a:rPr>
              <a:t>3x3 block for 3D solid mechanics.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  <a:ea typeface="ＭＳ 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520" indent="-117000">
              <a:lnSpc>
                <a:spcPct val="9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Arial"/>
                <a:ea typeface="ＭＳ ゴシック"/>
              </a:rPr>
              <a:t>tightly coupled 3-components (u-v-w) on 1-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Blocking : Forward/Backward Substitution for ILU/IC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19320" y="1557360"/>
            <a:ext cx="6705360" cy="2704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= (L+D)D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D+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  <a:ea typeface="ＭＳ 明朝"/>
              </a:rPr>
              <a:t>Forward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L+D)p= q : p= 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D</a:t>
            </a:r>
            <a:r>
              <a:rPr b="1" lang="ja-JP" sz="2400" spc="-1" strike="noStrike" baseline="30000">
                <a:solidFill>
                  <a:srgbClr val="ff3300"/>
                </a:solidFill>
                <a:latin typeface="Times New Roman"/>
                <a:ea typeface="ＭＳ 明朝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q-L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  <a:ea typeface="ＭＳ 明朝"/>
              </a:rPr>
              <a:t>Backward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I+ D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U)p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new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= p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ol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: p= p - 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D</a:t>
            </a:r>
            <a:r>
              <a:rPr b="1" lang="ja-JP" sz="2400" spc="-1" strike="noStrike" baseline="30000">
                <a:solidFill>
                  <a:srgbClr val="ff3300"/>
                </a:solidFill>
                <a:latin typeface="Times New Roman"/>
                <a:ea typeface="ＭＳ 明朝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1080" y="6308640"/>
            <a:ext cx="136188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448C-B60D-4DCE-AF05-7DC0328785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3 Block ILU(0) Preconditioning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ward Substitu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90920" y="1600200"/>
            <a:ext cx="5581440" cy="537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i= 1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SW1= WW(3*i-2,Z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SW2= WW(3*i-1,Z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SW3= WW(3*i  ,Z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isL= INL(i-1)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ieL= INL(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do j= isL, 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k= IAL(j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X1= WW(3*k-2,Z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X2= WW(3*k-1,Z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X3= WW(3*k  ,Z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SW1= SW1 - AL(1,1,j)*X1 - AL(1,2,j)*X2 - AL(1,3,j)*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SW2= SW2 - AL(2,1,j)*X1 - AL(2,2,j)*X2 - AL(2,3,j)*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SW3= SW3 - AL(3,1,j)*X1 - AL(3,2,j)*X2 - AL(3,3,j)*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X1= SW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X2= SW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X3= SW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X2= X2 - ALU(2,1,i)*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X3= X3 - ALU(3,1,i)*X1 - ALU(3,2,i)*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X3= ALU(3,3,i)*  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X2= ALU(2,2,i)*( X2 - ALU(2,3,i)*X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X1= ALU(1,1,i)*( X1 - ALU(1,3,i)*X3 - ALU(1,2,i)*X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WW(3*i-2,ZP)= 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WW(3*i-1,ZP)= 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   </a:t>
            </a:r>
            <a:r>
              <a:rPr b="1" lang="ja-JP" sz="1400" spc="-1" strike="noStrike">
                <a:solidFill>
                  <a:srgbClr val="ff0000"/>
                </a:solidFill>
                <a:latin typeface="ＭＳ 明朝"/>
                <a:ea typeface="ＭＳ 明朝"/>
              </a:rPr>
              <a:t>WW(3*i  ,ZP)= 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</a:t>
            </a:r>
            <a:r>
              <a:rPr b="1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d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1760" y="4800600"/>
            <a:ext cx="24454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ゴシック"/>
              </a:rPr>
              <a:t>Full LU Facto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ゴシック"/>
              </a:rPr>
              <a:t>for 3x3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ゴシック"/>
              </a:rPr>
              <a:t>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ＭＳ ゴシック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742840" y="4191120"/>
            <a:ext cx="228600" cy="1828440"/>
            <a:chOff x="2742840" y="4191120"/>
            <a:chExt cx="228600" cy="1828440"/>
          </a:xfrm>
        </p:grpSpPr>
        <p:sp>
          <p:nvSpPr>
            <p:cNvPr id="602" name=""/>
            <p:cNvSpPr/>
            <p:nvPr/>
          </p:nvSpPr>
          <p:spPr>
            <a:xfrm flipH="1">
              <a:off x="2742840" y="4191120"/>
              <a:ext cx="22860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742840" y="5867280"/>
              <a:ext cx="22860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43200" y="4343760"/>
              <a:ext cx="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81080" y="6308640"/>
            <a:ext cx="136188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3CB2-C0DC-45DE-BB5A-5087545C9D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33520" y="472428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teration number and computation time dramatically decreases by fill-in and blo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15984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7218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Benchmark : </a:t>
            </a:r>
            <a:br>
              <a:rPr sz="4000"/>
            </a:b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Effect of Fill-in/Blocking</a:t>
            </a:r>
            <a:br>
              <a:rPr sz="4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7,220 nodes, 21,660 DOFs,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=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-8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CG solver, Single P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09480" y="2133720"/>
            <a:ext cx="7848720" cy="4178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ＭＳ ゴシック"/>
                <a:ea typeface="ＭＳ ゴシック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C(0)             : &gt;10,000 iters, &gt;1,300.0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LU scaling  :   3,727 iters,    268.9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Block IC(0)       :  1,102 iters,    144.3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Block IC(1)       :     94 iters,     21.1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Block IC(2)       :     33 iters,     15.4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2160" y="6308640"/>
            <a:ext cx="141048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Fill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95600" y="6308640"/>
            <a:ext cx="136188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71CC-75E6-42E0-B84F-1C6DE40E5E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08000" y="156204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olving large-scale linear equa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x=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is the most important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Monotype Corsiva"/>
                <a:ea typeface="ＭＳ ゴシック"/>
              </a:rPr>
              <a:t>expen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part of various types of scientific compu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240" indent="-82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for both linear and nonlinear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-99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Various types of methods have been proposed and develo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240" indent="-82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for dense and spars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240" indent="-82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classifie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di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ite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-99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nse Matrices : Globally Couple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240" indent="-82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BEM, Spectral Methods, MO/MD (gas, liqu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-99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parse Matrices : Locally Define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240" indent="-82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ＭＳ ゴシック"/>
              </a:rPr>
              <a:t>F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, FDM, DEM, MD (solid), BEM w/F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240" indent="-824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I am usually working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12440" y="765000"/>
            <a:ext cx="399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solving Ax=b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4B81-53E3-415B-9B00-37951970A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5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7" dur="1" fill="hold"/>
                                  <p:tgtEl>
                                    <p:spTgt spid="5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52280" y="1015920"/>
            <a:ext cx="8839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General Remedy for Ill-Conditione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Deep Fill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Special Method for Fault-Contact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electiv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Special Repartitio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Large Scale Computation on Hitachi SR2201 w/128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A898-194C-4A54-BF38-9E087896B7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944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ゴシック"/>
              </a:rPr>
              <a:t>Selective Blocking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 Method for Contact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upled nodes are put into the same diagonal block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84360" y="2170080"/>
            <a:ext cx="6948360" cy="43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5C82-5BCD-464D-9FB6-CBD0487347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944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ゴシック"/>
              </a:rPr>
              <a:t>Selective Blocking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 Method for Contact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upled nodes are put into the same diagonal block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6320" y="5824440"/>
            <a:ext cx="457200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itial Coef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find strongly coupled contact groups (each small square:3x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33520" y="2049480"/>
            <a:ext cx="3657600" cy="3657600"/>
            <a:chOff x="533520" y="2049480"/>
            <a:chExt cx="3657600" cy="3657600"/>
          </a:xfrm>
        </p:grpSpPr>
        <p:sp>
          <p:nvSpPr>
            <p:cNvPr id="617" name=""/>
            <p:cNvSpPr/>
            <p:nvPr/>
          </p:nvSpPr>
          <p:spPr>
            <a:xfrm>
              <a:off x="533520" y="2049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90720" y="2049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47920" y="2049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05120" y="2049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62320" y="2049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2049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76720" y="2049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33920" y="2049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3520" y="2506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90720" y="2506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447920" y="2506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05120" y="2506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62320" y="2506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19520" y="2506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76720" y="2506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33920" y="2506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3520" y="2963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90720" y="2963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7920" y="2963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05120" y="2963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62320" y="2963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19520" y="2963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76720" y="2963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33920" y="2963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520" y="34210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90720" y="34210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7920" y="34210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05120" y="34210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62320" y="34210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19520" y="34210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76720" y="34210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33920" y="34210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3520" y="3878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90720" y="3878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47920" y="3878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05120" y="3878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62320" y="3878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19520" y="3878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76720" y="3878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33920" y="38782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3520" y="4335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90720" y="4335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447920" y="4335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05120" y="4335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62320" y="4335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19520" y="4335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76720" y="4335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33920" y="4335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3520" y="4792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90720" y="4792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47920" y="4792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05120" y="4792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62320" y="4792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19520" y="4792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76720" y="4792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33920" y="4792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3520" y="5249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90720" y="5249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249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05120" y="5249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5249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19520" y="5249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76720" y="5249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3920" y="52498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533520" y="204948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342108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296388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47920" y="4335480"/>
            <a:ext cx="457200" cy="914400"/>
            <a:chOff x="1447920" y="4335480"/>
            <a:chExt cx="457200" cy="914400"/>
          </a:xfrm>
        </p:grpSpPr>
        <p:sp>
          <p:nvSpPr>
            <p:cNvPr id="685" name=""/>
            <p:cNvSpPr/>
            <p:nvPr/>
          </p:nvSpPr>
          <p:spPr>
            <a:xfrm>
              <a:off x="1447920" y="4335480"/>
              <a:ext cx="4572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7920" y="4792680"/>
              <a:ext cx="4572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990720" y="2049480"/>
            <a:ext cx="1371600" cy="457200"/>
            <a:chOff x="990720" y="2049480"/>
            <a:chExt cx="1371600" cy="457200"/>
          </a:xfrm>
        </p:grpSpPr>
        <p:sp>
          <p:nvSpPr>
            <p:cNvPr id="688" name=""/>
            <p:cNvSpPr/>
            <p:nvPr/>
          </p:nvSpPr>
          <p:spPr>
            <a:xfrm>
              <a:off x="1905120" y="204948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90720" y="2278080"/>
              <a:ext cx="1219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905120" y="2506680"/>
            <a:ext cx="457200" cy="1371600"/>
            <a:chOff x="1905120" y="2506680"/>
            <a:chExt cx="457200" cy="1371600"/>
          </a:xfrm>
        </p:grpSpPr>
        <p:sp>
          <p:nvSpPr>
            <p:cNvPr id="691" name=""/>
            <p:cNvSpPr/>
            <p:nvPr/>
          </p:nvSpPr>
          <p:spPr>
            <a:xfrm>
              <a:off x="1905120" y="34210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33720" y="25066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905120" y="2963880"/>
            <a:ext cx="1828800" cy="457200"/>
            <a:chOff x="1905120" y="2963880"/>
            <a:chExt cx="1828800" cy="457200"/>
          </a:xfrm>
        </p:grpSpPr>
        <p:grpSp>
          <p:nvGrpSpPr>
            <p:cNvPr id="694" name=""/>
            <p:cNvGrpSpPr/>
            <p:nvPr/>
          </p:nvGrpSpPr>
          <p:grpSpPr>
            <a:xfrm>
              <a:off x="2819520" y="2963880"/>
              <a:ext cx="914400" cy="457200"/>
              <a:chOff x="2819520" y="2963880"/>
              <a:chExt cx="914400" cy="457200"/>
            </a:xfrm>
          </p:grpSpPr>
          <p:sp>
            <p:nvSpPr>
              <p:cNvPr id="695" name=""/>
              <p:cNvSpPr/>
              <p:nvPr/>
            </p:nvSpPr>
            <p:spPr>
              <a:xfrm>
                <a:off x="2819520" y="2963880"/>
                <a:ext cx="457200" cy="457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76720" y="2963880"/>
                <a:ext cx="457200" cy="457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905120" y="319248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819520" y="3421080"/>
            <a:ext cx="914400" cy="1828800"/>
            <a:chOff x="2819520" y="3421080"/>
            <a:chExt cx="914400" cy="1828800"/>
          </a:xfrm>
        </p:grpSpPr>
        <p:grpSp>
          <p:nvGrpSpPr>
            <p:cNvPr id="699" name=""/>
            <p:cNvGrpSpPr/>
            <p:nvPr/>
          </p:nvGrpSpPr>
          <p:grpSpPr>
            <a:xfrm>
              <a:off x="2819520" y="4335480"/>
              <a:ext cx="914400" cy="914400"/>
              <a:chOff x="2819520" y="4335480"/>
              <a:chExt cx="914400" cy="914400"/>
            </a:xfrm>
          </p:grpSpPr>
          <p:sp>
            <p:nvSpPr>
              <p:cNvPr id="700" name=""/>
              <p:cNvSpPr/>
              <p:nvPr/>
            </p:nvSpPr>
            <p:spPr>
              <a:xfrm>
                <a:off x="3276720" y="479268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819520" y="433548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3048120" y="34210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05320" y="34210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4859280" y="2049480"/>
            <a:ext cx="3733560" cy="4490640"/>
            <a:chOff x="4859280" y="2049480"/>
            <a:chExt cx="3733560" cy="4490640"/>
          </a:xfrm>
        </p:grpSpPr>
        <p:sp>
          <p:nvSpPr>
            <p:cNvPr id="705" name=""/>
            <p:cNvSpPr/>
            <p:nvPr/>
          </p:nvSpPr>
          <p:spPr>
            <a:xfrm>
              <a:off x="4859280" y="5824800"/>
              <a:ext cx="37335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eordered/Blocked Matr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odes/bl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935240" y="2049480"/>
              <a:ext cx="3657600" cy="3657600"/>
              <a:chOff x="4935240" y="2049480"/>
              <a:chExt cx="3657600" cy="3657600"/>
            </a:xfrm>
          </p:grpSpPr>
          <p:sp>
            <p:nvSpPr>
              <p:cNvPr id="707" name=""/>
              <p:cNvSpPr/>
              <p:nvPr/>
            </p:nvSpPr>
            <p:spPr>
              <a:xfrm>
                <a:off x="4935240" y="2049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92440" y="2049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49640" y="2049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06840" y="2049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764040" y="2049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21240" y="2049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78440" y="2049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135640" y="2049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35240" y="2506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392440" y="2506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9640" y="2506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306840" y="2506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64040" y="2506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221240" y="2506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678440" y="2506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135640" y="2506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935240" y="2963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392440" y="2963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849640" y="2963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306840" y="2963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764040" y="2963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21240" y="2963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78440" y="2963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35640" y="2963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935240" y="34210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92440" y="34210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849640" y="34210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306840" y="34210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64040" y="34210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21240" y="34210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78440" y="34210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135640" y="34210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935240" y="38782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392440" y="38782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49640" y="38782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306840" y="38782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764040" y="38782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21240" y="38782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8440" y="38782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135640" y="38782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35240" y="4335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392440" y="4335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49640" y="4335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06840" y="4335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764040" y="4335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21240" y="4335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78440" y="4335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135640" y="43354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935240" y="4792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92440" y="4792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49640" y="4792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306840" y="4792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764040" y="4792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221240" y="4792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78440" y="4792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35640" y="47926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935240" y="5249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392440" y="5249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49640" y="5249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306840" y="5249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764040" y="5249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221240" y="5249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8440" y="5249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135640" y="524988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4935240" y="20494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35240" y="250668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49640" y="2963880"/>
              <a:ext cx="45720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49640" y="3421080"/>
              <a:ext cx="4572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49640" y="3878280"/>
              <a:ext cx="4572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92440" y="204948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92440" y="25066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6306840" y="2963880"/>
              <a:ext cx="914400" cy="457200"/>
              <a:chOff x="6306840" y="2963880"/>
              <a:chExt cx="914400" cy="457200"/>
            </a:xfrm>
          </p:grpSpPr>
          <p:sp>
            <p:nvSpPr>
              <p:cNvPr id="779" name=""/>
              <p:cNvSpPr/>
              <p:nvPr/>
            </p:nvSpPr>
            <p:spPr>
              <a:xfrm>
                <a:off x="6306840" y="2963880"/>
                <a:ext cx="457200" cy="457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764040" y="2963880"/>
                <a:ext cx="457200" cy="457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6306840" y="3421080"/>
              <a:ext cx="914400" cy="914400"/>
              <a:chOff x="6306840" y="3421080"/>
              <a:chExt cx="914400" cy="914400"/>
            </a:xfrm>
          </p:grpSpPr>
          <p:sp>
            <p:nvSpPr>
              <p:cNvPr id="782" name=""/>
              <p:cNvSpPr/>
              <p:nvPr/>
            </p:nvSpPr>
            <p:spPr>
              <a:xfrm>
                <a:off x="6764040" y="387828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306840" y="3421080"/>
                <a:ext cx="45720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4" name=""/>
          <p:cNvGrpSpPr/>
          <p:nvPr/>
        </p:nvGrpSpPr>
        <p:grpSpPr>
          <a:xfrm>
            <a:off x="4952880" y="2049480"/>
            <a:ext cx="2286000" cy="2286000"/>
            <a:chOff x="4952880" y="2049480"/>
            <a:chExt cx="2286000" cy="2286000"/>
          </a:xfrm>
        </p:grpSpPr>
        <p:sp>
          <p:nvSpPr>
            <p:cNvPr id="785" name=""/>
            <p:cNvSpPr/>
            <p:nvPr/>
          </p:nvSpPr>
          <p:spPr>
            <a:xfrm>
              <a:off x="4952880" y="2049480"/>
              <a:ext cx="914400" cy="914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67280" y="2963880"/>
              <a:ext cx="1371600" cy="13716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903640" y="1628640"/>
            <a:ext cx="3097440" cy="1295640"/>
            <a:chOff x="5903640" y="1628640"/>
            <a:chExt cx="3097440" cy="1295640"/>
          </a:xfrm>
        </p:grpSpPr>
        <p:sp>
          <p:nvSpPr>
            <p:cNvPr id="788" name=""/>
            <p:cNvSpPr/>
            <p:nvPr/>
          </p:nvSpPr>
          <p:spPr>
            <a:xfrm>
              <a:off x="6840360" y="1628640"/>
              <a:ext cx="2160720" cy="751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ach block corresponds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 contact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903640" y="2168640"/>
              <a:ext cx="863640" cy="32364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587640" y="2349360"/>
              <a:ext cx="468360" cy="57492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8052-CC86-44D3-B112-D6AD05611F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533520" y="1736640"/>
            <a:ext cx="3657600" cy="4345920"/>
            <a:chOff x="533520" y="1736640"/>
            <a:chExt cx="3657600" cy="4345920"/>
          </a:xfrm>
        </p:grpSpPr>
        <p:grpSp>
          <p:nvGrpSpPr>
            <p:cNvPr id="792" name=""/>
            <p:cNvGrpSpPr/>
            <p:nvPr/>
          </p:nvGrpSpPr>
          <p:grpSpPr>
            <a:xfrm>
              <a:off x="533520" y="1736640"/>
              <a:ext cx="3657600" cy="3657600"/>
              <a:chOff x="533520" y="1736640"/>
              <a:chExt cx="3657600" cy="3657600"/>
            </a:xfrm>
          </p:grpSpPr>
          <p:sp>
            <p:nvSpPr>
              <p:cNvPr id="793" name=""/>
              <p:cNvSpPr/>
              <p:nvPr/>
            </p:nvSpPr>
            <p:spPr>
              <a:xfrm>
                <a:off x="533520" y="17366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3808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14300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447920" y="17366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75248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5740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362320" y="17366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6688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97180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276720" y="17366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58128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8620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33520" y="20415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3808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14300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447920" y="20415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5248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5740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362320" y="20415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6688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180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6720" y="20415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58128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88620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520" y="23461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3808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4300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447920" y="23461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75248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5740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362320" y="23461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66688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97180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276720" y="23461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58128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88620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33520" y="26510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3808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14300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447920" y="26510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248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05740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62320" y="26510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66688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97180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276720" y="26510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58128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88620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520" y="29559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808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4300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447920" y="29559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75248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05740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2320" y="29559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66688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180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276720" y="29559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58128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88620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33520" y="32605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3808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14300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447920" y="32605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75248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5740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362320" y="32605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66688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97180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276720" y="32605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58128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88620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33520" y="35654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3808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14300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447920" y="35654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75248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05740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62320" y="35654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6688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97180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276720" y="35654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58128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88620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33520" y="3870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3808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14300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447920" y="3870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75248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05740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362320" y="3870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66688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7180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276720" y="3870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58128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8620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33520" y="41749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3808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14300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47920" y="41749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75248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05740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362320" y="41749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66688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7180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276720" y="41749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58128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88620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3520" y="44798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3808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14300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447920" y="44798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75248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05740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362320" y="44798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6688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97180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76720" y="44798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8128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88620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33520" y="47847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3808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14300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447920" y="47847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75248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05740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362320" y="47847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66688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97180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276720" y="47847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58128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8620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33520" y="50893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3808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14300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447920" y="50893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75248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05740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362320" y="50893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66688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97180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276720" y="50893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8128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88620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533520" y="5622840"/>
              <a:ext cx="36576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lock ILU/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4920" y="620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ゴシック"/>
              </a:rPr>
              <a:t>Selective Blocking or Supernode</a:t>
            </a:r>
            <a:br>
              <a:rPr sz="40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cedure : Forward Substitution in Lower Tri.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173664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533520" y="2041560"/>
            <a:ext cx="609480" cy="304920"/>
            <a:chOff x="533520" y="2041560"/>
            <a:chExt cx="609480" cy="304920"/>
          </a:xfrm>
        </p:grpSpPr>
        <p:sp>
          <p:nvSpPr>
            <p:cNvPr id="941" name=""/>
            <p:cNvSpPr/>
            <p:nvPr/>
          </p:nvSpPr>
          <p:spPr>
            <a:xfrm>
              <a:off x="533520" y="20415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8440" y="2041560"/>
              <a:ext cx="30456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33520" y="2955960"/>
            <a:ext cx="1523880" cy="304920"/>
            <a:chOff x="533520" y="2955960"/>
            <a:chExt cx="1523880" cy="304920"/>
          </a:xfrm>
        </p:grpSpPr>
        <p:sp>
          <p:nvSpPr>
            <p:cNvPr id="944" name=""/>
            <p:cNvSpPr/>
            <p:nvPr/>
          </p:nvSpPr>
          <p:spPr>
            <a:xfrm>
              <a:off x="1752840" y="2955960"/>
              <a:ext cx="30456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3520" y="29559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8440" y="2955960"/>
              <a:ext cx="30456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43000" y="29559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47920" y="29559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33520" y="3260880"/>
            <a:ext cx="1828800" cy="304560"/>
            <a:chOff x="533520" y="3260880"/>
            <a:chExt cx="1828800" cy="304560"/>
          </a:xfrm>
        </p:grpSpPr>
        <p:sp>
          <p:nvSpPr>
            <p:cNvPr id="950" name=""/>
            <p:cNvSpPr/>
            <p:nvPr/>
          </p:nvSpPr>
          <p:spPr>
            <a:xfrm>
              <a:off x="2057400" y="3260880"/>
              <a:ext cx="30492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3520" y="32608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38440" y="326088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43000" y="32608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47920" y="32608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52840" y="326088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33520" y="3565440"/>
            <a:ext cx="2133000" cy="304560"/>
            <a:chOff x="533520" y="3565440"/>
            <a:chExt cx="2133000" cy="304560"/>
          </a:xfrm>
        </p:grpSpPr>
        <p:sp>
          <p:nvSpPr>
            <p:cNvPr id="957" name=""/>
            <p:cNvSpPr/>
            <p:nvPr/>
          </p:nvSpPr>
          <p:spPr>
            <a:xfrm>
              <a:off x="2361960" y="3565440"/>
              <a:ext cx="30456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3520" y="35654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080" y="3565440"/>
              <a:ext cx="30420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42640" y="35654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47560" y="35654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52480" y="3565440"/>
              <a:ext cx="30420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57040" y="35654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3520" y="3870360"/>
            <a:ext cx="2438280" cy="304920"/>
            <a:chOff x="533520" y="3870360"/>
            <a:chExt cx="2438280" cy="304920"/>
          </a:xfrm>
        </p:grpSpPr>
        <p:sp>
          <p:nvSpPr>
            <p:cNvPr id="965" name=""/>
            <p:cNvSpPr/>
            <p:nvPr/>
          </p:nvSpPr>
          <p:spPr>
            <a:xfrm>
              <a:off x="2667240" y="3870360"/>
              <a:ext cx="30456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3520" y="38703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38440" y="3870360"/>
              <a:ext cx="30456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43000" y="38703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47920" y="38703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52840" y="3870360"/>
              <a:ext cx="30456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057400" y="38703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62320" y="38703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533520" y="4175280"/>
            <a:ext cx="2743200" cy="304560"/>
            <a:chOff x="533520" y="4175280"/>
            <a:chExt cx="2743200" cy="304560"/>
          </a:xfrm>
        </p:grpSpPr>
        <p:sp>
          <p:nvSpPr>
            <p:cNvPr id="974" name=""/>
            <p:cNvSpPr/>
            <p:nvPr/>
          </p:nvSpPr>
          <p:spPr>
            <a:xfrm>
              <a:off x="2971800" y="4175280"/>
              <a:ext cx="30492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3520" y="41752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8440" y="417528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43000" y="41752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47920" y="41752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52840" y="417528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57400" y="41752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62320" y="41752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67240" y="417528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4479840"/>
            <a:ext cx="3047400" cy="304560"/>
            <a:chOff x="533520" y="4479840"/>
            <a:chExt cx="3047400" cy="304560"/>
          </a:xfrm>
        </p:grpSpPr>
        <p:sp>
          <p:nvSpPr>
            <p:cNvPr id="984" name=""/>
            <p:cNvSpPr/>
            <p:nvPr/>
          </p:nvSpPr>
          <p:spPr>
            <a:xfrm>
              <a:off x="3276360" y="4479840"/>
              <a:ext cx="30456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33520" y="44798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38080" y="4479840"/>
              <a:ext cx="30420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142640" y="44798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47560" y="44798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52480" y="4479840"/>
              <a:ext cx="30420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57040" y="44798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61960" y="44798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666880" y="4479840"/>
              <a:ext cx="30420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71440" y="44798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33520" y="4784760"/>
            <a:ext cx="3352680" cy="304920"/>
            <a:chOff x="533520" y="4784760"/>
            <a:chExt cx="3352680" cy="304920"/>
          </a:xfrm>
        </p:grpSpPr>
        <p:sp>
          <p:nvSpPr>
            <p:cNvPr id="995" name=""/>
            <p:cNvSpPr/>
            <p:nvPr/>
          </p:nvSpPr>
          <p:spPr>
            <a:xfrm>
              <a:off x="3581640" y="4784760"/>
              <a:ext cx="30456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33520" y="47847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38440" y="4784760"/>
              <a:ext cx="30456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143000" y="47847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7920" y="47847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752840" y="4784760"/>
              <a:ext cx="30456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057400" y="47847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62320" y="47847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67240" y="4784760"/>
              <a:ext cx="30456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71800" y="47847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76720" y="4784760"/>
              <a:ext cx="30492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533520" y="5089680"/>
            <a:ext cx="3657600" cy="304560"/>
            <a:chOff x="533520" y="5089680"/>
            <a:chExt cx="3657600" cy="304560"/>
          </a:xfrm>
        </p:grpSpPr>
        <p:sp>
          <p:nvSpPr>
            <p:cNvPr id="1007" name=""/>
            <p:cNvSpPr/>
            <p:nvPr/>
          </p:nvSpPr>
          <p:spPr>
            <a:xfrm>
              <a:off x="3886200" y="5089680"/>
              <a:ext cx="30492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33520" y="508968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38080" y="50896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43000" y="50896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47920" y="508968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52480" y="50896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57400" y="50896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62320" y="508968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66880" y="50896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71800" y="50896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276720" y="508968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81280" y="50896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533520" y="2651040"/>
            <a:ext cx="1218600" cy="304560"/>
            <a:chOff x="533520" y="2651040"/>
            <a:chExt cx="1218600" cy="304560"/>
          </a:xfrm>
        </p:grpSpPr>
        <p:sp>
          <p:nvSpPr>
            <p:cNvPr id="1020" name=""/>
            <p:cNvSpPr/>
            <p:nvPr/>
          </p:nvSpPr>
          <p:spPr>
            <a:xfrm>
              <a:off x="533520" y="26510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38080" y="2651040"/>
              <a:ext cx="30420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42640" y="2651040"/>
              <a:ext cx="30456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47560" y="2651040"/>
              <a:ext cx="30456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2346480"/>
            <a:ext cx="914400" cy="304560"/>
            <a:chOff x="533520" y="2346480"/>
            <a:chExt cx="914400" cy="304560"/>
          </a:xfrm>
        </p:grpSpPr>
        <p:sp>
          <p:nvSpPr>
            <p:cNvPr id="1025" name=""/>
            <p:cNvSpPr/>
            <p:nvPr/>
          </p:nvSpPr>
          <p:spPr>
            <a:xfrm>
              <a:off x="533520" y="23464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38440" y="2346480"/>
              <a:ext cx="304920" cy="3045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43360" y="2346480"/>
              <a:ext cx="30456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533520" y="1736640"/>
            <a:ext cx="3657600" cy="3657600"/>
            <a:chOff x="533520" y="1736640"/>
            <a:chExt cx="3657600" cy="3657600"/>
          </a:xfrm>
        </p:grpSpPr>
        <p:sp>
          <p:nvSpPr>
            <p:cNvPr id="1029" name=""/>
            <p:cNvSpPr/>
            <p:nvPr/>
          </p:nvSpPr>
          <p:spPr>
            <a:xfrm>
              <a:off x="1143360" y="234612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47920" y="265104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52840" y="2955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57760" y="326052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62320" y="356544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67240" y="38700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2160" y="417492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76720" y="447984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581640" y="47844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886560" y="508932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38440" y="20412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33520" y="173664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952880" y="1736640"/>
            <a:ext cx="3657600" cy="5067360"/>
            <a:chOff x="4952880" y="1736640"/>
            <a:chExt cx="3657600" cy="5067360"/>
          </a:xfrm>
        </p:grpSpPr>
        <p:grpSp>
          <p:nvGrpSpPr>
            <p:cNvPr id="1042" name=""/>
            <p:cNvGrpSpPr/>
            <p:nvPr/>
          </p:nvGrpSpPr>
          <p:grpSpPr>
            <a:xfrm>
              <a:off x="4952880" y="1736640"/>
              <a:ext cx="3657600" cy="3657600"/>
              <a:chOff x="4952880" y="1736640"/>
              <a:chExt cx="3657600" cy="3657600"/>
            </a:xfrm>
          </p:grpSpPr>
          <p:sp>
            <p:nvSpPr>
              <p:cNvPr id="1043" name=""/>
              <p:cNvSpPr/>
              <p:nvPr/>
            </p:nvSpPr>
            <p:spPr>
              <a:xfrm>
                <a:off x="4952880" y="17366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5744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56236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67280" y="17366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7184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47676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81680" y="17366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08624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39116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696080" y="17366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00064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05560" y="17366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952880" y="20415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25744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56236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67280" y="20415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17184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7676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781680" y="20415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08624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39116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96080" y="20415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00064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05560" y="2041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952880" y="23461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25744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56236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867280" y="23461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17184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47676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781680" y="23461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08624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39116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96080" y="23461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00064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305560" y="23461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952880" y="26510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25744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6236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67280" y="26510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7184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47676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781680" y="26510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08624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39116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96080" y="26510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00064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305560" y="26510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52880" y="29559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25744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56236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67280" y="29559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17184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47676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781680" y="29559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08624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39116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96080" y="29559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00064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305560" y="2955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952880" y="32605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5744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56236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7280" y="32605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17184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7676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781680" y="32605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8624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39116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96080" y="32605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00064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305560" y="32605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952880" y="35654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5744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56236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867280" y="35654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17184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47676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781680" y="35654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08624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39116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96080" y="35654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00064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305560" y="35654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952880" y="3870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25744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6236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67280" y="3870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17184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47676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781680" y="3870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08624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9116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96080" y="3870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0064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305560" y="38703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52880" y="41749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25744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56236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67280" y="41749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17184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47676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781680" y="41749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8624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39116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96080" y="41749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00064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305560" y="41749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952880" y="44798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25744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56236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7280" y="44798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7184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47676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781680" y="44798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08624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39116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96080" y="447984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00064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305560" y="447984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52880" y="47847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25744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56236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67280" y="47847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17184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47676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781680" y="47847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08624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9116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96080" y="47847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00064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305560" y="47847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52880" y="50893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5744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56236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7280" y="50893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17184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47676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81680" y="50893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08624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39116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696080" y="508932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00064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305560" y="508932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4952880" y="5622840"/>
              <a:ext cx="3657600" cy="11811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elective Blocking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uper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ize of each diagonal block depends on contact group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4952880" y="204156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257800" y="2041560"/>
            <a:ext cx="30492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952880" y="23464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257800" y="23464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62720" y="2346480"/>
            <a:ext cx="304560" cy="304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4952880" y="2651040"/>
            <a:ext cx="914400" cy="304920"/>
            <a:chOff x="4952880" y="2651040"/>
            <a:chExt cx="914400" cy="304920"/>
          </a:xfrm>
        </p:grpSpPr>
        <p:sp>
          <p:nvSpPr>
            <p:cNvPr id="1194" name=""/>
            <p:cNvSpPr/>
            <p:nvPr/>
          </p:nvSpPr>
          <p:spPr>
            <a:xfrm>
              <a:off x="4952880" y="2651040"/>
              <a:ext cx="304920" cy="304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57800" y="2651040"/>
              <a:ext cx="304560" cy="304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62360" y="2651040"/>
              <a:ext cx="304920" cy="304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4952880" y="2955960"/>
            <a:ext cx="914400" cy="304560"/>
            <a:chOff x="4952880" y="2955960"/>
            <a:chExt cx="914400" cy="304560"/>
          </a:xfrm>
        </p:grpSpPr>
        <p:sp>
          <p:nvSpPr>
            <p:cNvPr id="1198" name=""/>
            <p:cNvSpPr/>
            <p:nvPr/>
          </p:nvSpPr>
          <p:spPr>
            <a:xfrm>
              <a:off x="4952880" y="2955960"/>
              <a:ext cx="30492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57800" y="2955960"/>
              <a:ext cx="30456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562360" y="2955960"/>
              <a:ext cx="30492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4952880" y="3260880"/>
            <a:ext cx="914400" cy="304560"/>
            <a:chOff x="4952880" y="3260880"/>
            <a:chExt cx="914400" cy="304560"/>
          </a:xfrm>
        </p:grpSpPr>
        <p:sp>
          <p:nvSpPr>
            <p:cNvPr id="1202" name=""/>
            <p:cNvSpPr/>
            <p:nvPr/>
          </p:nvSpPr>
          <p:spPr>
            <a:xfrm>
              <a:off x="4952880" y="3260880"/>
              <a:ext cx="30492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57800" y="3260880"/>
              <a:ext cx="30456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562360" y="3260880"/>
              <a:ext cx="30492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5867280" y="2651040"/>
            <a:ext cx="914400" cy="914400"/>
            <a:chOff x="5867280" y="2651040"/>
            <a:chExt cx="914400" cy="914400"/>
          </a:xfrm>
        </p:grpSpPr>
        <p:sp>
          <p:nvSpPr>
            <p:cNvPr id="1206" name=""/>
            <p:cNvSpPr/>
            <p:nvPr/>
          </p:nvSpPr>
          <p:spPr>
            <a:xfrm>
              <a:off x="5867280" y="265104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67280" y="2955960"/>
              <a:ext cx="30492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67280" y="326052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72200" y="265104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72200" y="2955960"/>
              <a:ext cx="30456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72200" y="326052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476760" y="265104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476760" y="2955960"/>
              <a:ext cx="30492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76760" y="326052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4952880" y="3565440"/>
            <a:ext cx="1828800" cy="609480"/>
            <a:chOff x="4952880" y="3565440"/>
            <a:chExt cx="1828800" cy="609480"/>
          </a:xfrm>
        </p:grpSpPr>
        <p:sp>
          <p:nvSpPr>
            <p:cNvPr id="1216" name=""/>
            <p:cNvSpPr/>
            <p:nvPr/>
          </p:nvSpPr>
          <p:spPr>
            <a:xfrm>
              <a:off x="4952880" y="3565440"/>
              <a:ext cx="304920" cy="304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52880" y="3870360"/>
              <a:ext cx="30492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57800" y="3565440"/>
              <a:ext cx="304560" cy="304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57800" y="3870360"/>
              <a:ext cx="30456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62360" y="3565440"/>
              <a:ext cx="304920" cy="304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62360" y="3870360"/>
              <a:ext cx="30492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867280" y="3565440"/>
              <a:ext cx="304920" cy="304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67280" y="3870360"/>
              <a:ext cx="30492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72200" y="3565440"/>
              <a:ext cx="304560" cy="304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72200" y="3870360"/>
              <a:ext cx="30456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476760" y="3565440"/>
              <a:ext cx="304920" cy="304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476760" y="3870360"/>
              <a:ext cx="304920" cy="304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6781680" y="3565440"/>
            <a:ext cx="609480" cy="609480"/>
            <a:chOff x="6781680" y="3565440"/>
            <a:chExt cx="609480" cy="609480"/>
          </a:xfrm>
        </p:grpSpPr>
        <p:sp>
          <p:nvSpPr>
            <p:cNvPr id="1229" name=""/>
            <p:cNvSpPr/>
            <p:nvPr/>
          </p:nvSpPr>
          <p:spPr>
            <a:xfrm>
              <a:off x="6781680" y="356544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81680" y="3870360"/>
              <a:ext cx="30492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086600" y="356544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086600" y="3870360"/>
              <a:ext cx="30456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4952880" y="41752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952880" y="447984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952880" y="478476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257800" y="41752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257800" y="447984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257800" y="478476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62720" y="4175280"/>
            <a:ext cx="30456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479840"/>
            <a:ext cx="30456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784760"/>
            <a:ext cx="30456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67280" y="41752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867280" y="447984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867280" y="478476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172200" y="41752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172200" y="447984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172200" y="478476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477120" y="4175280"/>
            <a:ext cx="30456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477120" y="4479840"/>
            <a:ext cx="30456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477120" y="4784760"/>
            <a:ext cx="30456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81680" y="41752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81680" y="447984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81680" y="478476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086600" y="41752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086600" y="447984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086600" y="4784760"/>
            <a:ext cx="30492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391520" y="4175280"/>
            <a:ext cx="304560" cy="304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391520" y="4479840"/>
            <a:ext cx="30456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391520" y="4784760"/>
            <a:ext cx="30456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96080" y="4175280"/>
            <a:ext cx="304920" cy="304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96080" y="4479840"/>
            <a:ext cx="30492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696080" y="4784760"/>
            <a:ext cx="30492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01000" y="4175280"/>
            <a:ext cx="304920" cy="304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01000" y="4479840"/>
            <a:ext cx="30492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01000" y="4784760"/>
            <a:ext cx="30492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952880" y="50896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257800" y="50896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562720" y="5089680"/>
            <a:ext cx="30456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867280" y="50896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172200" y="50896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5089680"/>
            <a:ext cx="30456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81680" y="50896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086600" y="50896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391520" y="5089680"/>
            <a:ext cx="30456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696080" y="50896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001000" y="5089680"/>
            <a:ext cx="30492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305920" y="5089680"/>
            <a:ext cx="304560" cy="304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2880" y="1736640"/>
            <a:ext cx="30492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4967280" y="1736640"/>
            <a:ext cx="3657600" cy="3657600"/>
            <a:chOff x="4967280" y="1736640"/>
            <a:chExt cx="3657600" cy="3657600"/>
          </a:xfrm>
        </p:grpSpPr>
        <p:sp>
          <p:nvSpPr>
            <p:cNvPr id="1280" name=""/>
            <p:cNvSpPr/>
            <p:nvPr/>
          </p:nvSpPr>
          <p:spPr>
            <a:xfrm>
              <a:off x="5881680" y="2651040"/>
              <a:ext cx="914400" cy="9144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67280" y="1736640"/>
              <a:ext cx="304920" cy="3049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272200" y="20415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576760" y="2346120"/>
              <a:ext cx="304920" cy="3049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96080" y="3565440"/>
              <a:ext cx="609480" cy="609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05560" y="4174920"/>
              <a:ext cx="914400" cy="9144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319960" y="5089320"/>
              <a:ext cx="304920" cy="3049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111640" y="1521000"/>
            <a:ext cx="3866760" cy="3744720"/>
            <a:chOff x="5111640" y="1521000"/>
            <a:chExt cx="3866760" cy="3744720"/>
          </a:xfrm>
        </p:grpSpPr>
        <p:sp>
          <p:nvSpPr>
            <p:cNvPr id="1288" name=""/>
            <p:cNvSpPr/>
            <p:nvPr/>
          </p:nvSpPr>
          <p:spPr>
            <a:xfrm>
              <a:off x="6159600" y="1521000"/>
              <a:ext cx="2818800" cy="642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y full LU factoriz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computation of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5111640" y="188136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5400360" y="1952640"/>
              <a:ext cx="718920" cy="2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5724000" y="2168640"/>
              <a:ext cx="755640" cy="32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6337440" y="2168640"/>
              <a:ext cx="682560" cy="93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7093080" y="2168640"/>
              <a:ext cx="358560" cy="16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848720" y="2168640"/>
              <a:ext cx="0" cy="248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459640" y="2168640"/>
              <a:ext cx="1800" cy="30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889A-9668-4E60-BB7D-3D46EFC63F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Benchmark : </a:t>
            </a:r>
            <a:r>
              <a:rPr b="1" lang="ja-JP" sz="4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SB-BIC(0)</a:t>
            </a:r>
            <a:br>
              <a:rPr sz="4000"/>
            </a:b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Selective Blocking + Block IC(0)</a:t>
            </a:r>
            <a:br>
              <a:rPr sz="36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7,220 nodes, 21,660 DOFs,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=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-8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CG solver, Single P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09480" y="2590920"/>
            <a:ext cx="7848720" cy="4909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ＭＳ ゴシック"/>
                <a:ea typeface="ＭＳ ゴシック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C(0)            : &gt;10,000 iters, &gt;1,300.0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LU scaling :   3,727 iters,    268.9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IC(0)      :   1,102 iters,    144.3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IC(1)      :      94 iters,     21.1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IC(2)      :      33 iters,     15.4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SB-Block IC(0)   :      82 iters,     11.2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2403-2C16-4E58-A5A3-2E037752BF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1244520" y="2060640"/>
            <a:ext cx="6696000" cy="439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Benchmark : Selective Block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Selective Blocking converges even i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=10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ＭＳ 明朝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1103400" y="2060640"/>
            <a:ext cx="6781680" cy="4662360"/>
            <a:chOff x="1103400" y="2060640"/>
            <a:chExt cx="6781680" cy="4662360"/>
          </a:xfrm>
        </p:grpSpPr>
        <p:graphicFrame>
          <p:nvGraphicFramePr>
            <p:cNvPr id="1301" name=""/>
            <p:cNvGraphicFramePr/>
            <p:nvPr/>
          </p:nvGraphicFramePr>
          <p:xfrm>
            <a:off x="1103400" y="2060640"/>
            <a:ext cx="6781680" cy="46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03400" y="2060640"/>
                      <a:ext cx="6781680" cy="46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3" name=""/>
            <p:cNvSpPr/>
            <p:nvPr/>
          </p:nvSpPr>
          <p:spPr>
            <a:xfrm>
              <a:off x="5979960" y="2898720"/>
              <a:ext cx="126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C(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446440" y="5108400"/>
              <a:ext cx="12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C(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855880" y="4879800"/>
              <a:ext cx="198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B-BIC(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1B84-A804-4AC2-B72D-BFD0B3E3E8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0" y="579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Benchmark : 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ゴシック"/>
              </a:rPr>
              <a:t>4PE cases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br>
              <a:rPr sz="36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7,220 nodes, 21,660 DOFs,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=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-8</a:t>
            </a:r>
            <a:br>
              <a:rPr sz="2800"/>
            </a:b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1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ＭＳ ゴシック"/>
                <a:ea typeface="ＭＳ ゴシック"/>
              </a:rPr>
              <a:t>16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,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CG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09480" y="1736640"/>
            <a:ext cx="7848720" cy="344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ingle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IC(0)     :  1,102 iters,    144.3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IC(1)     :     94 iters,     21.1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IC(2)     :     33 iters,     15.4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B-BIC(0)       :     82 iters,     11.2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9480" y="3789360"/>
            <a:ext cx="7848720" cy="3446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4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IC(0)     :  2,104 iters,     68.4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IC(1)     :  1,724 iters,     85.8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lock IC(2)     :    962 iters,     69.9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B-BIC(0)       :  1,740 iters,     70.0 s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24000" y="5842080"/>
            <a:ext cx="85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ＭＳ ゴシック"/>
              </a:rPr>
              <a:t>In 4PE case, nodes in tightly connected groups are on different partition and decoup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120" indent="-16812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90D6-1D20-4B6C-BF88-F34E8C10A1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704700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42BD-EDEA-4B36-815E-90B1FE53CB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5580000" y="-63720"/>
            <a:ext cx="35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04920" y="144792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ゴシック"/>
              </a:rPr>
              <a:t>Deep fill-in, blocking and selective-blocking dramatically improve the convergence rate for ill-conditioned problems such as solid mechanics with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ゴシック"/>
              </a:rPr>
              <a:t>But performance is bad in parallel cases with localized preconditioning when nodes in tightly connected pairs are on different partition and decoup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ゴシック"/>
              </a:rPr>
              <a:t>Special repartitioning method needed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明朝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152280" y="1015920"/>
            <a:ext cx="8839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General Remedy for Ill-Conditione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Deep Fill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Special Method for Fault-Contact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Selectiv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pecial Repartitioning</a:t>
            </a:r>
            <a:r>
              <a:rPr b="0" lang="ja-JP" sz="2800" spc="-1" strike="noStrike">
                <a:solidFill>
                  <a:srgbClr val="969696"/>
                </a:solidFill>
                <a:latin typeface="Arial"/>
                <a:ea typeface="ＭＳ 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Large Scale Computation on Hitachi SR2201 w/128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3907-3A88-4161-BFF3-4EFF5CBC9F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0" y="225360"/>
            <a:ext cx="91440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ゴシック"/>
              </a:rPr>
              <a:t>Outline of the Repart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216000" y="2349360"/>
            <a:ext cx="2500200" cy="4482360"/>
            <a:chOff x="216000" y="2349360"/>
            <a:chExt cx="2500200" cy="4482360"/>
          </a:xfrm>
        </p:grpSpPr>
        <p:sp>
          <p:nvSpPr>
            <p:cNvPr id="1317" name=""/>
            <p:cNvSpPr/>
            <p:nvPr/>
          </p:nvSpPr>
          <p:spPr>
            <a:xfrm>
              <a:off x="324000" y="5176440"/>
              <a:ext cx="2376360" cy="165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ＭＳ ゴシック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ＭＳ ゴシック"/>
                </a:rPr>
                <a:t>repartitio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ゴシック"/>
                </a:rPr>
                <a:t>Nodes in contact pairs are on separated part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38200" y="24318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035000" y="243180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530360" y="243180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025720" y="24318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8200" y="29286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035000" y="292860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530360" y="292860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025720" y="29286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38200" y="3425400"/>
              <a:ext cx="49680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035000" y="3425400"/>
              <a:ext cx="49536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530360" y="3425400"/>
              <a:ext cx="49536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025720" y="3425400"/>
              <a:ext cx="49680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8200" y="392076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35000" y="392076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530360" y="392076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025720" y="392076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8200" y="4417560"/>
              <a:ext cx="49680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35000" y="4417560"/>
              <a:ext cx="49536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30360" y="4417560"/>
              <a:ext cx="49536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025720" y="4417560"/>
              <a:ext cx="49680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50760" y="2349360"/>
              <a:ext cx="1666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447920" y="234936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943280" y="2349360"/>
              <a:ext cx="1666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5760" y="284616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950760" y="2846160"/>
              <a:ext cx="1666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47920" y="284616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43280" y="2846160"/>
              <a:ext cx="1666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55760" y="3342960"/>
              <a:ext cx="16488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50760" y="3342960"/>
              <a:ext cx="16668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447920" y="3342960"/>
              <a:ext cx="16488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943280" y="3342960"/>
              <a:ext cx="16668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55760" y="3838320"/>
              <a:ext cx="164880" cy="166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50760" y="3838320"/>
              <a:ext cx="166680" cy="166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447920" y="3838320"/>
              <a:ext cx="164880" cy="166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43280" y="3838320"/>
              <a:ext cx="166680" cy="166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5760" y="43351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50760" y="4335120"/>
              <a:ext cx="1666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47920" y="43351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43280" y="4335120"/>
              <a:ext cx="1666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5760" y="48319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950760" y="4831920"/>
              <a:ext cx="1666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47920" y="48319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943280" y="4831920"/>
              <a:ext cx="1666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55760" y="234936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440080" y="234936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40080" y="284616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440080" y="3342960"/>
              <a:ext cx="16488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440080" y="3838320"/>
              <a:ext cx="164880" cy="166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440080" y="43351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440080" y="48319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3500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2572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3820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53036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2252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6000" y="3639960"/>
              <a:ext cx="250020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3305160" y="2349360"/>
            <a:ext cx="2562120" cy="4461120"/>
            <a:chOff x="3305160" y="2349360"/>
            <a:chExt cx="2562120" cy="4461120"/>
          </a:xfrm>
        </p:grpSpPr>
        <p:sp>
          <p:nvSpPr>
            <p:cNvPr id="1375" name=""/>
            <p:cNvSpPr/>
            <p:nvPr/>
          </p:nvSpPr>
          <p:spPr>
            <a:xfrm>
              <a:off x="3348000" y="5182920"/>
              <a:ext cx="2519280" cy="1627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ＭＳ ゴシック"/>
                </a:rPr>
                <a:t>AFTER repartitio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ゴシック"/>
                </a:rPr>
                <a:t>Nodes in contact pairs are on same partition, but no load-balanc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589200" y="2431800"/>
              <a:ext cx="4971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86360" y="24318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83160" y="243180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78520" y="24318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589200" y="2928600"/>
              <a:ext cx="4971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86360" y="29286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583160" y="292860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78520" y="29286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589200" y="3425400"/>
              <a:ext cx="49716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086360" y="3425400"/>
              <a:ext cx="49680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83160" y="3425400"/>
              <a:ext cx="49536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078520" y="3425400"/>
              <a:ext cx="49680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589200" y="3920760"/>
              <a:ext cx="4971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86360" y="392076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583160" y="392076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078520" y="392076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589200" y="4417560"/>
              <a:ext cx="49716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86360" y="4417560"/>
              <a:ext cx="49680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3160" y="4417560"/>
              <a:ext cx="49536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078520" y="4417560"/>
              <a:ext cx="49680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03560" y="234936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498920" y="2349360"/>
              <a:ext cx="1666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995720" y="234936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06760" y="284616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003560" y="284616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498920" y="2846160"/>
              <a:ext cx="1666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95720" y="284616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6760" y="3342960"/>
              <a:ext cx="16524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003560" y="3342960"/>
              <a:ext cx="16524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98920" y="3342960"/>
              <a:ext cx="16668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995720" y="3342960"/>
              <a:ext cx="16524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506760" y="3838320"/>
              <a:ext cx="165240" cy="166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003560" y="3838320"/>
              <a:ext cx="165240" cy="166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98920" y="3838320"/>
              <a:ext cx="166680" cy="166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995720" y="3838320"/>
              <a:ext cx="165240" cy="166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506760" y="433512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03560" y="433512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498920" y="4335120"/>
              <a:ext cx="1666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995720" y="433512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506760" y="483192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003560" y="483192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498920" y="4831920"/>
              <a:ext cx="1666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995720" y="483192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06760" y="234936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92880" y="234936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492880" y="284616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92880" y="3342960"/>
              <a:ext cx="16488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492880" y="3838320"/>
              <a:ext cx="164880" cy="166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92880" y="43351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492880" y="48319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8636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07852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58920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58316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75320" y="350820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305160" y="4157280"/>
              <a:ext cx="249876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6373800" y="2352600"/>
            <a:ext cx="2627280" cy="4419720"/>
            <a:chOff x="6373800" y="2352600"/>
            <a:chExt cx="2627280" cy="4419720"/>
          </a:xfrm>
        </p:grpSpPr>
        <p:sp>
          <p:nvSpPr>
            <p:cNvPr id="1433" name=""/>
            <p:cNvSpPr/>
            <p:nvPr/>
          </p:nvSpPr>
          <p:spPr>
            <a:xfrm>
              <a:off x="6373800" y="5144760"/>
              <a:ext cx="2627280" cy="1627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ＭＳ ゴシック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ＭＳ ゴシック"/>
                </a:rPr>
                <a:t>load-balan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ゴシック"/>
                </a:rPr>
                <a:t>Nodes in contact pairs are on same partition, and load-balanc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676920" y="2435040"/>
              <a:ext cx="4971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174080" y="243504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670880" y="243504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166240" y="243504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676920" y="2931840"/>
              <a:ext cx="4971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74080" y="293184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670880" y="293184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166240" y="293184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76920" y="3428640"/>
              <a:ext cx="49716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174080" y="3428640"/>
              <a:ext cx="49680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670880" y="3428640"/>
              <a:ext cx="49536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166240" y="3428640"/>
              <a:ext cx="496800" cy="495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676920" y="3924000"/>
              <a:ext cx="4971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174080" y="39240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670880" y="3924000"/>
              <a:ext cx="49536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166240" y="3924000"/>
              <a:ext cx="496800" cy="496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676920" y="4420800"/>
              <a:ext cx="49716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174080" y="4420800"/>
              <a:ext cx="49680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670880" y="4420800"/>
              <a:ext cx="49536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166240" y="4420800"/>
              <a:ext cx="496800" cy="4971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91280" y="235260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586640" y="2352600"/>
              <a:ext cx="1666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083440" y="235260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594480" y="284940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91280" y="284940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6640" y="2849400"/>
              <a:ext cx="1666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083440" y="284940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594480" y="3346200"/>
              <a:ext cx="16524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091280" y="3346200"/>
              <a:ext cx="165240" cy="165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586640" y="3346200"/>
              <a:ext cx="1666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83440" y="334620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594480" y="3841560"/>
              <a:ext cx="165240" cy="166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091280" y="3841560"/>
              <a:ext cx="165240" cy="166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586640" y="3841560"/>
              <a:ext cx="166680" cy="166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083440" y="3841560"/>
              <a:ext cx="165240" cy="166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594480" y="433836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091280" y="433836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586640" y="4338360"/>
              <a:ext cx="1666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083440" y="433836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594480" y="483516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091280" y="483516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586640" y="4835160"/>
              <a:ext cx="1666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083440" y="4835160"/>
              <a:ext cx="16524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594480" y="2352600"/>
              <a:ext cx="16524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580600" y="235260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580600" y="2849400"/>
              <a:ext cx="164880" cy="164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580600" y="334620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580600" y="3841560"/>
              <a:ext cx="164880" cy="166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580600" y="433836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580600" y="4835160"/>
              <a:ext cx="164880" cy="165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174080" y="351144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166240" y="351144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676920" y="351144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670880" y="351144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663040" y="3511440"/>
              <a:ext cx="0" cy="33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92880" y="3201840"/>
              <a:ext cx="2500200" cy="102852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816" y="0"/>
                  </a:moveTo>
                  <a:lnTo>
                    <a:pt x="336" y="0"/>
                  </a:lnTo>
                  <a:lnTo>
                    <a:pt x="336" y="288"/>
                  </a:lnTo>
                  <a:lnTo>
                    <a:pt x="336" y="33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358920" y="873000"/>
            <a:ext cx="8569080" cy="715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is slow if nodes in each contact group locate on different par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58920" y="1557360"/>
            <a:ext cx="8584920" cy="71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rtitioning so that nodes in contact pairs would be in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as INTERIOR nodes will be ef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5579-587D-4D65-A9CA-EACA2FB47D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08000" y="14176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aussian Elimination/LU Facto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3800" indent="-88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 di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ZapfDingbats"/>
                <a:ea typeface="ZapfDingbats"/>
              </a:rPr>
              <a:t>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53800" indent="-88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obust for wide range of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53800" indent="-88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Good for both dense and spars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ZapfDingbats"/>
                <a:ea typeface="ZapfDingbats"/>
              </a:rPr>
              <a:t>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53800" indent="-88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re expensive than iterative methods (memory, CP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53800" indent="-88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Not suitable for parallel and vector computation due to its global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53800" indent="-88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Direct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492C-49FE-4704-B896-11B2E0FF45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4643280" y="2276640"/>
            <a:ext cx="4427640" cy="38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3080" y="2276640"/>
            <a:ext cx="4427640" cy="38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Special Repartitioning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enchmark: 4P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5" name=""/>
          <p:cNvGraphicFramePr/>
          <p:nvPr/>
        </p:nvGraphicFramePr>
        <p:xfrm>
          <a:off x="-1260360" y="1824120"/>
          <a:ext cx="12025080" cy="398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360" y="1824120"/>
                    <a:ext cx="1202508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7" name=""/>
          <p:cNvGraphicFramePr/>
          <p:nvPr/>
        </p:nvGraphicFramePr>
        <p:xfrm>
          <a:off x="-1020600" y="2701800"/>
          <a:ext cx="12145680" cy="3103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20600" y="2701800"/>
                    <a:ext cx="1214568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533880" y="25210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 Re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034600" y="25210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 Re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1511280" y="5157720"/>
            <a:ext cx="7453440" cy="611280"/>
            <a:chOff x="1511280" y="5157720"/>
            <a:chExt cx="7453440" cy="611280"/>
          </a:xfrm>
        </p:grpSpPr>
        <p:sp>
          <p:nvSpPr>
            <p:cNvPr id="1502" name=""/>
            <p:cNvSpPr/>
            <p:nvPr/>
          </p:nvSpPr>
          <p:spPr>
            <a:xfrm>
              <a:off x="1511280" y="5192640"/>
              <a:ext cx="2881440" cy="57636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083280" y="5157720"/>
              <a:ext cx="2881440" cy="5763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BAFE-0286-4A0C-AB75-62013450A0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152280" y="1015920"/>
            <a:ext cx="8839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General Remedy for Ill-Conditione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Deep Fill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c0c0"/>
                </a:solidFill>
                <a:latin typeface="Arial"/>
                <a:ea typeface="ＭＳ ゴシック"/>
              </a:rPr>
              <a:t>Special Method for Fault-Contact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Selectiv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c0c0"/>
                </a:solidFill>
                <a:latin typeface="Arial"/>
                <a:ea typeface="ＭＳ ゴシック"/>
              </a:rPr>
              <a:t>Special Repartitioning</a:t>
            </a:r>
            <a:r>
              <a:rPr b="0" lang="ja-JP" sz="2800" spc="-1" strike="noStrike">
                <a:solidFill>
                  <a:srgbClr val="969696"/>
                </a:solidFill>
                <a:latin typeface="Arial"/>
                <a:ea typeface="ＭＳ 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arge Scale Computation on Hitachi SR2201 w/128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1E82-19BE-4AC3-A608-3CB459A6E4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 txBox="1"/>
          <p:nvPr/>
        </p:nvSpPr>
        <p:spPr>
          <a:xfrm>
            <a:off x="704700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7F10-171E-470F-A66C-7D264CBC9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5580000" y="-63720"/>
            <a:ext cx="35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ゴシック"/>
              </a:rPr>
              <a:t>Large-Scale Computation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5105520" y="2236680"/>
            <a:ext cx="1295280" cy="12956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105520" y="3684600"/>
            <a:ext cx="1295280" cy="12952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629400" y="2236680"/>
            <a:ext cx="1295280" cy="2743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629400" y="36082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105520" y="4979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629400" y="499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16200000">
            <a:off x="4320000" y="41601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Z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16200000">
            <a:off x="4305600" y="2698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Z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rot="5400000">
            <a:off x="6687000" y="34362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Z1+NZ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5105520" y="497952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rot="16200000">
            <a:off x="4655160" y="57319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400800" y="497952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16200000">
            <a:off x="5833440" y="5597640"/>
            <a:ext cx="8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= N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16200000">
            <a:off x="6227280" y="5484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= NX1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7924680" y="49798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rot="16200000">
            <a:off x="6960960" y="568584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= NX1+NX2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886200" y="4979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888000" y="46483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886200" y="3684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629400" y="497952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897360" y="365760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= NZ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886200" y="35323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897360" y="32004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= NZ1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352680" y="22366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354840" y="19051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= NZ1+NZ2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380520" y="2463840"/>
            <a:ext cx="2926080" cy="3271680"/>
            <a:chOff x="380520" y="2463840"/>
            <a:chExt cx="2926080" cy="3271680"/>
          </a:xfrm>
        </p:grpSpPr>
        <p:sp>
          <p:nvSpPr>
            <p:cNvPr id="1534" name=""/>
            <p:cNvSpPr/>
            <p:nvPr/>
          </p:nvSpPr>
          <p:spPr>
            <a:xfrm>
              <a:off x="1523880" y="2846520"/>
              <a:ext cx="1219320" cy="213336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43000" y="4222800"/>
              <a:ext cx="1219320" cy="1062000"/>
            </a:xfrm>
            <a:prstGeom prst="cube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43000" y="3227400"/>
              <a:ext cx="1219320" cy="1062000"/>
            </a:xfrm>
            <a:prstGeom prst="cube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380520" y="5284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2789280" y="4179240"/>
              <a:ext cx="517320" cy="4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2057400" y="26935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 rot="16200000">
              <a:off x="2950200" y="3962160"/>
              <a:ext cx="423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 rot="16200000">
              <a:off x="284040" y="5410080"/>
              <a:ext cx="42372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 rot="16200000">
              <a:off x="1711080" y="2542320"/>
              <a:ext cx="4237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704700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0A62-8C39-47D8-8A17-77743315B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5580000" y="-63720"/>
            <a:ext cx="35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Setting &amp; B.C.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500040" y="1274760"/>
            <a:ext cx="814248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PC at inter-zone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ymmetric condition at 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x=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y=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richlet fixed condition at 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z=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niform distributed load at 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z= Zma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7" name="" descr=""/>
          <p:cNvPicPr/>
          <p:nvPr/>
        </p:nvPicPr>
        <p:blipFill>
          <a:blip r:embed="rId5"/>
          <a:stretch/>
        </p:blipFill>
        <p:spPr>
          <a:xfrm>
            <a:off x="3635280" y="3573360"/>
            <a:ext cx="4969080" cy="311472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6"/>
          <a:stretch/>
        </p:blipFill>
        <p:spPr>
          <a:xfrm>
            <a:off x="395280" y="3429000"/>
            <a:ext cx="31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704700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4BF0-6B15-431C-9843-09066012A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5580000" y="-63720"/>
            <a:ext cx="35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mple Mesh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 nodes, 80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595800" y="1981080"/>
            <a:ext cx="7344720" cy="4572000"/>
            <a:chOff x="595800" y="1981080"/>
            <a:chExt cx="7344720" cy="4572000"/>
          </a:xfrm>
        </p:grpSpPr>
        <p:grpSp>
          <p:nvGrpSpPr>
            <p:cNvPr id="1553" name=""/>
            <p:cNvGrpSpPr/>
            <p:nvPr/>
          </p:nvGrpSpPr>
          <p:grpSpPr>
            <a:xfrm>
              <a:off x="3063960" y="1981080"/>
              <a:ext cx="4876560" cy="4511880"/>
              <a:chOff x="3063960" y="1981080"/>
              <a:chExt cx="4876560" cy="4511880"/>
            </a:xfrm>
          </p:grpSpPr>
          <p:sp>
            <p:nvSpPr>
              <p:cNvPr id="1554" name=""/>
              <p:cNvSpPr/>
              <p:nvPr/>
            </p:nvSpPr>
            <p:spPr>
              <a:xfrm>
                <a:off x="3246480" y="5396040"/>
                <a:ext cx="914400" cy="914400"/>
              </a:xfrm>
              <a:prstGeom prst="rect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160880" y="5396040"/>
                <a:ext cx="914400" cy="914400"/>
              </a:xfrm>
              <a:prstGeom prst="rect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46480" y="4481640"/>
                <a:ext cx="914400" cy="914400"/>
              </a:xfrm>
              <a:prstGeom prst="rect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160880" y="4481640"/>
                <a:ext cx="914400" cy="914400"/>
              </a:xfrm>
              <a:prstGeom prst="rect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46480" y="3078000"/>
                <a:ext cx="914400" cy="91440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160880" y="3078000"/>
                <a:ext cx="914400" cy="91440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246480" y="2163600"/>
                <a:ext cx="914400" cy="91440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160880" y="2163600"/>
                <a:ext cx="914400" cy="91440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929200" y="5396040"/>
                <a:ext cx="914400" cy="9144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843600" y="5396040"/>
                <a:ext cx="914400" cy="9144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929200" y="3078000"/>
                <a:ext cx="914400" cy="11592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929200" y="2163600"/>
                <a:ext cx="914400" cy="9144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843600" y="2163600"/>
                <a:ext cx="914400" cy="9144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843600" y="3078000"/>
                <a:ext cx="914400" cy="11592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929200" y="4237200"/>
                <a:ext cx="914400" cy="1158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843600" y="4237200"/>
                <a:ext cx="914400" cy="1158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063960" y="6127920"/>
                <a:ext cx="365040" cy="365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78360" y="6127920"/>
                <a:ext cx="365040" cy="365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92760" y="6127920"/>
                <a:ext cx="365040" cy="365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063960" y="521172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78360" y="521172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892760" y="521172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063960" y="429732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78360" y="429732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892760" y="429732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063960" y="380988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978360" y="380988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92760" y="380988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063960" y="289548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3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978360" y="289548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3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892760" y="289548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3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063960" y="1981080"/>
                <a:ext cx="365040" cy="36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4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78360" y="1981080"/>
                <a:ext cx="365040" cy="36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4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892760" y="1981080"/>
                <a:ext cx="365040" cy="36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4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746680" y="6127920"/>
                <a:ext cx="365040" cy="365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661080" y="6127920"/>
                <a:ext cx="365040" cy="365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575480" y="6127920"/>
                <a:ext cx="365040" cy="365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5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746680" y="521172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661080" y="521172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6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575480" y="521172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6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46680" y="4054320"/>
                <a:ext cx="365040" cy="36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7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1080" y="4054320"/>
                <a:ext cx="365040" cy="36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7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575480" y="4054320"/>
                <a:ext cx="365040" cy="36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46680" y="289548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8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661080" y="289548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8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575480" y="2895480"/>
                <a:ext cx="365040" cy="366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8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746680" y="1981080"/>
                <a:ext cx="365040" cy="36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9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661080" y="1981080"/>
                <a:ext cx="365040" cy="36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9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575480" y="1981080"/>
                <a:ext cx="365040" cy="36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9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4816440" y="3733920"/>
              <a:ext cx="1371600" cy="990360"/>
            </a:xfrm>
            <a:prstGeom prst="rect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16440" y="5105520"/>
              <a:ext cx="1371600" cy="53316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816440" y="6019920"/>
              <a:ext cx="1371600" cy="533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95800" y="3857760"/>
              <a:ext cx="123084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ont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rou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828800" y="4191120"/>
              <a:ext cx="29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828800" y="4191120"/>
              <a:ext cx="297180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828800" y="4191120"/>
              <a:ext cx="2971800" cy="19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 txBox="1"/>
          <p:nvPr/>
        </p:nvSpPr>
        <p:spPr>
          <a:xfrm>
            <a:off x="704700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EAC4-0B28-45FE-8FA6-5D34C1A44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5580000" y="-63720"/>
            <a:ext cx="35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0" y="6379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ゴシック"/>
              </a:rPr>
              <a:t>Results on Hitachi SR2201 (128PEs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X1=NX2=70, NY=40, NZ1=NZ2=70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partition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471,439 DOF, 784,000 Ele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ons/CPU time until convergenc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04920" y="2743200"/>
            <a:ext cx="17524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BIC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04920" y="2209680"/>
            <a:ext cx="175248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/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057400" y="2209680"/>
            <a:ext cx="13716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057400" y="274320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905 i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94.5 s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429000" y="2209680"/>
            <a:ext cx="13716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429000" y="274320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800600" y="2209680"/>
            <a:ext cx="13716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800600" y="274320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&gt; 8,3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&gt; 1,8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172200" y="2209680"/>
            <a:ext cx="13716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172200" y="274320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543800" y="2209680"/>
            <a:ext cx="13716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ＭＳ ゴシック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543800" y="274320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04920" y="3733920"/>
            <a:ext cx="175248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BI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057400" y="3733920"/>
            <a:ext cx="1371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22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9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429000" y="3733920"/>
            <a:ext cx="1371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800600" y="3733920"/>
            <a:ext cx="1371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29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1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172200" y="3733920"/>
            <a:ext cx="1371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543800" y="3733920"/>
            <a:ext cx="1371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4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6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04920" y="4724280"/>
            <a:ext cx="17524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BIC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057400" y="472428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3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429000" y="472428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800600" y="472428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4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172200" y="472428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543800" y="4724280"/>
            <a:ext cx="1371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2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87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5715000"/>
            <a:ext cx="175248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SB-BIC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057400" y="5715000"/>
            <a:ext cx="137160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6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429000" y="5715000"/>
            <a:ext cx="137160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6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00600" y="5715000"/>
            <a:ext cx="137160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6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172200" y="5715000"/>
            <a:ext cx="137160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5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6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543800" y="5715000"/>
            <a:ext cx="137160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5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ゴシック"/>
              </a:rPr>
              <a:t>6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704700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8A9-94E8-48C1-B78E-EF3A2EC18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5580000" y="-63720"/>
            <a:ext cx="35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0" y="6379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ゴシック"/>
              </a:rPr>
              <a:t>Required Memor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X1=NX2=20, NY=20, NZ1=15, NZ2=1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,649 DOF, 24,000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2070000" y="2747880"/>
            <a:ext cx="5023080" cy="283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C(0)           105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C(1)           284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C(2)           484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070000" y="4292640"/>
            <a:ext cx="50230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B-BIC(0)        128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704700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988A-157D-4ADA-A062-A1295DAB1E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5580000" y="-63720"/>
            <a:ext cx="35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0" y="393840"/>
            <a:ext cx="91440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ゴシック"/>
              </a:rPr>
              <a:t>Concluding 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36360" y="1267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ゴシック"/>
              </a:rPr>
              <a:t>Robust Preconditioning Methods for Contact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ゴシック"/>
              </a:rPr>
              <a:t>General: Deep Fill-in, Blo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ゴシック"/>
              </a:rPr>
              <a:t>Problem Specific: Selective-Blocking using Supern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ゴシック"/>
              </a:rPr>
              <a:t>Large-Scale Problems using 128 PEs of Hitachi SR22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ゴシック"/>
              </a:rPr>
              <a:t>Selective-Blocking (SB-BIC(0)) provides robust converg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More efficient and robust than BIC(0), BIC(1) and BIC(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-148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</a:rPr>
              <a:t>Iteration number for convergence remains constant while </a:t>
            </a:r>
            <a:r>
              <a:rPr b="0" lang="ja-JP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ja-JP" sz="2400" spc="-1" strike="noStrike">
                <a:solidFill>
                  <a:srgbClr val="ffcc00"/>
                </a:solidFill>
                <a:latin typeface="Arial"/>
              </a:rPr>
              <a:t>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e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 txBox="1"/>
          <p:nvPr/>
        </p:nvSpPr>
        <p:spPr>
          <a:xfrm>
            <a:off x="7047000" y="6427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1F09-DDEB-4EEA-8BFB-F524D7CE8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5580000" y="-63720"/>
            <a:ext cx="356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0" y="393840"/>
            <a:ext cx="91440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ゴシック"/>
              </a:rPr>
              <a:t>Further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36360" y="1088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ゴシック"/>
              </a:rPr>
              <a:t>Optimization for Earth Sim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ゴシック"/>
              </a:rPr>
              <a:t>Dynamic Update of Contac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Large Slip / Large De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More flexible and robust preconditioner under development such as SPAI (Sparse Approximate Invers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6372360" y="3429000"/>
            <a:ext cx="2124000" cy="1616040"/>
            <a:chOff x="6372360" y="3429000"/>
            <a:chExt cx="2124000" cy="1616040"/>
          </a:xfrm>
        </p:grpSpPr>
        <p:sp>
          <p:nvSpPr>
            <p:cNvPr id="1657" name=""/>
            <p:cNvSpPr/>
            <p:nvPr/>
          </p:nvSpPr>
          <p:spPr>
            <a:xfrm>
              <a:off x="7281720" y="3933720"/>
              <a:ext cx="0" cy="60660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236000" y="3895560"/>
              <a:ext cx="450720" cy="64476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6878520" y="3968640"/>
              <a:ext cx="393840" cy="67320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473880" y="3530520"/>
              <a:ext cx="1920960" cy="403200"/>
            </a:xfrm>
            <a:custGeom>
              <a:avLst/>
              <a:gdLst/>
              <a:ahLst/>
              <a:rect l="l" t="t" r="r" b="b"/>
              <a:pathLst>
                <a:path w="912" h="192">
                  <a:moveTo>
                    <a:pt x="0" y="0"/>
                  </a:moveTo>
                  <a:lnTo>
                    <a:pt x="192" y="144"/>
                  </a:lnTo>
                  <a:lnTo>
                    <a:pt x="384" y="192"/>
                  </a:lnTo>
                  <a:lnTo>
                    <a:pt x="624" y="192"/>
                  </a:lnTo>
                  <a:lnTo>
                    <a:pt x="768" y="144"/>
                  </a:lnTo>
                  <a:lnTo>
                    <a:pt x="912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372360" y="3429000"/>
              <a:ext cx="201600" cy="2016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182000" y="3833640"/>
              <a:ext cx="201600" cy="2019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989840" y="3732120"/>
              <a:ext cx="203400" cy="2016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294760" y="3429000"/>
              <a:ext cx="201600" cy="2016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6473880" y="4540320"/>
              <a:ext cx="1920960" cy="403200"/>
            </a:xfrm>
            <a:custGeom>
              <a:avLst/>
              <a:gdLst/>
              <a:ahLst/>
              <a:rect l="l" t="t" r="r" b="b"/>
              <a:pathLst>
                <a:path w="912" h="192">
                  <a:moveTo>
                    <a:pt x="0" y="0"/>
                  </a:moveTo>
                  <a:lnTo>
                    <a:pt x="192" y="144"/>
                  </a:lnTo>
                  <a:lnTo>
                    <a:pt x="384" y="192"/>
                  </a:lnTo>
                  <a:lnTo>
                    <a:pt x="624" y="192"/>
                  </a:lnTo>
                  <a:lnTo>
                    <a:pt x="768" y="144"/>
                  </a:lnTo>
                  <a:lnTo>
                    <a:pt x="912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8294760" y="4843440"/>
              <a:ext cx="201600" cy="2016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94640" y="3944880"/>
              <a:ext cx="0" cy="60660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04000" y="3932280"/>
              <a:ext cx="395280" cy="72072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7272000" y="3932280"/>
              <a:ext cx="431640" cy="61272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86640" y="3833640"/>
              <a:ext cx="201600" cy="2019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7586640" y="4438800"/>
              <a:ext cx="201600" cy="2030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7989840" y="4540320"/>
              <a:ext cx="203400" cy="2016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75640" y="3824280"/>
              <a:ext cx="0" cy="828720"/>
            </a:xfrm>
            <a:prstGeom prst="line">
              <a:avLst/>
            </a:prstGeom>
            <a:ln w="1908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77080" y="3824280"/>
              <a:ext cx="395280" cy="720720"/>
            </a:xfrm>
            <a:prstGeom prst="line">
              <a:avLst/>
            </a:prstGeom>
            <a:ln w="1908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6479640" y="3824280"/>
              <a:ext cx="397080" cy="1116000"/>
            </a:xfrm>
            <a:prstGeom prst="line">
              <a:avLst/>
            </a:prstGeom>
            <a:ln w="1908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777000" y="3732120"/>
              <a:ext cx="201600" cy="2016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V="1">
              <a:off x="6372360" y="4843440"/>
              <a:ext cx="201600" cy="2016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6777000" y="4540320"/>
              <a:ext cx="201600" cy="2016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7182000" y="4438800"/>
              <a:ext cx="201600" cy="2030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08000" y="14176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ationary Methods (SOR, Gauss-Seidel etc.) and Nonstationary Methods (CG, GMRES, BiCGSTAB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ZapfDingbats"/>
                <a:ea typeface="ZapfDingbats"/>
              </a:rPr>
              <a:t>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6560" indent="-997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Less expensive than direct methods, especially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6560" indent="-997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itable for parallel and vector compu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ZapfDingbats"/>
                <a:ea typeface="ZapfDingbats"/>
              </a:rPr>
              <a:t>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6560" indent="-997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Convergence strongly depends on problems, boundary conditions (condition number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6560" indent="-997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reconditioning i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Iterative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7CFB-CC02-42A7-8CE4-85C9F27D4A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14480" y="1130400"/>
            <a:ext cx="8915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vergence rate of iterative solvers strongly depends on the spectral properties (eigenvalue distribution) of the coefficient matrix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-113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-113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 preconditioner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transforms the linear system into one with more favorable spectral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-93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 "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ill-condition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 problems, "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condition numb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 (ratio of max/min eigenvalue if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is symmetric) is l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-93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transforms original equation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'x=b'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'=M</a:t>
            </a:r>
            <a:r>
              <a:rPr b="1" lang="ja-JP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b'=M</a:t>
            </a:r>
            <a:r>
              <a:rPr b="1" lang="ja-JP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-93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-113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LU (Incomplete LU Factorization) or IC (Incomplete Cholesky Factorization) are well-known precondition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Preconditioing for Iterative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34B8-2C5B-4F4B-8E04-D4B140A466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2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-34920" y="3398760"/>
            <a:ext cx="9070920" cy="3740400"/>
            <a:chOff x="-34920" y="3398760"/>
            <a:chExt cx="9070920" cy="3740400"/>
          </a:xfrm>
        </p:grpSpPr>
        <p:pic>
          <p:nvPicPr>
            <p:cNvPr id="528" name="" descr=""/>
            <p:cNvPicPr/>
            <p:nvPr/>
          </p:nvPicPr>
          <p:blipFill>
            <a:blip r:embed="rId1"/>
            <a:stretch/>
          </p:blipFill>
          <p:spPr>
            <a:xfrm>
              <a:off x="-34920" y="3398760"/>
              <a:ext cx="4967280" cy="37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680000" y="3645000"/>
              <a:ext cx="435600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3D linear elastic problem for simple cubic geometry on Hitachi SR8000/MPP with 128 SMP nodes (1024 PEs) (not ES40, unfortunately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Block ICCG Solv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The largest problem size so far is 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05,306,368 DOF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14480" y="12682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method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ice for large-scale parallel compu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pecific preconditioning method is the most important issue although traditional ILU(0)/IC(0) cover wide range of applic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Strategy in GeoF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56748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03280" y="3675240"/>
            <a:ext cx="2376720" cy="545760"/>
            <a:chOff x="1403280" y="3675240"/>
            <a:chExt cx="2376720" cy="545760"/>
          </a:xfrm>
        </p:grpSpPr>
        <p:sp>
          <p:nvSpPr>
            <p:cNvPr id="534" name=""/>
            <p:cNvSpPr/>
            <p:nvPr/>
          </p:nvSpPr>
          <p:spPr>
            <a:xfrm>
              <a:off x="1403280" y="3675240"/>
              <a:ext cx="1798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8 SMP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5,306,368 D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35.2 GFL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48000" y="3789360"/>
              <a:ext cx="432000" cy="431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340000" y="4581360"/>
            <a:ext cx="2233440" cy="617760"/>
            <a:chOff x="2340000" y="4581360"/>
            <a:chExt cx="2233440" cy="617760"/>
          </a:xfrm>
        </p:grpSpPr>
        <p:sp>
          <p:nvSpPr>
            <p:cNvPr id="537" name=""/>
            <p:cNvSpPr/>
            <p:nvPr/>
          </p:nvSpPr>
          <p:spPr>
            <a:xfrm>
              <a:off x="2700360" y="4653000"/>
              <a:ext cx="1873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16 SMP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100,663,296 D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42.4 GFL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40000" y="4581360"/>
              <a:ext cx="360360" cy="358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7E03-73A8-4809-A80D-0E6E8FE9FE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71280" y="1089000"/>
            <a:ext cx="74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tact Problems in Simulations for Earthquake Generation Cycle by GeoF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560" indent="-1310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on-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560" indent="-1310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ll-conditioned problem due to penalty constraint by ALM (Augmented Lagrang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560" indent="-1310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25600" indent="-1051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finitesimal deformation, static contact relationsh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35840" indent="-1051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cation of nodes is in each "contact pair" is identi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25600" indent="-1051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 friction : Symmetric coefficient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明朝"/>
              </a:rPr>
              <a:t>Topics in this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6748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840360" y="1884240"/>
            <a:ext cx="2124000" cy="1615320"/>
            <a:chOff x="6840360" y="1884240"/>
            <a:chExt cx="2124000" cy="1615320"/>
          </a:xfrm>
        </p:grpSpPr>
        <p:sp>
          <p:nvSpPr>
            <p:cNvPr id="543" name=""/>
            <p:cNvSpPr/>
            <p:nvPr/>
          </p:nvSpPr>
          <p:spPr>
            <a:xfrm>
              <a:off x="8560080" y="2266920"/>
              <a:ext cx="0" cy="822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50440" y="2388960"/>
              <a:ext cx="0" cy="6058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155080" y="2409840"/>
              <a:ext cx="23400" cy="585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345800" y="2266920"/>
              <a:ext cx="18360" cy="829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41520" y="1984680"/>
              <a:ext cx="1922040" cy="403920"/>
            </a:xfrm>
            <a:custGeom>
              <a:avLst/>
              <a:gdLst/>
              <a:ahLst/>
              <a:rect l="l" t="t" r="r" b="b"/>
              <a:pathLst>
                <a:path w="912" h="192">
                  <a:moveTo>
                    <a:pt x="0" y="0"/>
                  </a:moveTo>
                  <a:lnTo>
                    <a:pt x="192" y="144"/>
                  </a:lnTo>
                  <a:lnTo>
                    <a:pt x="384" y="192"/>
                  </a:lnTo>
                  <a:lnTo>
                    <a:pt x="624" y="192"/>
                  </a:lnTo>
                  <a:lnTo>
                    <a:pt x="768" y="144"/>
                  </a:lnTo>
                  <a:lnTo>
                    <a:pt x="91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40360" y="1884240"/>
              <a:ext cx="202320" cy="2016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45000" y="2187000"/>
              <a:ext cx="201960" cy="2016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49640" y="2287800"/>
              <a:ext cx="201960" cy="202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53920" y="2287800"/>
              <a:ext cx="202320" cy="202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58920" y="2187000"/>
              <a:ext cx="201960" cy="2016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762400" y="1884240"/>
              <a:ext cx="201960" cy="2016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941520" y="2995200"/>
              <a:ext cx="1922040" cy="403920"/>
            </a:xfrm>
            <a:custGeom>
              <a:avLst/>
              <a:gdLst/>
              <a:ahLst/>
              <a:rect l="l" t="t" r="r" b="b"/>
              <a:pathLst>
                <a:path w="912" h="192">
                  <a:moveTo>
                    <a:pt x="0" y="0"/>
                  </a:moveTo>
                  <a:lnTo>
                    <a:pt x="192" y="144"/>
                  </a:lnTo>
                  <a:lnTo>
                    <a:pt x="384" y="192"/>
                  </a:lnTo>
                  <a:lnTo>
                    <a:pt x="624" y="192"/>
                  </a:lnTo>
                  <a:lnTo>
                    <a:pt x="768" y="144"/>
                  </a:lnTo>
                  <a:lnTo>
                    <a:pt x="91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840360" y="3297960"/>
              <a:ext cx="202320" cy="201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245000" y="2995200"/>
              <a:ext cx="201960" cy="201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649640" y="2894040"/>
              <a:ext cx="201960" cy="202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8053920" y="2894040"/>
              <a:ext cx="202320" cy="202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458920" y="2995200"/>
              <a:ext cx="201960" cy="201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762400" y="3297960"/>
              <a:ext cx="201960" cy="201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79280" y="4471920"/>
            <a:ext cx="8785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reconditioning 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lective Blo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920" indent="-1940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obust and smooth convergence in 3D solid mechanics simulations for geophysics with cont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n Hitachi SR2201 parallel computer with 128 processing e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06E8-BF35-47DD-BCAC-F710EBF573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36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280" y="1160640"/>
            <a:ext cx="8839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General Remedy for Ill-Conditione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ep Fill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Special Method for Fault-Contact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elective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pecial Repartitio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00" indent="-56880">
              <a:lnSpc>
                <a:spcPct val="100000"/>
              </a:lnSpc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arge Scale Computation on Hitachi SR2201 w/128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491C-35AA-4B67-998B-2754DDCF72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404640"/>
            <a:ext cx="91440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Geophysics Application w/Cont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ugmented Lagrangean Method with Penalty Constraint Condition for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80000" y="2133720"/>
            <a:ext cx="4105080" cy="33210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12720" y="2168640"/>
            <a:ext cx="3789360" cy="3294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23520" y="5656320"/>
            <a:ext cx="78541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,156 elements, 7,220 nodes, 21,660 D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0k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20k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0km reg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rd ACES Workshop, Maui, May5-10, 2002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AB75-6F08-4D4B-9CA5-D7BB2E581D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2:56:31Z</dcterms:created>
  <dc:creator>和田 義孝</dc:creator>
  <dc:description/>
  <dc:language>en-US</dc:language>
  <cp:lastModifiedBy>Kengo Nakajima</cp:lastModifiedBy>
  <dcterms:modified xsi:type="dcterms:W3CDTF">2002-05-06T23:25:10Z</dcterms:modified>
  <cp:revision>484</cp:revision>
  <dc:subject/>
  <dc:title>プレ・ポスト統合化ビューア GPP View/Editor</dc:title>
</cp:coreProperties>
</file>