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4AD-8A2E-466C-ABDE-E0B9E680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98040" y="4114800"/>
            <a:ext cx="7759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98040" y="5030640"/>
            <a:ext cx="7759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C3E-2793-4703-881F-56F712AB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8040" y="411480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411480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98040" y="503064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503064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E87-99C8-438F-98E1-8AEEE4B0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98040" y="4114800"/>
            <a:ext cx="2498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720" y="4114800"/>
            <a:ext cx="2498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5400" y="4114800"/>
            <a:ext cx="2498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98040" y="5030640"/>
            <a:ext cx="2498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720" y="5030640"/>
            <a:ext cx="2498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5400" y="5030640"/>
            <a:ext cx="2498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C51-49DC-4219-8F21-0F99D74E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E3AA-BA6A-4381-A428-3D6A66A2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98040" y="4114800"/>
            <a:ext cx="7759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8347-07BE-41B9-89AC-60AAC84F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040" y="4114800"/>
            <a:ext cx="7759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1935-F402-4660-B85A-E8DDAF65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8040" y="4114800"/>
            <a:ext cx="3786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4114800"/>
            <a:ext cx="3786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8C9A-0C55-4A5D-9224-510A8CCA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0EA5-68E5-4F66-8F47-042BE0FE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8DE6-5C5D-40E9-AB13-1D3BCF0C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040" y="411480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4114800"/>
            <a:ext cx="3786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8040" y="503064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FC09-83EF-47AC-AB5C-BED6C660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98040" y="4114800"/>
            <a:ext cx="7759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AE2-0C7A-4C26-9187-1C00DE52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040" y="4114800"/>
            <a:ext cx="3786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411480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503064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66B7-BE08-480A-B728-CE2F8AE3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040" y="411480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411480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98040" y="5030640"/>
            <a:ext cx="7759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EE35-D989-4F41-8EE4-B0F4BC38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040" y="4114800"/>
            <a:ext cx="7759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98040" y="5030640"/>
            <a:ext cx="7759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EB14-3723-4BC4-89A3-FDA20C2E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98040" y="411480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411480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98040" y="503064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503064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87FF-1BD8-49D6-A38B-BC3C14D0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98040" y="4114800"/>
            <a:ext cx="2498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21720" y="4114800"/>
            <a:ext cx="2498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5400" y="4114800"/>
            <a:ext cx="2498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98040" y="5030640"/>
            <a:ext cx="2498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21720" y="5030640"/>
            <a:ext cx="2498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5400" y="5030640"/>
            <a:ext cx="2498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77E8-A8D5-4671-B416-A1171227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4114800"/>
            <a:ext cx="7759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9CF-DAD7-4367-9374-2A66B4CC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040" y="4114800"/>
            <a:ext cx="3786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114800"/>
            <a:ext cx="3786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8C1-34DB-4714-A616-7076B8C1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47F-8BA4-4CFC-A30F-C17C312D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893-5F91-42D9-B65D-A511A9AB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040" y="411480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4114800"/>
            <a:ext cx="3786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8040" y="503064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C61-DD84-4C8E-BBBE-BE2BF5B7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4114800"/>
            <a:ext cx="3786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411480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503064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199C-067D-44C9-B701-540EB424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040" y="411480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4114800"/>
            <a:ext cx="3786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040" y="5030640"/>
            <a:ext cx="7759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4E4-2836-4AA9-8D88-01E6740F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489560"/>
            <a:ext cx="574524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fefec3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147840"/>
            <a:ext cx="9144000" cy="368964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66068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8360" cy="104616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4578480" cy="43344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20840" y="1440"/>
            <a:ext cx="1447560" cy="685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05600" indent="-271440">
              <a:spcBef>
                <a:spcPts val="799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85760" indent="-217080">
              <a:spcBef>
                <a:spcPts val="799"/>
              </a:spcBef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519920" indent="-217080">
              <a:spcBef>
                <a:spcPts val="799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954440" indent="-217080">
              <a:spcBef>
                <a:spcPts val="799"/>
              </a:spcBef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2370240" y="6149880"/>
            <a:ext cx="1620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165200" y="6164280"/>
            <a:ext cx="246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6808320" y="6153120"/>
            <a:ext cx="1630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b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7626-19B5-41BD-9BB0-1D66B6CF3AFA}" type="slidenum">
              <a:rPr b="0" lang="en-US" sz="1400" spc="-1" strike="noStrike">
                <a:solidFill>
                  <a:srgbClr val="c3b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1863720" y="735120"/>
            <a:ext cx="7280280" cy="81576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6" name="" descr=""/>
          <p:cNvPicPr/>
          <p:nvPr/>
        </p:nvPicPr>
        <p:blipFill>
          <a:blip r:embed="rId3"/>
          <a:stretch/>
        </p:blipFill>
        <p:spPr>
          <a:xfrm>
            <a:off x="255600" y="6029280"/>
            <a:ext cx="828720" cy="828720"/>
          </a:xfrm>
          <a:prstGeom prst="rect">
            <a:avLst/>
          </a:prstGeom>
          <a:ln w="0">
            <a:noFill/>
          </a:ln>
        </p:spPr>
      </p:pic>
      <p:sp>
        <p:nvSpPr>
          <p:cNvPr id="17" name=""/>
          <p:cNvSpPr/>
          <p:nvPr/>
        </p:nvSpPr>
        <p:spPr>
          <a:xfrm>
            <a:off x="1057320" y="6053040"/>
            <a:ext cx="12254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ooperation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rthqu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489560"/>
            <a:ext cx="574524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fefec3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47840"/>
            <a:ext cx="9144000" cy="368964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166068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8388360" cy="104616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8480" cy="43344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0840" y="1440"/>
            <a:ext cx="1447560" cy="685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560" y="2193840"/>
            <a:ext cx="8380440" cy="14526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dt" idx="4"/>
          </p:nvPr>
        </p:nvSpPr>
        <p:spPr>
          <a:xfrm>
            <a:off x="698400" y="6172200"/>
            <a:ext cx="1819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5"/>
          </p:nvPr>
        </p:nvSpPr>
        <p:spPr>
          <a:xfrm>
            <a:off x="2738520" y="6172200"/>
            <a:ext cx="3605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6"/>
          </p:nvPr>
        </p:nvSpPr>
        <p:spPr>
          <a:xfrm>
            <a:off x="6540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D71A-CC72-4B50-A45A-4F2406FB5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216540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Arial Rounded MT Bol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2760" y="231120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ole of Grain Shape and Inter-Particle Friction on the Strength of Simulated Fault Gouge – Results, Questions, Directions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98040" y="4114800"/>
            <a:ext cx="7759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Place, P. Mora, and S. A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versity of Queen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hear Elasticity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DEM approach vs. LSM approach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3174840"/>
            <a:ext cx="3300120" cy="1533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59400" y="3048120"/>
            <a:ext cx="3682800" cy="18316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ault Strength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08080" y="1860480"/>
            <a:ext cx="5653080" cy="2200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073240" y="3844800"/>
            <a:ext cx="5653080" cy="2200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708440" y="1957320"/>
            <a:ext cx="2640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M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97360" y="3925800"/>
            <a:ext cx="2640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lip Dynamic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31960" y="1805040"/>
            <a:ext cx="5999040" cy="2220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41320" y="3860640"/>
            <a:ext cx="5999400" cy="2221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486160" y="1881360"/>
            <a:ext cx="2830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M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73200" y="3951360"/>
            <a:ext cx="2640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ault Strength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The method/approach does not affect the fault strength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However, the type model used has an effect on the dynamic of slip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ffect of Friction on Fault Gouge Strength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Numerical Experimen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703600" y="1797120"/>
            <a:ext cx="4402080" cy="47368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99"/>
                </a:solidFill>
                <a:latin typeface="Times New Roman"/>
              </a:rPr>
              <a:t>Fault Gouge Strength (for </a:t>
            </a:r>
            <a:r>
              <a:rPr b="1" lang="el-GR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μ</a:t>
            </a:r>
            <a:r>
              <a:rPr b="1" lang="en-A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1.0)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97200" y="1523880"/>
            <a:ext cx="5402160" cy="50752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99"/>
                </a:solidFill>
                <a:latin typeface="Times New Roman"/>
              </a:rPr>
              <a:t>Fault Gouge Strength (for </a:t>
            </a:r>
            <a:r>
              <a:rPr b="1" lang="el-GR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μ</a:t>
            </a:r>
            <a:r>
              <a:rPr b="1" lang="en-A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0.6)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906560" y="1847880"/>
            <a:ext cx="5610240" cy="42926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ault Gouge Compaction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90520" y="2225520"/>
            <a:ext cx="7358040" cy="3586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ault Gouge Strength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For both experiments, the fault gouge friction is ~0.6.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Both experiments show a drop in the fault strength due to a self-organisation of grains in the gouge.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ontents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LSM principles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Effect of friction on fracture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Fault strength with different numerical approaches (LSM &amp; DEM)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Fault gouge strength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Summary &amp; future work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Numerical Experimen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776680" y="2023920"/>
            <a:ext cx="3590640" cy="3829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xperiment With Bare Surfaces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85800" y="2476440"/>
            <a:ext cx="4051080" cy="2823840"/>
            <a:chOff x="685800" y="2476440"/>
            <a:chExt cx="4051080" cy="2823840"/>
          </a:xfrm>
        </p:grpSpPr>
        <p:sp>
          <p:nvSpPr>
            <p:cNvPr id="191" name=""/>
            <p:cNvSpPr/>
            <p:nvPr/>
          </p:nvSpPr>
          <p:spPr>
            <a:xfrm>
              <a:off x="1060920" y="2581200"/>
              <a:ext cx="3630960" cy="24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685800" y="2476440"/>
              <a:ext cx="4051080" cy="282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4775040" y="2476440"/>
            <a:ext cx="4051080" cy="2812680"/>
            <a:chOff x="4775040" y="2476440"/>
            <a:chExt cx="4051080" cy="2812680"/>
          </a:xfrm>
        </p:grpSpPr>
        <p:sp>
          <p:nvSpPr>
            <p:cNvPr id="194" name=""/>
            <p:cNvSpPr/>
            <p:nvPr/>
          </p:nvSpPr>
          <p:spPr>
            <a:xfrm>
              <a:off x="5135040" y="2545560"/>
              <a:ext cx="3645720" cy="244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4775040" y="2476440"/>
              <a:ext cx="4051080" cy="2812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ault With Gouge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22440" y="2200320"/>
            <a:ext cx="3885840" cy="2998440"/>
            <a:chOff x="622440" y="2200320"/>
            <a:chExt cx="3885840" cy="2998440"/>
          </a:xfrm>
        </p:grpSpPr>
        <p:sp>
          <p:nvSpPr>
            <p:cNvPr id="198" name=""/>
            <p:cNvSpPr/>
            <p:nvPr/>
          </p:nvSpPr>
          <p:spPr>
            <a:xfrm>
              <a:off x="953640" y="2210040"/>
              <a:ext cx="3526200" cy="260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622440" y="2200320"/>
              <a:ext cx="3885840" cy="299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4692600" y="2200320"/>
            <a:ext cx="3885840" cy="2961720"/>
            <a:chOff x="4692600" y="2200320"/>
            <a:chExt cx="3885840" cy="2961720"/>
          </a:xfrm>
        </p:grpSpPr>
        <p:sp>
          <p:nvSpPr>
            <p:cNvPr id="201" name=""/>
            <p:cNvSpPr/>
            <p:nvPr/>
          </p:nvSpPr>
          <p:spPr>
            <a:xfrm>
              <a:off x="5045400" y="2228400"/>
              <a:ext cx="3483000" cy="257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692600" y="2200320"/>
              <a:ext cx="3885840" cy="2961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Grain Shape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060640" y="1979640"/>
            <a:ext cx="5276880" cy="37908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riction Law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Experiment using rate- and state-dependent friction have shown that when a gouge is present, the inter-particle friction has no/little effect on the fault gouge strength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imited amount of slip between grain in the gouge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ault Gouge Strength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Microscopic coefficient of friction has no/little effect on the fault gouge strength.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Arrangement of grains and grain shape in the gouge control the fault gouge strength. 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1360" y="1790280"/>
            <a:ext cx="7937280" cy="39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No/Little effect on fault gouge strength: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The value of the intrinsic coefficient of frictio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lgorithm/Method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Friction law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Affect fault gouge strength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Grain shape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Grain size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Grain distribution (arrangement)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imitations of the Model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High roughness of grains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Limited grain shapes 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However by using larger model, broader shapes of grains (group of particles) can be modelled.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Limited distribution of particle sizes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Due to computational requirements, particle sizes can range from 0.025 to 1.0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Particles cannot fracture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uture Work: Grinding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85000" cy="23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When subjected to a high stress a particle can break down into several smaller particles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Would affect localisation phenomena observed in experiment with gouge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Would affect gouge geometry and hence, fault gouge strength and behaviour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476440" y="4343400"/>
            <a:ext cx="4365360" cy="1471320"/>
            <a:chOff x="2476440" y="4343400"/>
            <a:chExt cx="4365360" cy="147132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2476440" y="4343400"/>
              <a:ext cx="1482480" cy="14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011480" y="4811400"/>
              <a:ext cx="1295280" cy="533520"/>
            </a:xfrm>
            <a:custGeom>
              <a:avLst/>
              <a:gdLst>
                <a:gd name="textAreaLeft" fmla="*/ 202320 w 1295280"/>
                <a:gd name="textAreaRight" fmla="*/ 1133640 w 129528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5359320" y="4343400"/>
              <a:ext cx="1482480" cy="1471320"/>
              <a:chOff x="5359320" y="4343400"/>
              <a:chExt cx="1482480" cy="1471320"/>
            </a:xfrm>
          </p:grpSpPr>
          <p:pic>
            <p:nvPicPr>
              <p:cNvPr id="219" name="" descr=""/>
              <p:cNvPicPr/>
              <p:nvPr/>
            </p:nvPicPr>
            <p:blipFill>
              <a:blip r:embed="rId2">
                <a:lum bright="36000"/>
              </a:blip>
              <a:stretch/>
            </p:blipFill>
            <p:spPr>
              <a:xfrm>
                <a:off x="5359320" y="4343400"/>
                <a:ext cx="1482480" cy="147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11600" y="4495320"/>
                <a:ext cx="682560" cy="67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57720" y="4393800"/>
                <a:ext cx="276120" cy="27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248160" y="4571640"/>
                <a:ext cx="43020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438600" y="4990680"/>
                <a:ext cx="341280" cy="33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070320" y="4952520"/>
                <a:ext cx="3794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435280" y="5092200"/>
                <a:ext cx="3794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727600" y="5270040"/>
                <a:ext cx="493560" cy="49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197400" y="5308200"/>
                <a:ext cx="37944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930640" y="5117760"/>
                <a:ext cx="187200" cy="18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When a gouge is present (or in a fault system), the microscopic friction has no/little effect on the fault strength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Does not affect the fault gouge strength:  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e value of the microscopic friction,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e friction law used,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e method used.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The geometry controls the fault gouge strength 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Grain distribution 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Grain size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Grain shape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SM Principles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838160" y="1778040"/>
            <a:ext cx="5414760" cy="2125800"/>
            <a:chOff x="1838160" y="1778040"/>
            <a:chExt cx="5414760" cy="2125800"/>
          </a:xfrm>
        </p:grpSpPr>
        <p:grpSp>
          <p:nvGrpSpPr>
            <p:cNvPr id="112" name=""/>
            <p:cNvGrpSpPr/>
            <p:nvPr/>
          </p:nvGrpSpPr>
          <p:grpSpPr>
            <a:xfrm>
              <a:off x="1838160" y="2161080"/>
              <a:ext cx="1405080" cy="1144440"/>
              <a:chOff x="1838160" y="2161080"/>
              <a:chExt cx="1405080" cy="11444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2029680" y="2352600"/>
                <a:ext cx="957960" cy="766800"/>
                <a:chOff x="2029680" y="2352600"/>
                <a:chExt cx="957960" cy="7668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284920" y="2352600"/>
                  <a:ext cx="510840" cy="76680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2284920" y="2352600"/>
                  <a:ext cx="510840" cy="76680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029680" y="2736000"/>
                  <a:ext cx="957960" cy="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9360" y="2544480"/>
                <a:ext cx="3830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093760" y="2927880"/>
                <a:ext cx="3830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04600" y="2927880"/>
                <a:ext cx="3830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093760" y="2161080"/>
                <a:ext cx="3830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04600" y="2161080"/>
                <a:ext cx="3830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860200" y="2544480"/>
                <a:ext cx="3830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160" y="2544480"/>
                <a:ext cx="383040" cy="377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4" name="" descr=""/>
            <p:cNvPicPr/>
            <p:nvPr/>
          </p:nvPicPr>
          <p:blipFill>
            <a:blip r:embed="rId8"/>
            <a:stretch/>
          </p:blipFill>
          <p:spPr>
            <a:xfrm>
              <a:off x="3754800" y="1778040"/>
              <a:ext cx="3498120" cy="212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1596960" y="3990960"/>
            <a:ext cx="1555560" cy="1346040"/>
            <a:chOff x="1596960" y="3990960"/>
            <a:chExt cx="1555560" cy="1346040"/>
          </a:xfrm>
        </p:grpSpPr>
        <p:grpSp>
          <p:nvGrpSpPr>
            <p:cNvPr id="126" name=""/>
            <p:cNvGrpSpPr/>
            <p:nvPr/>
          </p:nvGrpSpPr>
          <p:grpSpPr>
            <a:xfrm>
              <a:off x="1596960" y="3990960"/>
              <a:ext cx="1305000" cy="592920"/>
              <a:chOff x="1596960" y="3990960"/>
              <a:chExt cx="1305000" cy="592920"/>
            </a:xfrm>
          </p:grpSpPr>
          <p:sp>
            <p:nvSpPr>
              <p:cNvPr id="127" name=""/>
              <p:cNvSpPr/>
              <p:nvPr/>
            </p:nvSpPr>
            <p:spPr>
              <a:xfrm>
                <a:off x="2148840" y="4211280"/>
                <a:ext cx="200520" cy="15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596960" y="3990960"/>
                <a:ext cx="602280" cy="59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99680" y="3990960"/>
                <a:ext cx="602280" cy="59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>
              <a:off x="2098800" y="4964400"/>
              <a:ext cx="200520" cy="150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1"/>
            <a:stretch/>
          </p:blipFill>
          <p:spPr>
            <a:xfrm>
              <a:off x="1596960" y="4744080"/>
              <a:ext cx="602280" cy="59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851560" y="4191480"/>
              <a:ext cx="300960" cy="200880"/>
            </a:xfrm>
            <a:prstGeom prst="rightArrow">
              <a:avLst>
                <a:gd name="adj1" fmla="val 50000"/>
                <a:gd name="adj2" fmla="val 3745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99760" y="4964400"/>
              <a:ext cx="200520" cy="150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2"/>
            <a:stretch/>
          </p:blipFill>
          <p:spPr>
            <a:xfrm>
              <a:off x="2500200" y="4744080"/>
              <a:ext cx="602280" cy="59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199240" y="4844160"/>
              <a:ext cx="300960" cy="372240"/>
            </a:xfrm>
            <a:prstGeom prst="irregularSeal2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343480" y="4422600"/>
            <a:ext cx="1319400" cy="685800"/>
            <a:chOff x="5343480" y="4422600"/>
            <a:chExt cx="1319400" cy="685800"/>
          </a:xfrm>
        </p:grpSpPr>
        <p:grpSp>
          <p:nvGrpSpPr>
            <p:cNvPr id="137" name=""/>
            <p:cNvGrpSpPr/>
            <p:nvPr/>
          </p:nvGrpSpPr>
          <p:grpSpPr>
            <a:xfrm>
              <a:off x="5343480" y="4422600"/>
              <a:ext cx="686160" cy="685800"/>
              <a:chOff x="5343480" y="4422600"/>
              <a:chExt cx="686160" cy="685800"/>
            </a:xfrm>
          </p:grpSpPr>
          <p:sp>
            <p:nvSpPr>
              <p:cNvPr id="138" name=""/>
              <p:cNvSpPr/>
              <p:nvPr/>
            </p:nvSpPr>
            <p:spPr>
              <a:xfrm>
                <a:off x="5343480" y="4422600"/>
                <a:ext cx="686160" cy="685800"/>
              </a:xfrm>
              <a:custGeom>
                <a:avLst/>
                <a:gdLst>
                  <a:gd name="textAreaLeft" fmla="*/ 120600 w 686160"/>
                  <a:gd name="textAreaRight" fmla="*/ 565560 w 686160"/>
                  <a:gd name="textAreaTop" fmla="*/ 120600 h 685800"/>
                  <a:gd name="textAreaBottom" fmla="*/ 56520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38" y="11663"/>
                    </a:lnTo>
                    <a:lnTo>
                      <a:pt x="198" y="12861"/>
                    </a:lnTo>
                    <a:lnTo>
                      <a:pt x="1284" y="13529"/>
                    </a:lnTo>
                    <a:lnTo>
                      <a:pt x="786" y="14846"/>
                    </a:lnTo>
                    <a:lnTo>
                      <a:pt x="2059" y="15448"/>
                    </a:lnTo>
                    <a:lnTo>
                      <a:pt x="1742" y="16682"/>
                    </a:lnTo>
                    <a:lnTo>
                      <a:pt x="3106" y="17030"/>
                    </a:lnTo>
                    <a:lnTo>
                      <a:pt x="3163" y="18437"/>
                    </a:lnTo>
                    <a:lnTo>
                      <a:pt x="4436" y="18384"/>
                    </a:lnTo>
                    <a:lnTo>
                      <a:pt x="4761" y="19754"/>
                    </a:lnTo>
                    <a:lnTo>
                      <a:pt x="6000" y="19459"/>
                    </a:lnTo>
                    <a:lnTo>
                      <a:pt x="6580" y="20741"/>
                    </a:lnTo>
                    <a:lnTo>
                      <a:pt x="7906" y="20267"/>
                    </a:lnTo>
                    <a:lnTo>
                      <a:pt x="8555" y="21364"/>
                    </a:lnTo>
                    <a:lnTo>
                      <a:pt x="9765" y="20646"/>
                    </a:lnTo>
                    <a:lnTo>
                      <a:pt x="10800" y="21600"/>
                    </a:lnTo>
                    <a:lnTo>
                      <a:pt x="11663" y="20662"/>
                    </a:lnTo>
                    <a:lnTo>
                      <a:pt x="12861" y="21402"/>
                    </a:lnTo>
                    <a:lnTo>
                      <a:pt x="13529" y="20316"/>
                    </a:lnTo>
                    <a:lnTo>
                      <a:pt x="14846" y="20814"/>
                    </a:lnTo>
                    <a:lnTo>
                      <a:pt x="15448" y="19541"/>
                    </a:lnTo>
                    <a:lnTo>
                      <a:pt x="16682" y="19858"/>
                    </a:lnTo>
                    <a:lnTo>
                      <a:pt x="17030" y="18494"/>
                    </a:lnTo>
                    <a:lnTo>
                      <a:pt x="18437" y="18437"/>
                    </a:lnTo>
                    <a:lnTo>
                      <a:pt x="18384" y="17164"/>
                    </a:lnTo>
                    <a:lnTo>
                      <a:pt x="19754" y="16839"/>
                    </a:lnTo>
                    <a:lnTo>
                      <a:pt x="19459" y="15600"/>
                    </a:lnTo>
                    <a:lnTo>
                      <a:pt x="20741" y="15020"/>
                    </a:lnTo>
                    <a:lnTo>
                      <a:pt x="20267" y="13694"/>
                    </a:lnTo>
                    <a:lnTo>
                      <a:pt x="21364" y="13045"/>
                    </a:lnTo>
                    <a:lnTo>
                      <a:pt x="20646" y="11835"/>
                    </a:lnTo>
                    <a:lnTo>
                      <a:pt x="21600" y="10800"/>
                    </a:lnTo>
                    <a:lnTo>
                      <a:pt x="20662" y="9937"/>
                    </a:lnTo>
                    <a:lnTo>
                      <a:pt x="21402" y="8739"/>
                    </a:lnTo>
                    <a:lnTo>
                      <a:pt x="20316" y="8071"/>
                    </a:lnTo>
                    <a:lnTo>
                      <a:pt x="20814" y="6754"/>
                    </a:lnTo>
                    <a:lnTo>
                      <a:pt x="19541" y="6152"/>
                    </a:lnTo>
                    <a:lnTo>
                      <a:pt x="19858" y="4918"/>
                    </a:lnTo>
                    <a:lnTo>
                      <a:pt x="18494" y="4570"/>
                    </a:lnTo>
                    <a:lnTo>
                      <a:pt x="18437" y="3163"/>
                    </a:lnTo>
                    <a:lnTo>
                      <a:pt x="17164" y="3216"/>
                    </a:lnTo>
                    <a:lnTo>
                      <a:pt x="16839" y="1846"/>
                    </a:lnTo>
                    <a:lnTo>
                      <a:pt x="15600" y="2141"/>
                    </a:lnTo>
                    <a:lnTo>
                      <a:pt x="15020" y="859"/>
                    </a:lnTo>
                    <a:lnTo>
                      <a:pt x="13694" y="1333"/>
                    </a:lnTo>
                    <a:lnTo>
                      <a:pt x="13045" y="236"/>
                    </a:lnTo>
                    <a:lnTo>
                      <a:pt x="11835" y="954"/>
                    </a:lnTo>
                    <a:lnTo>
                      <a:pt x="10800" y="0"/>
                    </a:lnTo>
                    <a:lnTo>
                      <a:pt x="9937" y="938"/>
                    </a:lnTo>
                    <a:lnTo>
                      <a:pt x="8739" y="198"/>
                    </a:lnTo>
                    <a:lnTo>
                      <a:pt x="8071" y="1284"/>
                    </a:lnTo>
                    <a:lnTo>
                      <a:pt x="6754" y="786"/>
                    </a:lnTo>
                    <a:lnTo>
                      <a:pt x="6152" y="2059"/>
                    </a:lnTo>
                    <a:lnTo>
                      <a:pt x="4918" y="1742"/>
                    </a:lnTo>
                    <a:lnTo>
                      <a:pt x="4570" y="3106"/>
                    </a:lnTo>
                    <a:lnTo>
                      <a:pt x="3163" y="3163"/>
                    </a:lnTo>
                    <a:lnTo>
                      <a:pt x="3216" y="4436"/>
                    </a:lnTo>
                    <a:lnTo>
                      <a:pt x="1846" y="4761"/>
                    </a:lnTo>
                    <a:lnTo>
                      <a:pt x="2141" y="6000"/>
                    </a:lnTo>
                    <a:lnTo>
                      <a:pt x="859" y="6580"/>
                    </a:lnTo>
                    <a:lnTo>
                      <a:pt x="1333" y="7906"/>
                    </a:lnTo>
                    <a:lnTo>
                      <a:pt x="236" y="8555"/>
                    </a:lnTo>
                    <a:lnTo>
                      <a:pt x="954" y="9765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369760" y="4454280"/>
                <a:ext cx="633240" cy="62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5976720" y="4422600"/>
              <a:ext cx="686160" cy="685800"/>
              <a:chOff x="5976720" y="4422600"/>
              <a:chExt cx="686160" cy="685800"/>
            </a:xfrm>
          </p:grpSpPr>
          <p:sp>
            <p:nvSpPr>
              <p:cNvPr id="141" name=""/>
              <p:cNvSpPr/>
              <p:nvPr/>
            </p:nvSpPr>
            <p:spPr>
              <a:xfrm>
                <a:off x="5976720" y="4422600"/>
                <a:ext cx="686160" cy="685800"/>
              </a:xfrm>
              <a:custGeom>
                <a:avLst/>
                <a:gdLst>
                  <a:gd name="textAreaLeft" fmla="*/ 120600 w 686160"/>
                  <a:gd name="textAreaRight" fmla="*/ 565560 w 686160"/>
                  <a:gd name="textAreaTop" fmla="*/ 120600 h 685800"/>
                  <a:gd name="textAreaBottom" fmla="*/ 56520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38" y="11663"/>
                    </a:lnTo>
                    <a:lnTo>
                      <a:pt x="198" y="12861"/>
                    </a:lnTo>
                    <a:lnTo>
                      <a:pt x="1284" y="13529"/>
                    </a:lnTo>
                    <a:lnTo>
                      <a:pt x="786" y="14846"/>
                    </a:lnTo>
                    <a:lnTo>
                      <a:pt x="2059" y="15448"/>
                    </a:lnTo>
                    <a:lnTo>
                      <a:pt x="1742" y="16682"/>
                    </a:lnTo>
                    <a:lnTo>
                      <a:pt x="3106" y="17030"/>
                    </a:lnTo>
                    <a:lnTo>
                      <a:pt x="3163" y="18437"/>
                    </a:lnTo>
                    <a:lnTo>
                      <a:pt x="4436" y="18384"/>
                    </a:lnTo>
                    <a:lnTo>
                      <a:pt x="4761" y="19754"/>
                    </a:lnTo>
                    <a:lnTo>
                      <a:pt x="6000" y="19459"/>
                    </a:lnTo>
                    <a:lnTo>
                      <a:pt x="6580" y="20741"/>
                    </a:lnTo>
                    <a:lnTo>
                      <a:pt x="7906" y="20267"/>
                    </a:lnTo>
                    <a:lnTo>
                      <a:pt x="8555" y="21364"/>
                    </a:lnTo>
                    <a:lnTo>
                      <a:pt x="9765" y="20646"/>
                    </a:lnTo>
                    <a:lnTo>
                      <a:pt x="10800" y="21600"/>
                    </a:lnTo>
                    <a:lnTo>
                      <a:pt x="11663" y="20662"/>
                    </a:lnTo>
                    <a:lnTo>
                      <a:pt x="12861" y="21402"/>
                    </a:lnTo>
                    <a:lnTo>
                      <a:pt x="13529" y="20316"/>
                    </a:lnTo>
                    <a:lnTo>
                      <a:pt x="14846" y="20814"/>
                    </a:lnTo>
                    <a:lnTo>
                      <a:pt x="15448" y="19541"/>
                    </a:lnTo>
                    <a:lnTo>
                      <a:pt x="16682" y="19858"/>
                    </a:lnTo>
                    <a:lnTo>
                      <a:pt x="17030" y="18494"/>
                    </a:lnTo>
                    <a:lnTo>
                      <a:pt x="18437" y="18437"/>
                    </a:lnTo>
                    <a:lnTo>
                      <a:pt x="18384" y="17164"/>
                    </a:lnTo>
                    <a:lnTo>
                      <a:pt x="19754" y="16839"/>
                    </a:lnTo>
                    <a:lnTo>
                      <a:pt x="19459" y="15600"/>
                    </a:lnTo>
                    <a:lnTo>
                      <a:pt x="20741" y="15020"/>
                    </a:lnTo>
                    <a:lnTo>
                      <a:pt x="20267" y="13694"/>
                    </a:lnTo>
                    <a:lnTo>
                      <a:pt x="21364" y="13045"/>
                    </a:lnTo>
                    <a:lnTo>
                      <a:pt x="20646" y="11835"/>
                    </a:lnTo>
                    <a:lnTo>
                      <a:pt x="21600" y="10800"/>
                    </a:lnTo>
                    <a:lnTo>
                      <a:pt x="20662" y="9937"/>
                    </a:lnTo>
                    <a:lnTo>
                      <a:pt x="21402" y="8739"/>
                    </a:lnTo>
                    <a:lnTo>
                      <a:pt x="20316" y="8071"/>
                    </a:lnTo>
                    <a:lnTo>
                      <a:pt x="20814" y="6754"/>
                    </a:lnTo>
                    <a:lnTo>
                      <a:pt x="19541" y="6152"/>
                    </a:lnTo>
                    <a:lnTo>
                      <a:pt x="19858" y="4918"/>
                    </a:lnTo>
                    <a:lnTo>
                      <a:pt x="18494" y="4570"/>
                    </a:lnTo>
                    <a:lnTo>
                      <a:pt x="18437" y="3163"/>
                    </a:lnTo>
                    <a:lnTo>
                      <a:pt x="17164" y="3216"/>
                    </a:lnTo>
                    <a:lnTo>
                      <a:pt x="16839" y="1846"/>
                    </a:lnTo>
                    <a:lnTo>
                      <a:pt x="15600" y="2141"/>
                    </a:lnTo>
                    <a:lnTo>
                      <a:pt x="15020" y="859"/>
                    </a:lnTo>
                    <a:lnTo>
                      <a:pt x="13694" y="1333"/>
                    </a:lnTo>
                    <a:lnTo>
                      <a:pt x="13045" y="236"/>
                    </a:lnTo>
                    <a:lnTo>
                      <a:pt x="11835" y="954"/>
                    </a:lnTo>
                    <a:lnTo>
                      <a:pt x="10800" y="0"/>
                    </a:lnTo>
                    <a:lnTo>
                      <a:pt x="9937" y="938"/>
                    </a:lnTo>
                    <a:lnTo>
                      <a:pt x="8739" y="198"/>
                    </a:lnTo>
                    <a:lnTo>
                      <a:pt x="8071" y="1284"/>
                    </a:lnTo>
                    <a:lnTo>
                      <a:pt x="6754" y="786"/>
                    </a:lnTo>
                    <a:lnTo>
                      <a:pt x="6152" y="2059"/>
                    </a:lnTo>
                    <a:lnTo>
                      <a:pt x="4918" y="1742"/>
                    </a:lnTo>
                    <a:lnTo>
                      <a:pt x="4570" y="3106"/>
                    </a:lnTo>
                    <a:lnTo>
                      <a:pt x="3163" y="3163"/>
                    </a:lnTo>
                    <a:lnTo>
                      <a:pt x="3216" y="4436"/>
                    </a:lnTo>
                    <a:lnTo>
                      <a:pt x="1846" y="4761"/>
                    </a:lnTo>
                    <a:lnTo>
                      <a:pt x="2141" y="6000"/>
                    </a:lnTo>
                    <a:lnTo>
                      <a:pt x="859" y="6580"/>
                    </a:lnTo>
                    <a:lnTo>
                      <a:pt x="1333" y="7906"/>
                    </a:lnTo>
                    <a:lnTo>
                      <a:pt x="236" y="8555"/>
                    </a:lnTo>
                    <a:lnTo>
                      <a:pt x="954" y="9765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003000" y="4454280"/>
                <a:ext cx="633240" cy="62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" name=""/>
          <p:cNvSpPr/>
          <p:nvPr/>
        </p:nvSpPr>
        <p:spPr>
          <a:xfrm>
            <a:off x="1711800" y="5464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4240" y="54133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Thank You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Fracture Experiment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racture Experimen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Bi-axial experiment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Constant confining pressure 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Random particle size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7920" y="2959200"/>
            <a:ext cx="3835440" cy="334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227240" y="2050920"/>
            <a:ext cx="4967280" cy="3618000"/>
            <a:chOff x="1227240" y="2050920"/>
            <a:chExt cx="4967280" cy="3618000"/>
          </a:xfrm>
        </p:grpSpPr>
        <p:sp>
          <p:nvSpPr>
            <p:cNvPr id="150" name=""/>
            <p:cNvSpPr/>
            <p:nvPr/>
          </p:nvSpPr>
          <p:spPr>
            <a:xfrm>
              <a:off x="1683360" y="2201400"/>
              <a:ext cx="4362840" cy="30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1227240" y="2050920"/>
              <a:ext cx="4967280" cy="361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racture Experimen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71880" y="5640120"/>
            <a:ext cx="518760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oefficient of friction ranging from 0 to 0.8</a:t>
            </a:r>
            <a:endParaRPr b="1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224760" y="2701800"/>
            <a:ext cx="2469960" cy="21052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9160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racture Experimen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When using a random lattice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The intrinsic coefficient of friction has no/little effect on the macroscopic characteristics.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Particle size distribution and microscopic strength control the macroscopic behaviour. 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ffect of the 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Numerical Method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on Fault Strength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Experimental Setup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157480" y="2176560"/>
            <a:ext cx="4829040" cy="35240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1T07:35:02Z</dcterms:created>
  <dc:creator>David Place</dc:creator>
  <dc:description/>
  <dc:language>en-US</dc:language>
  <cp:lastModifiedBy>David Place</cp:lastModifiedBy>
  <dcterms:modified xsi:type="dcterms:W3CDTF">2002-05-08T17:03:19Z</dcterms:modified>
  <cp:revision>78</cp:revision>
  <dc:subject/>
  <dc:title>Project Overview</dc:title>
</cp:coreProperties>
</file>