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A37-0677-4A4D-8CDA-EB34E3C3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AE2-F927-4A1C-AFCC-6BF7085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8A7-5E7E-4443-81E1-EFE48CF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386-4C96-4B60-B08C-5F4651B2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478-75FE-4167-8474-DD51144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F4C-EEE2-4A22-8C97-9B5A495B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DDD-A6B0-4110-913A-5225F47A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AE6-DCBF-49BC-99C0-411FFA2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89B-51FD-46C9-82F9-13C89AE8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074-8A88-4DE6-9AAC-2881D2D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4ED-094D-4651-B1DE-A115309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A84-0E03-47A2-ACC2-0F12EBD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8575-D890-45F3-9980-0A827327D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ccelerating Precursory Activity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 Statistical Fractal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Dion Weatherle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Peter M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KES, Univ. of Qld., Austra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NNfprob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lusions and 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Precursory Activity occurs in models in wh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an overabundance of larger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large events perturb the system from a state of high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ss redistribution smoothes the stress field within failed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range clustering of cell strengths (smaller fractal dimen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field heterogeneity apparently a factor determining the mode of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smooth stress field corresponds with accelerating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ress field dominated by small-scale heterogeneity corresponds with a constant rate of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questions to motivate discu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transition line a SPINODAL i.e. a line of Critical Poin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ight one formulate a mathematical description for these model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se models any more or less appropriate as earthquake analogues than pseudo-spinodal or SOC model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a parameter spac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size 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of mean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field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precursory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varying the fractal dim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and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del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rectangular grid of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ell has two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nt, scalar Str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, scale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loading of al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failure when a cell’s stress exceeds its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est Neighbour stress re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redist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176640" cy="2076480"/>
          </a:xfrm>
          <a:prstGeom prst="rect">
            <a:avLst/>
          </a:prstGeom>
          <a:ln w="0">
            <a:noFill/>
          </a:ln>
        </p:spPr>
      </p:pic>
      <p:pic>
        <p:nvPicPr>
          <p:cNvPr id="49" name="mdlpict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6734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vent size 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Nparam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365640" cy="3276360"/>
          </a:xfrm>
          <a:prstGeom prst="rect">
            <a:avLst/>
          </a:prstGeom>
          <a:ln w="0">
            <a:noFill/>
          </a:ln>
        </p:spPr>
      </p:pic>
      <p:pic>
        <p:nvPicPr>
          <p:cNvPr id="52" name="NNgr1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3372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NNgr2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2133720" cy="1957680"/>
          </a:xfrm>
          <a:prstGeom prst="rect">
            <a:avLst/>
          </a:prstGeom>
          <a:ln w="0">
            <a:noFill/>
          </a:ln>
        </p:spPr>
      </p:pic>
      <p:pic>
        <p:nvPicPr>
          <p:cNvPr id="54" name="NNgr3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2057400" cy="1906560"/>
          </a:xfrm>
          <a:prstGeom prst="rect">
            <a:avLst/>
          </a:prstGeom>
          <a:ln w="0">
            <a:noFill/>
          </a:ln>
        </p:spPr>
      </p:pic>
      <p:pic>
        <p:nvPicPr>
          <p:cNvPr id="55" name="NNgr4" descr=""/>
          <p:cNvPicPr/>
          <p:nvPr/>
        </p:nvPicPr>
        <p:blipFill>
          <a:blip r:embed="rId5"/>
          <a:stretch/>
        </p:blipFill>
        <p:spPr>
          <a:xfrm>
            <a:off x="6324480" y="1143000"/>
            <a:ext cx="221004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an Stress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NNmnstr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454560" cy="3313080"/>
          </a:xfrm>
          <a:prstGeom prst="rect">
            <a:avLst/>
          </a:prstGeom>
          <a:ln w="0">
            <a:noFill/>
          </a:ln>
        </p:spPr>
      </p:pic>
      <p:pic>
        <p:nvPicPr>
          <p:cNvPr id="58" name="NNmeans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2520" y="914400"/>
            <a:ext cx="50292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s with a char. event distribution 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low time-averaged mean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saw-tooth fluc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s with a roll-over distribution 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time-averaged mean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, irregular fluc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343400"/>
            <a:ext cx="48006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s with high dissipation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-constant mean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s with GR-scaling 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spond with drop in time-averaged mean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a transition from large to small fluc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napshots of Stress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NNsnaps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ccelerating Precursory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NNfprob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1981080"/>
            <a:ext cx="49532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Helme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lect the 100 largest events in each simulation for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Helme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f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s the time of the large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Helme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r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within a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Helme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u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,B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via least squares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Helme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are power-law with a linear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Helme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lect best power-law fit for each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Helme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unt number of good power-law fits for each simulation = fit prob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wrlaw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30942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mmary of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Precursory Activity in models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bundance of larger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low time-averaged mean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saw-tooth fluctuations in mean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smooth stress field over broad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rate of activity in models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der-abundance of large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, near-constant mean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ss field dominated by small-scale 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m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for a distinct transition between two modes of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-scaling only for simulations along a line through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in character of mean stress fluctuations across thi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in stress field heterogeneity across thi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m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bility of accelerating precursory activity drops to near-zero at thi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ffect of varying the Fractal Dimension of cell 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rlines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127400" cy="3000240"/>
          </a:xfrm>
          <a:prstGeom prst="rect">
            <a:avLst/>
          </a:prstGeom>
          <a:ln w="0">
            <a:noFill/>
          </a:ln>
        </p:spPr>
      </p:pic>
      <p:pic>
        <p:nvPicPr>
          <p:cNvPr id="71" name="Dsnap1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077920" cy="2077920"/>
          </a:xfrm>
          <a:prstGeom prst="rect">
            <a:avLst/>
          </a:prstGeom>
          <a:ln w="0">
            <a:noFill/>
          </a:ln>
        </p:spPr>
      </p:pic>
      <p:pic>
        <p:nvPicPr>
          <p:cNvPr id="72" name="Dsnap2" descr=""/>
          <p:cNvPicPr/>
          <p:nvPr/>
        </p:nvPicPr>
        <p:blipFill>
          <a:blip r:embed="rId3"/>
          <a:stretch/>
        </p:blipFill>
        <p:spPr>
          <a:xfrm>
            <a:off x="3733920" y="4572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Dsnap3" descr=""/>
          <p:cNvPicPr/>
          <p:nvPr/>
        </p:nvPicPr>
        <p:blipFill>
          <a:blip r:embed="rId4"/>
          <a:stretch/>
        </p:blipFill>
        <p:spPr>
          <a:xfrm>
            <a:off x="6781680" y="1981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6520" y="396252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=1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9000" y="533232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D=2.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9600" y="396252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=2.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0:36:09Z</dcterms:created>
  <dc:creator>Peter Mora</dc:creator>
  <dc:description/>
  <dc:language>en-US</dc:language>
  <cp:lastModifiedBy>Peter Mora</cp:lastModifiedBy>
  <dcterms:modified xsi:type="dcterms:W3CDTF">2002-04-29T06:07:27Z</dcterms:modified>
  <cp:revision>16</cp:revision>
  <dc:subject/>
  <dc:title>Accelerating Precursory Activity in Statistical Fractal Automata</dc:title>
</cp:coreProperties>
</file>