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8.png" ContentType="image/png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4CB8-122B-4F16-BD75-75B13156D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2147-B698-45A9-A35C-8C837E355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A7D0-0CAD-4D03-B92D-52850A76F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C66F-95C2-413D-8892-F35F91327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FAB4-452A-41F1-8F09-13544FC4E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1CE3-87FB-4DB2-A2F2-400B4A27A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9986-36F6-4C6D-85B9-A1E80602E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4271-9371-4E2E-84D7-06F552CA4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A4AA-E2B6-437E-891E-29F41DDA2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769D-A969-483B-876A-75AC46284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B991-FC49-42E3-904E-7A94486EC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8FC0-E358-4D09-9791-FD974556E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99F27-BB7A-4236-95F3-90F03C1B45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image" Target="../media/image7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International ACES Mee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09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ui, Hawa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6-10, 20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onsored by NASA and NS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ACES_small6" descr=""/>
          <p:cNvPicPr/>
          <p:nvPr/>
        </p:nvPicPr>
        <p:blipFill>
          <a:blip r:embed="rId1"/>
          <a:stretch/>
        </p:blipFill>
        <p:spPr>
          <a:xfrm>
            <a:off x="4038480" y="2438280"/>
            <a:ext cx="1006560" cy="9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19396" t="4442" r="0" b="5549"/>
          <a:stretch/>
        </p:blipFill>
        <p:spPr>
          <a:xfrm>
            <a:off x="0" y="3240"/>
            <a:ext cx="16542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219320" y="993600"/>
            <a:ext cx="7924680" cy="0"/>
          </a:xfrm>
          <a:prstGeom prst="line">
            <a:avLst/>
          </a:prstGeom>
          <a:ln w="7632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2360" y="0"/>
            <a:ext cx="120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Impact"/>
              </a:rPr>
              <a:t>SESW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752480" y="2286000"/>
            <a:ext cx="7239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ving on a Restless Pla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752480" y="3886200"/>
            <a:ext cx="72392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id Earth Science Working Group Re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SA Headquar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April 20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19396" t="4442" r="0" b="5549"/>
          <a:stretch/>
        </p:blipFill>
        <p:spPr>
          <a:xfrm>
            <a:off x="0" y="3240"/>
            <a:ext cx="16542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219320" y="993600"/>
            <a:ext cx="7924680" cy="0"/>
          </a:xfrm>
          <a:prstGeom prst="line">
            <a:avLst/>
          </a:prstGeom>
          <a:ln w="7632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2360" y="0"/>
            <a:ext cx="120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Impact"/>
              </a:rPr>
              <a:t>SESW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76520" y="-36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ESWG Char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752120" y="1371240"/>
            <a:ext cx="7162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o guide the science community in the development of a recommended long-term vision and strategy for solid-Earth science at N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89160" y="3276720"/>
            <a:ext cx="251460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Victor R.  Ba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Jeremy Bloxha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Douglas Burba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Ben Chao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lan Chav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ndrea Donnell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lan Gillesp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homas A.  Herr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Raymond Jeanloz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Bernard Minst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465880" y="3276720"/>
            <a:ext cx="32209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Walter C. Pitman, III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ric Rign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ark Simon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Byron Tapl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Donald Turcott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ary Lou C. Zobac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ohn LaBrecque (ex-offici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rles Elachi (ex-offici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ane Evans (ex-offici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517920" y="2895480"/>
            <a:ext cx="28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ir:  Sean C. Solom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52480" y="5943600"/>
            <a:ext cx="7162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b Page: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solidearth.jpl.nasa.g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gaia.hq.nasa.gov/seswg/index.cf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-mail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seswg@hq.nasa.g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9396" t="4442" r="0" b="5549"/>
          <a:stretch/>
        </p:blipFill>
        <p:spPr>
          <a:xfrm>
            <a:off x="0" y="3240"/>
            <a:ext cx="16542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219320" y="993600"/>
            <a:ext cx="7924680" cy="0"/>
          </a:xfrm>
          <a:prstGeom prst="line">
            <a:avLst/>
          </a:prstGeom>
          <a:ln w="7632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2360" y="0"/>
            <a:ext cx="120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Impact"/>
              </a:rPr>
              <a:t>SESW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1752480" y="1371600"/>
            <a:ext cx="3505320" cy="3200400"/>
            <a:chOff x="1752480" y="1371600"/>
            <a:chExt cx="3505320" cy="3200400"/>
          </a:xfrm>
        </p:grpSpPr>
        <p:sp>
          <p:nvSpPr>
            <p:cNvPr id="62" name=""/>
            <p:cNvSpPr/>
            <p:nvPr/>
          </p:nvSpPr>
          <p:spPr>
            <a:xfrm>
              <a:off x="1752480" y="1371600"/>
              <a:ext cx="3505320" cy="3200400"/>
            </a:xfrm>
            <a:prstGeom prst="rect">
              <a:avLst/>
            </a:prstGeom>
            <a:solidFill>
              <a:srgbClr val="00c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457200" indent="-457200">
                <a:lnSpc>
                  <a:spcPct val="100000"/>
                </a:lnSpc>
                <a:spcBef>
                  <a:spcPts val="349"/>
                </a:spcBef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hat is the nature of deformation at plate boundaries and what are the implications for earthquake hazards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349"/>
                </a:spcBef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349"/>
                </a:spcBef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ow do tectonics and climate interact to shape the Earth’s surface and create natural hazards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349"/>
                </a:spcBef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349"/>
                </a:spcBef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hat are the interactions among ice masses, oceans, and the solid Earth and their implications for sea level change?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3" name="hector_mine_croplogo" descr=""/>
            <p:cNvPicPr/>
            <p:nvPr/>
          </p:nvPicPr>
          <p:blipFill>
            <a:blip r:embed="rId2"/>
            <a:stretch/>
          </p:blipFill>
          <p:spPr>
            <a:xfrm>
              <a:off x="1752480" y="1676520"/>
              <a:ext cx="533520" cy="42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elconchita_landslide_usgs%20croplogo" descr=""/>
            <p:cNvPicPr/>
            <p:nvPr/>
          </p:nvPicPr>
          <p:blipFill>
            <a:blip r:embed="rId3"/>
            <a:stretch/>
          </p:blipFill>
          <p:spPr>
            <a:xfrm>
              <a:off x="1752480" y="2819520"/>
              <a:ext cx="52416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glacier_ngdc" descr=""/>
            <p:cNvPicPr/>
            <p:nvPr/>
          </p:nvPicPr>
          <p:blipFill>
            <a:blip r:embed="rId4"/>
            <a:stretch/>
          </p:blipFill>
          <p:spPr>
            <a:xfrm>
              <a:off x="1752480" y="3733920"/>
              <a:ext cx="533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6" name=""/>
          <p:cNvGrpSpPr/>
          <p:nvPr/>
        </p:nvGrpSpPr>
        <p:grpSpPr>
          <a:xfrm>
            <a:off x="5410080" y="1371600"/>
            <a:ext cx="3581280" cy="3200400"/>
            <a:chOff x="5410080" y="1371600"/>
            <a:chExt cx="3581280" cy="3200400"/>
          </a:xfrm>
        </p:grpSpPr>
        <p:sp>
          <p:nvSpPr>
            <p:cNvPr id="67" name=""/>
            <p:cNvSpPr/>
            <p:nvPr/>
          </p:nvSpPr>
          <p:spPr>
            <a:xfrm>
              <a:off x="5410080" y="1371600"/>
              <a:ext cx="3581280" cy="3200400"/>
            </a:xfrm>
            <a:prstGeom prst="rect">
              <a:avLst/>
            </a:prstGeom>
            <a:solidFill>
              <a:srgbClr val="00c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457200" indent="-457200">
                <a:lnSpc>
                  <a:spcPct val="100000"/>
                </a:lnSpc>
                <a:spcBef>
                  <a:spcPts val="349"/>
                </a:spcBef>
                <a:buClr>
                  <a:srgbClr val="000000"/>
                </a:buClr>
                <a:buFont typeface="Arial"/>
                <a:buAutoNum type="arabicPeriod" startAt="4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ow do magmatic systems evolve and under what conditions do volcanoes erupt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349"/>
                </a:spcBef>
                <a:buClr>
                  <a:srgbClr val="000000"/>
                </a:buClr>
                <a:buFont typeface="Arial"/>
                <a:buAutoNum type="arabicPeriod" startAt="4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349"/>
                </a:spcBef>
                <a:buClr>
                  <a:srgbClr val="000000"/>
                </a:buClr>
                <a:buFont typeface="Arial"/>
                <a:buAutoNum type="arabicPeriod" startAt="4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hat are the dynamics of the mantle and crust and how does the Earth’s surface respond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349"/>
                </a:spcBef>
                <a:buClr>
                  <a:srgbClr val="000000"/>
                </a:buClr>
                <a:buFont typeface="Arial"/>
                <a:buAutoNum type="arabicPeriod" startAt="4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349"/>
                </a:spcBef>
                <a:buClr>
                  <a:srgbClr val="000000"/>
                </a:buClr>
                <a:buFont typeface="Arial"/>
                <a:buAutoNum type="arabicPeriod" startAt="4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hat are the dynamics of the Earth’s magnetic field and its interactions with the Earth system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8" name="hawaiivolcanosmall" descr=""/>
            <p:cNvPicPr/>
            <p:nvPr/>
          </p:nvPicPr>
          <p:blipFill>
            <a:blip r:embed="rId5"/>
            <a:stretch/>
          </p:blipFill>
          <p:spPr>
            <a:xfrm>
              <a:off x="5486040" y="1647720"/>
              <a:ext cx="427320" cy="63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" name="mantleFierstein%20croplogo" descr=""/>
            <p:cNvPicPr/>
            <p:nvPr/>
          </p:nvPicPr>
          <p:blipFill>
            <a:blip r:embed="rId6">
              <a:alphaModFix amt="50000"/>
            </a:blip>
            <a:stretch/>
          </p:blipFill>
          <p:spPr>
            <a:xfrm>
              <a:off x="5410080" y="2590920"/>
              <a:ext cx="533160" cy="42696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70" name=""/>
            <p:cNvGraphicFramePr/>
            <p:nvPr/>
          </p:nvGraphicFramePr>
          <p:xfrm>
            <a:off x="5410080" y="3614760"/>
            <a:ext cx="533160" cy="271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8">
                      <a:alphaModFix amt="50000"/>
                    </a:blip>
                    <a:stretch/>
                  </p:blipFill>
                  <p:spPr>
                    <a:xfrm>
                      <a:off x="5410080" y="3614760"/>
                      <a:ext cx="533160" cy="271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72" name=""/>
          <p:cNvSpPr/>
          <p:nvPr/>
        </p:nvSpPr>
        <p:spPr>
          <a:xfrm>
            <a:off x="2117520" y="5148360"/>
            <a:ext cx="587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ttp://solidearth.jpl.nasa.gov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245760" y="228600"/>
            <a:ext cx="391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 Key Ques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685800" y="533520"/>
            <a:ext cx="77724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arth Science Enterpri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al Technology Workshop</a:t>
            </a:r>
            <a:br>
              <a:rPr sz="4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pril 30 – May 2, 2002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irs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rea Donnellan, JP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hn Ries (UT/CSR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hn Rundle (U. California, Davi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6858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ational Environ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2120" y="6019920"/>
            <a:ext cx="7696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762120" y="152352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206360" y="6059520"/>
            <a:ext cx="725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042800" y="6400800"/>
            <a:ext cx="132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6200000">
            <a:off x="-300600" y="3314160"/>
            <a:ext cx="151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14400" y="5105520"/>
            <a:ext cx="2438280" cy="733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0’s GigaFLO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0 GB R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 Gb/s network bandwid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858000" y="1022400"/>
            <a:ext cx="1828800" cy="33512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~100 model codes with parallel scaled efficiency of 50%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~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4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aFLOPs throughput per subfield per year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~100 TeraFLOPs sustained capability per 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~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6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lume elements rendering in real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971800" y="3352680"/>
            <a:ext cx="3429000" cy="9464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to mixture of platforms low cost clusters (20-100) to supercomputers with massive memory and thousands of process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858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 Solving Environment Pro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62120" y="6019920"/>
            <a:ext cx="7696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762120" y="990720"/>
            <a:ext cx="0" cy="502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206360" y="6059520"/>
            <a:ext cx="725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042800" y="6400800"/>
            <a:ext cx="132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6200000">
            <a:off x="-300600" y="3299760"/>
            <a:ext cx="151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38080" y="5000760"/>
            <a:ext cx="1447920" cy="9464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olated platform dependent code fragm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219320" y="4191120"/>
            <a:ext cx="2209680" cy="733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otype PSE front end (portal) integrating 10 local and remote 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438280" y="2286000"/>
            <a:ext cx="4267440" cy="9464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7360" indent="-11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tend PSE to Inclu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17360" indent="-11736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 users collaboratory with shared window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17360" indent="-11736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amless access to high-performance computers linking remote processes over Gb data channel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648320" y="1371600"/>
            <a:ext cx="2057400" cy="733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grated visualization service with volumetric rende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914400"/>
            <a:ext cx="2133720" cy="3503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lly functional PSE used to develop models for building blocks for simulation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gram-to-program communication in milliseconds using staging, streaming, and advanced cache repl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grated with SERV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ug and play composing of parallel programs from algorithmic modu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523880" y="3352680"/>
            <a:ext cx="2362320" cy="733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ug and play composing of sequential programs from algorithmic modu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6T18:14:55Z</dcterms:created>
  <dc:creator>Andrea Donnellan</dc:creator>
  <dc:description/>
  <dc:language>en-US</dc:language>
  <cp:lastModifiedBy>Andrea Donnellan</cp:lastModifiedBy>
  <dcterms:modified xsi:type="dcterms:W3CDTF">2002-05-06T18:38:38Z</dcterms:modified>
  <cp:revision>9</cp:revision>
  <dc:subject/>
  <dc:title>3rd International ACES Meeting</dc:title>
</cp:coreProperties>
</file>