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AB2-82A8-478E-A021-71F734E8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462-5903-422E-95EC-CE45578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B65-E10B-4D85-B258-3A541307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0D1-5099-4B46-9D61-CB24B85A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5DB4-6975-47A1-89FD-E53E6EBF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C16C-7EDE-4417-BD80-5899338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8B8F-6B7B-4E84-A28C-A7162CB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5D5-706B-42D4-B2A8-B8B4C974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228C-85BE-458A-8B67-B263F23D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87F-1C17-43AC-AAF9-11DA4974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9F9F-B2FF-446E-A92F-7A126098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F29-D01F-4C45-8A84-03FC1A8B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FCC-50D0-4ED9-A6F0-4009A94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E61-94B2-4525-93B3-B9493A6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0D49-2193-4A57-86A8-B1AE7F4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8F5C-C6C1-4877-80F5-1293A71F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8AD3-F1C0-4B93-9261-A73EAB4A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E42-03A3-4BB2-AC39-19D82AA0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221-6E32-4ED3-9196-8282EC9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9C5-C0A9-4E71-B262-A72C764F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181-0B9E-4CBD-A170-6EF1FF0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209-AC2B-4237-BAB3-932E5A8E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395-0A0E-47BE-8886-B9A29A38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5A6-398C-4E80-9D81-384D996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359-BBD2-472A-B144-8D5161D375FD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883-B644-44AB-A097-1F01FC14CF9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Load-Unload Response Ratio (LURR)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Accelerating Moment/Energy Release (AM/ER)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nd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State V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Xiang-chu YIN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1,2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,  Huai-zhong YU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, Victor Kukshenko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3,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Zhaoyong  XU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,   Zhishen WU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, Meng-fen XIA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1,6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, Min LI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Ke-yin PEN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1,2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 and Surguei Elizarov </a:t>
            </a:r>
            <a:r>
              <a:rPr b="1" lang="zh-CN" sz="2000" spc="-1" strike="noStrike" baseline="30000">
                <a:solidFill>
                  <a:srgbClr val="0099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, LNM (State Key Laboratory of Nonlinear Mechanics), IM, C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, CAP (Center for Analysis and Prediction), CSB (China        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ismological Bureau 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, Ioffe Physical Technique Institute, Russian Academy of Scienc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, Ibaraki University, Japa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, Yunnan Province Seismological Bureau, CS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,  Peking Univers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, Interunis Ltd, Moscow, Russi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00200" y="91440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ing history 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ously load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ing load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209680"/>
          <a:ext cx="66294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629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610000" y="914400"/>
          <a:ext cx="41907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0000" y="914400"/>
                    <a:ext cx="41907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90920" y="3657600"/>
          <a:ext cx="422892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657600"/>
                    <a:ext cx="4228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629080" y="353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xperiment  Resul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3920" y="46623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E  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324160" y="457200"/>
          <a:ext cx="50292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45720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000160" y="3390840"/>
          <a:ext cx="5353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3390840"/>
                    <a:ext cx="5353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28560" y="40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E  Ener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09800" y="21333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RR is defined 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1371600"/>
                <a:ext cx="27111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009800" y="3733920"/>
            <a:ext cx="7086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note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; sign “+” means loading and “–” means unloading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=1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actly the energy itself;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/2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notes the Benioff st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2280" y="762120"/>
            <a:ext cx="1889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LUR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33120" y="761760"/>
            <a:ext cx="737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 the Y-t curve is like that of below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67000" y="1392120"/>
          <a:ext cx="556236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392120"/>
                    <a:ext cx="556236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90680" y="525780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e LURR anomaly prior to the Kobe earthquake and the Tottori earthquak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52480" y="1905120"/>
          <a:ext cx="54864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5486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990720" y="762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LURR from Experiment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1600" y="1523880"/>
            <a:ext cx="9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G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08640" y="2133720"/>
            <a:ext cx="549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2286000"/>
            <a:ext cx="0" cy="175248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276200" y="1317600"/>
          <a:ext cx="64008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317600"/>
                    <a:ext cx="64008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657600" y="8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G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08840" y="1600200"/>
            <a:ext cx="549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600200"/>
            <a:ext cx="0" cy="251460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333440" y="1319040"/>
          <a:ext cx="647712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319040"/>
                    <a:ext cx="647712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038480" y="685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1371600"/>
            <a:ext cx="549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1828800"/>
            <a:ext cx="0" cy="281952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E data confirms that prior to th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ure of rock  sample LURR ris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ificantly and then it falls down 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ve of fracture so that  a hig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of LURR could be a precursor o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ccurrence of macro-fracture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ong earthquake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5760" y="363240"/>
            <a:ext cx="81406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AER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(Accelerating Energy Release 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85800" y="4343400"/>
                <a:ext cx="76960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09480" y="246708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energy or Benioff strain release have the function form as below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MS Mincho"/>
              </a:rPr>
              <a:t>CPH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 (Critical Point Hypothesis) considers earthquake rupture as a critical poi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MS Mincho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E-JONES, 1977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SORNETTE and SORNETTE, 1990; SORNET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SAMMIS 1995; BOWMAN et al, 1998; RUNDLE et al, 1999; JAUME and SYKES,19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)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MS Mincho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MS Mincho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According to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MS Mincho"/>
              </a:rPr>
              <a:t>CPH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 the crust is not in a continuous critical state, but repeatedly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  <a:ea typeface="MS Mincho"/>
              </a:rPr>
              <a:t>approaches to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 and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  <a:ea typeface="MS Mincho"/>
              </a:rPr>
              <a:t>retreats from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 a critical state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MS Mincho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90720" y="1752480"/>
          <a:ext cx="678168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7816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219320" y="7160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neiss 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G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914400" y="1501920"/>
          <a:ext cx="7010280" cy="48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01920"/>
                    <a:ext cx="701028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09880" y="914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 G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8320" y="456840"/>
            <a:ext cx="843444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xperimental results suggest th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ing a period before the macro-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ure the AER really occurred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8380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State vecto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vector is an idea stemming from statistical physics. Here it is used to describe the evolution of damage in rock specimen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88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The whole specimen can be divided into 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 regions. A specified physical parameter concerned the micro-damage (say AE energy or AE rate etc) in region  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 at  time 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t</a:t>
            </a:r>
            <a:r>
              <a:rPr b="1" i="1" lang="en-US" sz="3600" spc="-1" strike="noStrike" baseline="-30000">
                <a:solidFill>
                  <a:srgbClr val="4d4d4d"/>
                </a:solidFill>
                <a:latin typeface="Times New Roman"/>
              </a:rPr>
              <a:t>k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denotes the 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i-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th component of a 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-dimension vector calle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tate vector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1" i="1" lang="en-US" sz="3600" spc="-1" strike="noStrike" baseline="-30000">
                <a:solidFill>
                  <a:srgbClr val="ff0066"/>
                </a:solidFill>
                <a:latin typeface="Times New Roman"/>
              </a:rPr>
              <a:t>k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(t)</a:t>
            </a:r>
            <a:r>
              <a:rPr b="1" i="1" lang="en-US" sz="3600" spc="-1" strike="noStrike">
                <a:solidFill>
                  <a:srgbClr val="4d4d4d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81080" y="838080"/>
            <a:ext cx="4724280" cy="1658880"/>
            <a:chOff x="1981080" y="838080"/>
            <a:chExt cx="4724280" cy="1658880"/>
          </a:xfrm>
        </p:grpSpPr>
        <p:grpSp>
          <p:nvGrpSpPr>
            <p:cNvPr id="181" name=""/>
            <p:cNvGrpSpPr/>
            <p:nvPr/>
          </p:nvGrpSpPr>
          <p:grpSpPr>
            <a:xfrm>
              <a:off x="1981080" y="838080"/>
              <a:ext cx="4724280" cy="1658880"/>
              <a:chOff x="1981080" y="838080"/>
              <a:chExt cx="4724280" cy="165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1998360" y="863280"/>
                <a:ext cx="4706640" cy="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705360" y="863280"/>
                <a:ext cx="0" cy="162576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98360" y="1404720"/>
                <a:ext cx="4706640" cy="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98360" y="1947600"/>
                <a:ext cx="4706640" cy="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33480" y="863280"/>
                <a:ext cx="0" cy="162576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50960" y="863280"/>
                <a:ext cx="0" cy="162576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60600" y="863280"/>
                <a:ext cx="0" cy="162576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70240" y="863280"/>
                <a:ext cx="0" cy="162576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41320" y="838080"/>
                <a:ext cx="0" cy="162540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81080" y="863280"/>
                <a:ext cx="0" cy="16336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81080" y="2496960"/>
                <a:ext cx="47242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211480" y="88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73240" y="88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19160" y="84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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81280" y="1908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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21440" y="20034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3880" y="198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49040" y="958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19360" y="84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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65560"/>
            <a:ext cx="7772400" cy="14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State vector </a:t>
            </a:r>
            <a:r>
              <a:rPr b="1" i="1" lang="en-US" sz="32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n-US" sz="3200" spc="-1" strike="noStrike" baseline="-30000">
                <a:solidFill>
                  <a:srgbClr val="4d4d4d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t time</a:t>
            </a:r>
            <a:r>
              <a:rPr b="1" i="1" lang="en-US" sz="3200" spc="-1" strike="noStrike">
                <a:solidFill>
                  <a:srgbClr val="4d4d4d"/>
                </a:solidFill>
                <a:latin typeface="Times New Roman"/>
              </a:rPr>
              <a:t> t</a:t>
            </a:r>
            <a:r>
              <a:rPr b="1" i="1" lang="en-US" sz="3200" spc="-1" strike="noStrike" baseline="-30000">
                <a:solidFill>
                  <a:srgbClr val="4d4d4d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is a point in the </a:t>
            </a:r>
            <a:r>
              <a:rPr b="1" i="1" lang="en-US" sz="3200" spc="-1" strike="noStrike">
                <a:solidFill>
                  <a:srgbClr val="4d4d4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-dimension phase space.   Different state</a:t>
            </a:r>
            <a:r>
              <a:rPr b="1" lang="en-US" sz="54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0" y="2076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vectors </a:t>
            </a:r>
            <a:r>
              <a:rPr b="1" i="1" lang="en-US" sz="32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n-US" sz="3200" spc="-1" strike="noStrike" baseline="-30000">
                <a:solidFill>
                  <a:srgbClr val="4d4d4d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t different times</a:t>
            </a:r>
            <a:r>
              <a:rPr b="1" i="1" lang="en-US" sz="3200" spc="-1" strike="noStrike">
                <a:solidFill>
                  <a:srgbClr val="4d4d4d"/>
                </a:solidFill>
                <a:latin typeface="Times New Roman"/>
              </a:rPr>
              <a:t> t</a:t>
            </a:r>
            <a:r>
              <a:rPr b="1" i="1" lang="en-US" sz="3200" spc="-1" strike="noStrike" baseline="-25000">
                <a:solidFill>
                  <a:srgbClr val="4d4d4d"/>
                </a:solidFill>
                <a:latin typeface="Times New Roman"/>
              </a:rPr>
              <a:t>k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form a track in the phase space. The track could be a tool to describe the damage evolution  of the specimen.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12720" y="2019240"/>
            <a:ext cx="4806360" cy="4402080"/>
            <a:chOff x="612720" y="2019240"/>
            <a:chExt cx="4806360" cy="4402080"/>
          </a:xfrm>
        </p:grpSpPr>
        <p:sp>
          <p:nvSpPr>
            <p:cNvPr id="204" name=""/>
            <p:cNvSpPr/>
            <p:nvPr/>
          </p:nvSpPr>
          <p:spPr>
            <a:xfrm>
              <a:off x="2056320" y="4666320"/>
              <a:ext cx="320112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056320" y="2185200"/>
              <a:ext cx="0" cy="24811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12720" y="4666320"/>
              <a:ext cx="1443600" cy="135864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2744280" y="2539440"/>
            <a:ext cx="1885320" cy="183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4280" y="2539440"/>
                      <a:ext cx="1885320" cy="183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 flipV="1">
              <a:off x="2056320" y="4134600"/>
              <a:ext cx="2071440" cy="531360"/>
            </a:xfrm>
            <a:prstGeom prst="line">
              <a:avLst/>
            </a:prstGeom>
            <a:ln cap="sq" w="31680">
              <a:solidFill>
                <a:srgbClr val="3366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96440" y="4134600"/>
              <a:ext cx="0" cy="1240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302480" y="5375160"/>
              <a:ext cx="2761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111920" y="4665960"/>
              <a:ext cx="753120" cy="70884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6320" y="4666320"/>
              <a:ext cx="2071440" cy="708840"/>
            </a:xfrm>
            <a:prstGeom prst="line">
              <a:avLst/>
            </a:prstGeom>
            <a:ln w="12600">
              <a:solidFill>
                <a:srgbClr val="ffff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056320" y="3189240"/>
              <a:ext cx="2259720" cy="1476720"/>
            </a:xfrm>
            <a:prstGeom prst="line">
              <a:avLst/>
            </a:prstGeom>
            <a:ln cap="sq" w="31680">
              <a:solidFill>
                <a:srgbClr val="0099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056320" y="2539080"/>
              <a:ext cx="1443600" cy="2126520"/>
            </a:xfrm>
            <a:prstGeom prst="line">
              <a:avLst/>
            </a:prstGeom>
            <a:ln cap="sq" w="31680">
              <a:solidFill>
                <a:srgbClr val="ffff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080600" y="3174120"/>
              <a:ext cx="250920" cy="945000"/>
            </a:xfrm>
            <a:prstGeom prst="line">
              <a:avLst/>
            </a:prstGeom>
            <a:ln cap="sq"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483720" y="2539440"/>
              <a:ext cx="816120" cy="649440"/>
            </a:xfrm>
            <a:prstGeom prst="line">
              <a:avLst/>
            </a:prstGeom>
            <a:ln cap="sq"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2605320" y="4230720"/>
            <a:ext cx="407880" cy="37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05320" y="4230720"/>
                      <a:ext cx="40788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2757600" y="4046040"/>
              <a:ext cx="54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</a:t>
              </a:r>
              <a:r>
                <a:rPr b="1" lang="zh-CN" sz="2400" spc="-1" strike="noStrike" baseline="-25000">
                  <a:solidFill>
                    <a:srgbClr val="ffffcc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4960" y="4345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83720" y="3602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95560" y="3160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77440" y="3452760"/>
              <a:ext cx="76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ff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1360" y="2775960"/>
              <a:ext cx="7506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ff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0800" y="584172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6480" y="46036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ff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960" y="20192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ff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14840" y="4578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0720" y="729360"/>
            <a:ext cx="7799400" cy="209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.g. the angle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Arial"/>
              </a:rPr>
              <a:t>φ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12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Arial"/>
              </a:rPr>
              <a:t>or 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k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Arial"/>
              </a:rPr>
              <a:t> mirror the variation of damage pattern from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1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Arial"/>
              </a:rPr>
              <a:t>to V</a:t>
            </a:r>
            <a:r>
              <a:rPr b="1" lang="en-US" sz="40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Arial"/>
              </a:rPr>
              <a:t>respectively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057400" y="3497400"/>
                <a:ext cx="4876920" cy="16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714640" y="380520"/>
            <a:ext cx="34290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fore the fracture of the specime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φ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as a significant rising which may be a clue to prediction of the macro-fracture or earthquak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2280" y="409680"/>
            <a:ext cx="5867640" cy="6219360"/>
            <a:chOff x="152280" y="409680"/>
            <a:chExt cx="5867640" cy="6219360"/>
          </a:xfrm>
        </p:grpSpPr>
        <p:graphicFrame>
          <p:nvGraphicFramePr>
            <p:cNvPr id="235" name=""/>
            <p:cNvGraphicFramePr/>
            <p:nvPr/>
          </p:nvGraphicFramePr>
          <p:xfrm>
            <a:off x="152280" y="1271160"/>
            <a:ext cx="5867640" cy="535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271160"/>
                      <a:ext cx="5867640" cy="535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2500560" y="40968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lo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952880" y="1219320"/>
            <a:ext cx="54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1295280"/>
            <a:ext cx="0" cy="3048120"/>
          </a:xfrm>
          <a:prstGeom prst="line">
            <a:avLst/>
          </a:prstGeom>
          <a:ln cap="sq" w="255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762280" y="1625760"/>
          <a:ext cx="372888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625760"/>
                    <a:ext cx="372888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922320" y="800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aicheng E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666880" y="3986280"/>
          <a:ext cx="3922920" cy="27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986280"/>
                    <a:ext cx="39229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019320" y="782640"/>
            <a:ext cx="50580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yyyy mm dd twin/a step/d scope cell  lati     long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75  2     4     1        15       8      1   40.70  122.7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00680" y="4368960"/>
            <a:ext cx="54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5480" y="2082960"/>
            <a:ext cx="549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91280" y="1981080"/>
            <a:ext cx="0" cy="129564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4080" y="4368960"/>
            <a:ext cx="54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4267080"/>
            <a:ext cx="0" cy="137160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UR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hence th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ritical point hypothe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re confirmed with our experimental results  and th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ate vect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novel measurement to describe the damage evolution or the seismogenic process for a specified region.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During the establishmen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ritica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the crust must be characterized by both: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MS Mincho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MS Mincho"/>
              </a:rPr>
              <a:t>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MS Mincho"/>
              </a:rPr>
              <a:t>A. strong correlation between its     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MS Mincho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MS Mincho"/>
              </a:rPr>
              <a:t>different  par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MS Mincho"/>
              </a:rPr>
              <a:t>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MS Mincho"/>
              </a:rPr>
              <a:t>B.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MS Mincho"/>
              </a:rPr>
              <a:t>susceptibility to external factors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MS Mincho"/>
              </a:rPr>
              <a:t> 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57400" y="2057400"/>
            <a:ext cx="5029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Thank you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MS Mincho"/>
              </a:rPr>
              <a:t>A. strong correla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MS Mincho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establishment of long-range correlations in the regional stress fiel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KES, and JAUME 1990; RUNDLE et al, 1999; SAMMIS, and SMITH, 1999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MORA and PLACE, 2001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accelerating seismic activity of moderate-sized earthquak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LLSWORTH et al. 1981; KEILIS-BOROK, 1990; SORNETTE and SORNETTE, 1990; SORNETTE and SAMMIS; 1995; KNOPOFF, et al. 1996) and BOWMAN et al., 1998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equivalently the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  <a:ea typeface="黑体"/>
              </a:rPr>
              <a:t>accelerating seismic moment releas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  <a:ea typeface="黑体"/>
              </a:rPr>
              <a:t>(time-to-failure power law)--AMR/A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UFE and VARNES, 1993; BOWMAN et al., 1998: JAUME and SYKES, 1999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ior to large earthquak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600" y="1352520"/>
            <a:ext cx="304560" cy="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876920"/>
            <a:ext cx="304920" cy="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14080" y="571320"/>
            <a:ext cx="830556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cc0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MS Mincho"/>
              </a:rPr>
              <a:t>sensitivity to external facto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Xia et al.,2000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triggering earthquakes significantly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by  tidal stress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(GRASSO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a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SORNETTE, 19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consequently anomalous high value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LURR(Load/Unload response Ratio)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黑体"/>
              </a:rPr>
              <a:t>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YIN and YIN, 1991; YIN et al., 1994; YIN et al., 1995;YIN et al., 2000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" y="1695600"/>
            <a:ext cx="304560" cy="0"/>
          </a:xfrm>
          <a:prstGeom prst="line">
            <a:avLst/>
          </a:prstGeom>
          <a:ln cap="sq"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09880"/>
            <a:ext cx="304560" cy="0"/>
          </a:xfrm>
          <a:prstGeom prst="line">
            <a:avLst/>
          </a:prstGeom>
          <a:ln cap="sq"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610480" cy="64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cc0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MS Mincho"/>
              </a:rPr>
              <a:t>sensitivity to external factor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  <a:ea typeface="MS Mincho"/>
              </a:rPr>
              <a:t>              </a:t>
            </a:r>
            <a:r>
              <a:rPr b="1" lang="zh-CN" sz="1800" spc="-1" strike="noStrike">
                <a:solidFill>
                  <a:srgbClr val="00cc00"/>
                </a:solidFill>
                <a:latin typeface="Arial"/>
                <a:ea typeface="MS Mincho"/>
              </a:rPr>
              <a:t>(Xia et al, 20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triggering earthquakes significantly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by  tidal stress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(GRASSO and SORNETTE, 19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consequently anomalous high value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LURR(Load/Unload response Ratio)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黑体"/>
              </a:rPr>
              <a:t>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YIN and YIN, 1991; YIN et al., 1994; YIN et al., 1995;YIN et al., 2000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981080"/>
            <a:ext cx="4572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648320"/>
            <a:ext cx="4572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MR/A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LURR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been tested with seismological observations by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research group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the present work we will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UR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AMR/AER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th the data of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oustic emission (AE)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uring the rock fracture experiments   si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triking resemblances between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oustic emission (AE)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arthquakes.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ries of experiments with rectangular prisms of gneiss, sandstone and marble have been conduct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eometry of th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ecimens ar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5Χ40 Χ 10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mall  7 Χ7 Χ14 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pecimen is loaded in two directions: the axial stres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σ</a:t>
            </a:r>
            <a:r>
              <a:rPr b="0" lang="en-US" sz="3200" spc="-1" strike="noStrike" baseline="-30000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and lateral stres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σ</a:t>
            </a:r>
            <a:r>
              <a:rPr b="0" lang="en-US" sz="3200" spc="-1" strike="noStrike" baseline="-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3200" spc="-1" strike="noStrike" baseline="-30000">
                <a:solidFill>
                  <a:srgbClr val="0000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30000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other principal stres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σ</a:t>
            </a:r>
            <a:r>
              <a:rPr b="0" lang="en-US" sz="3200" spc="-1" strike="noStrike" baseline="-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zero so tha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16440" y="1981080"/>
            <a:ext cx="2881080" cy="4495680"/>
            <a:chOff x="5716440" y="1981080"/>
            <a:chExt cx="2881080" cy="4495680"/>
          </a:xfrm>
        </p:grpSpPr>
        <p:sp>
          <p:nvSpPr>
            <p:cNvPr id="104" name=""/>
            <p:cNvSpPr/>
            <p:nvPr/>
          </p:nvSpPr>
          <p:spPr>
            <a:xfrm>
              <a:off x="7043040" y="5859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627680" y="2834280"/>
              <a:ext cx="347040" cy="233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141960" y="2834280"/>
              <a:ext cx="345960" cy="233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141600" y="5390280"/>
              <a:ext cx="345960" cy="233640"/>
            </a:xfrm>
            <a:prstGeom prst="line">
              <a:avLst/>
            </a:prstGeom>
            <a:ln w="2556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627680" y="5389920"/>
              <a:ext cx="347040" cy="2336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74720" y="2834280"/>
              <a:ext cx="0" cy="25556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88280" y="5390280"/>
              <a:ext cx="1486440" cy="0"/>
            </a:xfrm>
            <a:prstGeom prst="line">
              <a:avLst/>
            </a:prstGeom>
            <a:ln w="2556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88280" y="2834280"/>
              <a:ext cx="148644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41960" y="3067560"/>
              <a:ext cx="0" cy="25560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1960" y="3067560"/>
              <a:ext cx="148536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7680" y="3067560"/>
              <a:ext cx="0" cy="25560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41960" y="5623920"/>
              <a:ext cx="148536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8280" y="2834280"/>
              <a:ext cx="0" cy="2614680"/>
            </a:xfrm>
            <a:prstGeom prst="line">
              <a:avLst/>
            </a:prstGeom>
            <a:ln w="25560">
              <a:solidFill>
                <a:srgbClr val="ffffc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9200" y="1981080"/>
              <a:ext cx="0" cy="967320"/>
            </a:xfrm>
            <a:prstGeom prst="line">
              <a:avLst/>
            </a:prstGeom>
            <a:ln w="31680">
              <a:solidFill>
                <a:srgbClr val="ffff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7800" y="5509440"/>
              <a:ext cx="0" cy="967320"/>
            </a:xfrm>
            <a:prstGeom prst="line">
              <a:avLst/>
            </a:prstGeom>
            <a:ln w="31680">
              <a:solidFill>
                <a:srgbClr val="ffffcc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56040" y="4314960"/>
              <a:ext cx="530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29640" y="4314960"/>
              <a:ext cx="530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4520" y="2227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6440" y="3972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8400" y="3972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85800" y="3546360"/>
            <a:ext cx="50292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tress state is really 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ri-axial stress sta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Under such stress state most of the specimens are failure 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hear frac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way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635200"/>
            <a:ext cx="33526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σ</a:t>
            </a:r>
            <a:r>
              <a:rPr b="0" lang="en-US" sz="3600" spc="-1" strike="noStrike" baseline="-30000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≠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σ</a:t>
            </a:r>
            <a:r>
              <a:rPr b="0" lang="en-US" sz="3600" spc="-1" strike="noStrike" baseline="-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≠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σ</a:t>
            </a:r>
            <a:r>
              <a:rPr b="0" lang="en-US" sz="3600" spc="-1" strike="noStrike" baseline="-30000">
                <a:solidFill>
                  <a:srgbClr val="ff0066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7:18:10Z</dcterms:created>
  <dc:creator>xcyin</dc:creator>
  <dc:description/>
  <dc:language>en-US</dc:language>
  <cp:lastModifiedBy>xcyin</cp:lastModifiedBy>
  <dcterms:modified xsi:type="dcterms:W3CDTF">2002-05-28T07:41:46Z</dcterms:modified>
  <cp:revision>151</cp:revision>
  <dc:subject/>
  <dc:title>PowerPoint 演示文稿</dc:title>
</cp:coreProperties>
</file>